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14.jpeg" ContentType="image/jpeg"/>
  <Override PartName="/ppt/media/image8.png" ContentType="image/png"/>
  <Override PartName="/ppt/media/image11.jpeg" ContentType="image/jpeg"/>
  <Override PartName="/ppt/media/image7.png" ContentType="image/png"/>
  <Override PartName="/ppt/media/image12.png" ContentType="image/png"/>
  <Override PartName="/ppt/media/image9.png" ContentType="image/png"/>
  <Override PartName="/ppt/media/image10.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87D3F-1FEA-4339-9E15-A9EF7A76F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D6824-CA65-413D-9A52-2E98D14A0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22E2F-B5DC-4F6C-B4AD-36C12F7A5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B3050-9A43-4C05-A6C7-A494D5EA8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8FD01-1308-4A05-BE96-FD935171F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3AD4A-1994-462B-BDD1-688BB49D1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20B7F-D028-4AB5-8A54-2F4BE730A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8530F-1A4B-4486-BB0A-6C0E9D235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96118-5F1E-4606-BE7B-EC3322F7F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5D14C-AC9E-4872-AD2A-2447438C5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898BF-16BE-4856-810A-F66359368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AE293-DDDD-4C23-AF96-41A3E743C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5372-65A3-4D46-91E7-7C48204973C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poets.org/" TargetMode="External"/><Relationship Id="rId2" Type="http://schemas.openxmlformats.org/officeDocument/2006/relationships/hyperlink" Target="http://www.galegroup.com/"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74680"/>
            <a:ext cx="7772400" cy="277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00000"/>
                </a:solidFill>
                <a:latin typeface="Calibri"/>
              </a:rPr>
              <a:t>VICTORIAN PERIOD</a:t>
            </a:r>
            <a:br>
              <a:rPr sz="6600"/>
            </a:br>
            <a:r>
              <a:rPr b="1" lang="en-US" sz="6600" spc="-1" strike="noStrike">
                <a:solidFill>
                  <a:srgbClr val="c00000"/>
                </a:solidFill>
                <a:latin typeface="Calibri"/>
              </a:rPr>
              <a:t>POETS</a:t>
            </a:r>
            <a:br>
              <a:rPr sz="6600"/>
            </a:br>
            <a:r>
              <a:rPr b="1" lang="en-US" sz="3600" spc="-1" strike="noStrike">
                <a:solidFill>
                  <a:srgbClr val="c00000"/>
                </a:solidFill>
                <a:latin typeface="Calibri"/>
              </a:rPr>
              <a:t>1837-1901</a:t>
            </a:r>
            <a:endParaRPr b="0" lang="en-US" sz="3600" spc="-1" strike="noStrike">
              <a:solidFill>
                <a:srgbClr val="000000"/>
              </a:solidFill>
              <a:latin typeface="Calibri"/>
            </a:endParaRPr>
          </a:p>
        </p:txBody>
      </p:sp>
      <p:sp>
        <p:nvSpPr>
          <p:cNvPr id="42" name=""/>
          <p:cNvSpPr txBox="1"/>
          <p:nvPr/>
        </p:nvSpPr>
        <p:spPr>
          <a:xfrm>
            <a:off x="914400" y="3200400"/>
            <a:ext cx="7772400" cy="2819520"/>
          </a:xfrm>
          <a:prstGeom prst="rect">
            <a:avLst/>
          </a:prstGeom>
          <a:noFill/>
          <a:ln w="0">
            <a:noFill/>
          </a:ln>
        </p:spPr>
        <p:txBody>
          <a:bodyPr anchor="t">
            <a:normAutofit fontScale="92000"/>
          </a:bodyPr>
          <a:p>
            <a:pPr marL="315360" indent="-31536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15360" indent="-31536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istory of English Literature</a:t>
            </a:r>
            <a:endParaRPr b="0" lang="en-US" sz="4000" spc="-1" strike="noStrike">
              <a:solidFill>
                <a:srgbClr val="000000"/>
              </a:solidFill>
              <a:latin typeface="Calibri"/>
            </a:endParaRPr>
          </a:p>
          <a:p>
            <a:pPr marL="315360" indent="-315360" algn="ct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alibri"/>
              </a:rPr>
              <a:t>The Islamia University Bahawalpur</a:t>
            </a:r>
            <a:endParaRPr b="0" lang="en-US" sz="4000" spc="-1" strike="noStrike">
              <a:solidFill>
                <a:srgbClr val="000000"/>
              </a:solidFill>
              <a:latin typeface="Calibri"/>
            </a:endParaRPr>
          </a:p>
          <a:p>
            <a:pPr marL="315360" indent="-315360" algn="ct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Calibri"/>
              </a:rPr>
              <a:t>Bwn Campus</a:t>
            </a:r>
            <a:endParaRPr b="0" lang="en-US" sz="4000" spc="-1" strike="noStrike">
              <a:solidFill>
                <a:srgbClr val="000000"/>
              </a:solidFill>
              <a:latin typeface="Calibri"/>
            </a:endParaRPr>
          </a:p>
          <a:p>
            <a:pPr marL="315360" indent="-31536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ylls of the King</a:t>
            </a: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scale epic poem that occupied the second half of his care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s the Arthurian legend to construct a vision of the rise and fall of civiliz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nnyson’s most extensive social vision.</a:t>
            </a:r>
            <a:endParaRPr b="0" lang="en-US" sz="2800" spc="-1" strike="noStrike">
              <a:solidFill>
                <a:srgbClr val="000000"/>
              </a:solidFill>
              <a:latin typeface="Calibri"/>
            </a:endParaRPr>
          </a:p>
        </p:txBody>
      </p:sp>
      <p:pic>
        <p:nvPicPr>
          <p:cNvPr id="70" name="Picture 4" descr="untitled"/>
          <p:cNvPicPr/>
          <p:nvPr/>
        </p:nvPicPr>
        <p:blipFill>
          <a:blip r:embed="rId1"/>
          <a:stretch/>
        </p:blipFill>
        <p:spPr>
          <a:xfrm>
            <a:off x="5338800" y="2195640"/>
            <a:ext cx="2657520" cy="3333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mes in Tennyson’s Poetry</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ivided self</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nks external scenery to interior states of min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istorical pas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ythological pas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nnyson’s personal pas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ological time and evolutionary histor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and political concer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nnyson’s Reputation</a:t>
            </a:r>
            <a:br>
              <a:rPr sz="3600"/>
            </a:br>
            <a:endParaRPr b="0" lang="en-US" sz="36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nnyson was the most popular poet in England in his own d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was the target of mockery by his immediate successors, the Edwardians and Georgia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day, many critics consider Tennyson to be the greatest poet of the Victorian 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Robert Browning 1812-1889</a:t>
            </a:r>
            <a:endParaRPr b="0" lang="en-US" sz="4400" spc="-1" strike="noStrike">
              <a:solidFill>
                <a:srgbClr val="000000"/>
              </a:solidFill>
              <a:latin typeface="Calibri"/>
            </a:endParaRPr>
          </a:p>
        </p:txBody>
      </p:sp>
      <p:sp>
        <p:nvSpPr>
          <p:cNvPr id="76" name="PlaceHolder 2"/>
          <p:cNvSpPr>
            <a:spLocks noGrp="1"/>
          </p:cNvSpPr>
          <p:nvPr>
            <p:ph/>
          </p:nvPr>
        </p:nvSpPr>
        <p:spPr>
          <a:xfrm>
            <a:off x="990360" y="1752120"/>
            <a:ext cx="3733560" cy="4876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He was born on May 7, 1812 in Camberwell, England</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Browning had a sister named Sarianna Browning</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His mother, Sarah Anne Wiedemann  was an accomplished pianist and a devout Christian</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His father, Robert Browning was a bank clerk, and also an artist, scholar, antiquarian, and collector of books and pictures</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Browning got much of his education from his father</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He learned Latin, Greek, and French by the time he was fourteen</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From age fourteen to sixteen he was educated at home</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When he was ten he started at the Peckam school where he stayed for four years</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t age twelve he wrote a volume of Byronic verse entitled Incondita. His parents tried to have it published but were unsuccessful  (www.poets.org)</a:t>
            </a:r>
            <a:endParaRPr b="0" lang="en-US" sz="1400" spc="-1" strike="noStrike">
              <a:solidFill>
                <a:srgbClr val="000000"/>
              </a:solidFill>
              <a:latin typeface="Calibri"/>
            </a:endParaRPr>
          </a:p>
        </p:txBody>
      </p:sp>
      <p:pic>
        <p:nvPicPr>
          <p:cNvPr id="77" name="Picture 6" descr="rbrownin"/>
          <p:cNvPicPr/>
          <p:nvPr/>
        </p:nvPicPr>
        <p:blipFill>
          <a:blip r:embed="rId1"/>
          <a:stretch/>
        </p:blipFill>
        <p:spPr>
          <a:xfrm>
            <a:off x="5181480" y="1828800"/>
            <a:ext cx="3314880" cy="4419720"/>
          </a:xfrm>
          <a:prstGeom prst="rect">
            <a:avLst/>
          </a:prstGeom>
          <a:ln w="8892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228600" y="228600"/>
            <a:ext cx="4648320" cy="64771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otlight MT Light"/>
              </a:rPr>
              <a:t>In 1828 Browning enrolled at the University of London, but soon after he left because he wanted to read and learn at his own pac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otlight MT Light"/>
              </a:rPr>
              <a:t>In 1833 he anonymously published his first major work, </a:t>
            </a:r>
            <a:r>
              <a:rPr b="0" i="1" lang="en-US" sz="1500" spc="-1" strike="noStrike">
                <a:solidFill>
                  <a:srgbClr val="000000"/>
                </a:solidFill>
                <a:latin typeface="Footlight MT Light"/>
              </a:rPr>
              <a:t>Pauline: A Fragment of a Confession</a:t>
            </a:r>
            <a:r>
              <a:rPr b="0" lang="en-US" sz="1500" spc="-1" strike="noStrike">
                <a:solidFill>
                  <a:srgbClr val="000000"/>
                </a:solidFill>
                <a:latin typeface="Footlight MT Light"/>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otlight MT Light"/>
              </a:rPr>
              <a:t>In 1840 he published </a:t>
            </a:r>
            <a:r>
              <a:rPr b="0" i="1" lang="en-US" sz="1500" spc="-1" strike="noStrike">
                <a:solidFill>
                  <a:srgbClr val="000000"/>
                </a:solidFill>
                <a:latin typeface="Footlight MT Light"/>
              </a:rPr>
              <a:t>Sordello</a:t>
            </a:r>
            <a:r>
              <a:rPr b="0" lang="en-US" sz="1500" spc="-1" strike="noStrike">
                <a:solidFill>
                  <a:srgbClr val="000000"/>
                </a:solidFill>
                <a:latin typeface="Footlight MT Light"/>
              </a:rPr>
              <a:t>, which was a failur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otlight MT Light"/>
              </a:rPr>
              <a:t>Browning also tried writing drama, but his plays, </a:t>
            </a:r>
            <a:r>
              <a:rPr b="0" i="1" lang="en-US" sz="1500" spc="-1" strike="noStrike">
                <a:solidFill>
                  <a:srgbClr val="000000"/>
                </a:solidFill>
                <a:latin typeface="Footlight MT Light"/>
              </a:rPr>
              <a:t>Strafford</a:t>
            </a:r>
            <a:r>
              <a:rPr b="0" lang="en-US" sz="1500" spc="-1" strike="noStrike">
                <a:solidFill>
                  <a:srgbClr val="000000"/>
                </a:solidFill>
                <a:latin typeface="Footlight MT Light"/>
              </a:rPr>
              <a:t>, and the </a:t>
            </a:r>
            <a:r>
              <a:rPr b="0" i="1" lang="en-US" sz="1500" spc="-1" strike="noStrike">
                <a:solidFill>
                  <a:srgbClr val="000000"/>
                </a:solidFill>
                <a:latin typeface="Footlight MT Light"/>
              </a:rPr>
              <a:t>Bells and Pomegranates</a:t>
            </a:r>
            <a:r>
              <a:rPr b="0" lang="en-US" sz="1500" spc="-1" strike="noStrike">
                <a:solidFill>
                  <a:srgbClr val="000000"/>
                </a:solidFill>
                <a:latin typeface="Footlight MT Light"/>
              </a:rPr>
              <a:t> series were unsuccessful</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otlight MT Light"/>
              </a:rPr>
              <a:t>However his use of diction, rhythm, and symbol are regarded as his most important contribution to poetry, influencing major poets of the twentieth century such as Ezra Pound, T.S. Eliot, and Robert Frost</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otlight MT Light"/>
              </a:rPr>
              <a:t>Browning corresponded with Elizabeth Barrett in 1844 for a few months after reading her </a:t>
            </a:r>
            <a:r>
              <a:rPr b="0" i="1" lang="en-US" sz="1500" spc="-1" strike="noStrike">
                <a:solidFill>
                  <a:srgbClr val="000000"/>
                </a:solidFill>
                <a:latin typeface="Footlight MT Light"/>
              </a:rPr>
              <a:t>Poems</a:t>
            </a:r>
            <a:r>
              <a:rPr b="0" lang="en-US" sz="1500" spc="-1" strike="noStrike">
                <a:solidFill>
                  <a:srgbClr val="000000"/>
                </a:solidFill>
                <a:latin typeface="Footlight MT Light"/>
              </a:rPr>
              <a:t>, and finally met her in 1845</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otlight MT Light"/>
              </a:rPr>
              <a:t>They got married in 1846 and moved to Pisa and then to Florence where they continued to writ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otlight MT Light"/>
              </a:rPr>
              <a:t>In 1849 they had a son, Robert “Pen” Wiedemann Barrett Browning</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otlight MT Light"/>
              </a:rPr>
              <a:t>This was the same year Browning’s </a:t>
            </a:r>
            <a:r>
              <a:rPr b="0" i="1" lang="en-US" sz="1500" spc="-1" strike="noStrike">
                <a:solidFill>
                  <a:srgbClr val="000000"/>
                </a:solidFill>
                <a:latin typeface="Footlight MT Light"/>
              </a:rPr>
              <a:t>Collected Poems</a:t>
            </a:r>
            <a:r>
              <a:rPr b="0" lang="en-US" sz="1500" spc="-1" strike="noStrike">
                <a:solidFill>
                  <a:srgbClr val="000000"/>
                </a:solidFill>
                <a:latin typeface="Footlight MT Light"/>
              </a:rPr>
              <a:t> was published</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otlight MT Light"/>
              </a:rPr>
              <a:t>Elizabeth inspired Robert’s collection of poems</a:t>
            </a:r>
            <a:r>
              <a:rPr b="0" i="1" lang="en-US" sz="1500" spc="-1" strike="noStrike">
                <a:solidFill>
                  <a:srgbClr val="000000"/>
                </a:solidFill>
                <a:latin typeface="Footlight MT Light"/>
              </a:rPr>
              <a:t> Men and Women </a:t>
            </a:r>
            <a:r>
              <a:rPr b="0" lang="en-US" sz="1500" spc="-1" strike="noStrike">
                <a:solidFill>
                  <a:srgbClr val="000000"/>
                </a:solidFill>
                <a:latin typeface="Footlight MT Light"/>
              </a:rPr>
              <a:t>in 1855, which is now one of his best works but at the time was not noticed much</a:t>
            </a:r>
            <a:endParaRPr b="0" lang="en-US" sz="1500" spc="-1" strike="noStrike">
              <a:solidFill>
                <a:srgbClr val="000000"/>
              </a:solidFill>
              <a:latin typeface="Calibri"/>
            </a:endParaRPr>
          </a:p>
        </p:txBody>
      </p:sp>
      <p:pic>
        <p:nvPicPr>
          <p:cNvPr id="79" name="Picture 6" descr="Image of Robert Browning"/>
          <p:cNvPicPr/>
          <p:nvPr/>
        </p:nvPicPr>
        <p:blipFill>
          <a:blip r:embed="rId1"/>
          <a:stretch/>
        </p:blipFill>
        <p:spPr>
          <a:xfrm>
            <a:off x="5181480" y="304920"/>
            <a:ext cx="3613320" cy="4190760"/>
          </a:xfrm>
          <a:prstGeom prst="rect">
            <a:avLst/>
          </a:prstGeom>
          <a:ln w="0">
            <a:noFill/>
          </a:ln>
        </p:spPr>
      </p:pic>
      <p:sp>
        <p:nvSpPr>
          <p:cNvPr id="80" name="Text Box 7"/>
          <p:cNvSpPr/>
          <p:nvPr/>
        </p:nvSpPr>
        <p:spPr>
          <a:xfrm>
            <a:off x="5257800" y="6172200"/>
            <a:ext cx="365760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8"/>
          <p:cNvSpPr/>
          <p:nvPr/>
        </p:nvSpPr>
        <p:spPr>
          <a:xfrm>
            <a:off x="5181480" y="4724280"/>
            <a:ext cx="365760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a:t>
            </a:r>
            <a:r>
              <a:rPr b="0" lang="en-US" sz="1600" spc="-1" strike="noStrike">
                <a:solidFill>
                  <a:srgbClr val="000000"/>
                </a:solidFill>
                <a:latin typeface="Bookman Old Style"/>
              </a:rPr>
              <a:t>www.poets.org)</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rPr>
              <a:t>(http://eir.library.utoronto.ca/rpo/display/poet37.html</a:t>
            </a:r>
            <a:r>
              <a:rPr b="0" lang="en-US" sz="1600" spc="-1" strike="noStrike">
                <a:solidFill>
                  <a:srgbClr val="000000"/>
                </a:solidFill>
                <a:latin typeface="Footlight MT Light"/>
              </a:rPr>
              <a: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http://www.galegroup.com/free_resources/poets/bio/browning_r.ht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228240" y="380520"/>
            <a:ext cx="4267080" cy="617220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Elizabeth Barrett Browning died in 1861 and Robert Browning and his son moved back to London</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In 1863 Browning published </a:t>
            </a:r>
            <a:r>
              <a:rPr b="0" i="1" lang="en-US" sz="1600" spc="-1" strike="noStrike">
                <a:solidFill>
                  <a:srgbClr val="000000"/>
                </a:solidFill>
                <a:latin typeface="Footlight MT Light"/>
              </a:rPr>
              <a:t>Dramatis Personae</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In 1868 </a:t>
            </a:r>
            <a:r>
              <a:rPr b="0" i="1" lang="en-US" sz="1600" spc="-1" strike="noStrike">
                <a:solidFill>
                  <a:srgbClr val="000000"/>
                </a:solidFill>
                <a:latin typeface="Footlight MT Light"/>
              </a:rPr>
              <a:t>The Ring and the Book </a:t>
            </a:r>
            <a:r>
              <a:rPr b="0" lang="en-US" sz="1600" spc="-1" strike="noStrike">
                <a:solidFill>
                  <a:srgbClr val="000000"/>
                </a:solidFill>
                <a:latin typeface="Footlight MT Light"/>
              </a:rPr>
              <a:t> firmly established Browning’s reputation, and from then on he was considered one of England’s greatest living poet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In 1879-80 he published Dramatic Idyls and other works that brought him worldwide fame</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In 1881 the Browning Society was established in London to study his poem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He was awarded with Hon. M.A. of Oxford: June 1868, Hon. fellow of Balliol College: October 1868, Hon. LL.D. of the University of Edinburgh: 1884, Hon. president of 5 Assoc. Societies of Edinburgh: 1885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Robert Browning died on December 12,1889 during a stay in Venice and, he was buried in Poet’s Corner of Westminster Abbey   (</a:t>
            </a:r>
            <a:r>
              <a:rPr b="0" lang="en-US" sz="1600" spc="-1" strike="noStrike" u="sng">
                <a:solidFill>
                  <a:srgbClr val="0000ff"/>
                </a:solidFill>
                <a:uFillTx/>
                <a:latin typeface="Footlight MT Light"/>
                <a:hlinkClick r:id="rId1"/>
              </a:rPr>
              <a:t>www.poets.org</a:t>
            </a:r>
            <a:r>
              <a:rPr b="0" lang="en-US" sz="1600" spc="-1" strike="noStrike">
                <a:solidFill>
                  <a:srgbClr val="000000"/>
                </a:solidFill>
                <a:latin typeface="Footlight MT Light"/>
              </a:rPr>
              <a:t>) (</a:t>
            </a:r>
            <a:r>
              <a:rPr b="0" lang="en-US" sz="1600" spc="-1" strike="noStrike" u="sng">
                <a:solidFill>
                  <a:srgbClr val="0000ff"/>
                </a:solidFill>
                <a:uFillTx/>
                <a:latin typeface="Footlight MT Light"/>
                <a:hlinkClick r:id="rId2"/>
              </a:rPr>
              <a:t>www.galegroup.com</a:t>
            </a:r>
            <a:r>
              <a:rPr b="0" lang="en-US" sz="1600" spc="-1" strike="noStrike">
                <a:solidFill>
                  <a:srgbClr val="000000"/>
                </a:solidFill>
                <a:latin typeface="Footlight MT Light"/>
              </a:rPr>
              <a:t>) ( </a:t>
            </a:r>
            <a:endParaRPr b="0" lang="en-US" sz="1600" spc="-1" strike="noStrike">
              <a:solidFill>
                <a:srgbClr val="000000"/>
              </a:solidFill>
              <a:latin typeface="Calibri"/>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83" name=""/>
          <p:cNvGraphicFramePr/>
          <p:nvPr/>
        </p:nvGraphicFramePr>
        <p:xfrm>
          <a:off x="0" y="2881440"/>
          <a:ext cx="9144000" cy="1096920"/>
        </p:xfrm>
        <a:graphic>
          <a:graphicData uri="http://schemas.openxmlformats.org/drawingml/2006/table">
            <a:tbl>
              <a:tblPr/>
              <a:tblGrid>
                <a:gridCol w="9144000"/>
              </a:tblGrid>
              <a:tr h="1099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66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84" name="Picture 8" descr="Author Picture"/>
          <p:cNvPicPr/>
          <p:nvPr/>
        </p:nvPicPr>
        <p:blipFill>
          <a:blip r:embed="rId3"/>
          <a:stretch/>
        </p:blipFill>
        <p:spPr>
          <a:xfrm>
            <a:off x="4800600" y="609480"/>
            <a:ext cx="3782880" cy="5334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5410080" y="1904760"/>
            <a:ext cx="3353040" cy="2514600"/>
          </a:xfrm>
          <a:prstGeom prst="rect">
            <a:avLst/>
          </a:prstGeom>
          <a:noFill/>
          <a:ln w="0">
            <a:noFill/>
          </a:ln>
        </p:spPr>
        <p:txBody>
          <a:bodyPr anchor="t">
            <a:normAutofit fontScale="94000"/>
          </a:bodyPr>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This is the first stanza of </a:t>
            </a:r>
            <a:r>
              <a:rPr b="0" i="1" lang="en-US" sz="1600" spc="-1" strike="noStrike">
                <a:solidFill>
                  <a:srgbClr val="000000"/>
                </a:solidFill>
                <a:latin typeface="Footlight MT Light"/>
              </a:rPr>
              <a:t>The Pied Piper of Hamelin</a:t>
            </a:r>
            <a:endParaRPr b="0" lang="en-US" sz="1600" spc="-1" strike="noStrike">
              <a:solidFill>
                <a:srgbClr val="000000"/>
              </a:solidFill>
              <a:latin typeface="Calibri"/>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Hamelin Town's in Brunswick, </a:t>
            </a:r>
            <a:endParaRPr b="0" lang="en-US" sz="1600" spc="-1" strike="noStrike">
              <a:solidFill>
                <a:srgbClr val="000000"/>
              </a:solidFill>
              <a:latin typeface="Calibri"/>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By famous Hanover city; </a:t>
            </a:r>
            <a:endParaRPr b="0" lang="en-US" sz="1600" spc="-1" strike="noStrike">
              <a:solidFill>
                <a:srgbClr val="000000"/>
              </a:solidFill>
              <a:latin typeface="Calibri"/>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The river Weser, deep and wide, </a:t>
            </a:r>
            <a:endParaRPr b="0" lang="en-US" sz="1600" spc="-1" strike="noStrike">
              <a:solidFill>
                <a:srgbClr val="000000"/>
              </a:solidFill>
              <a:latin typeface="Calibri"/>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Washes its wall on the southern side; </a:t>
            </a:r>
            <a:endParaRPr b="0" lang="en-US" sz="1600" spc="-1" strike="noStrike">
              <a:solidFill>
                <a:srgbClr val="000000"/>
              </a:solidFill>
              <a:latin typeface="Calibri"/>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A pleasanter spot you never spied; </a:t>
            </a:r>
            <a:endParaRPr b="0" lang="en-US" sz="1600" spc="-1" strike="noStrike">
              <a:solidFill>
                <a:srgbClr val="000000"/>
              </a:solidFill>
              <a:latin typeface="Calibri"/>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But, when begins my ditty, </a:t>
            </a:r>
            <a:endParaRPr b="0" lang="en-US" sz="1600" spc="-1" strike="noStrike">
              <a:solidFill>
                <a:srgbClr val="000000"/>
              </a:solidFill>
              <a:latin typeface="Calibri"/>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Almost five hundred years ago, </a:t>
            </a:r>
            <a:endParaRPr b="0" lang="en-US" sz="1600" spc="-1" strike="noStrike">
              <a:solidFill>
                <a:srgbClr val="000000"/>
              </a:solidFill>
              <a:latin typeface="Calibri"/>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To see the townsfolk suffer so </a:t>
            </a:r>
            <a:endParaRPr b="0" lang="en-US" sz="1600" spc="-1" strike="noStrike">
              <a:solidFill>
                <a:srgbClr val="000000"/>
              </a:solidFill>
              <a:latin typeface="Calibri"/>
            </a:endParaRPr>
          </a:p>
        </p:txBody>
      </p:sp>
      <p:pic>
        <p:nvPicPr>
          <p:cNvPr id="86" name="Picture 8" descr="cover"/>
          <p:cNvPicPr/>
          <p:nvPr/>
        </p:nvPicPr>
        <p:blipFill>
          <a:blip r:embed="rId1"/>
          <a:stretch/>
        </p:blipFill>
        <p:spPr>
          <a:xfrm>
            <a:off x="152280" y="457200"/>
            <a:ext cx="4853160" cy="5791320"/>
          </a:xfrm>
          <a:prstGeom prst="rect">
            <a:avLst/>
          </a:prstGeom>
          <a:ln w="0">
            <a:noFill/>
          </a:ln>
        </p:spPr>
      </p:pic>
      <p:sp>
        <p:nvSpPr>
          <p:cNvPr id="87" name="Text Box 18"/>
          <p:cNvSpPr/>
          <p:nvPr/>
        </p:nvSpPr>
        <p:spPr>
          <a:xfrm>
            <a:off x="5334120" y="5410080"/>
            <a:ext cx="243828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9"/>
          <p:cNvSpPr/>
          <p:nvPr/>
        </p:nvSpPr>
        <p:spPr>
          <a:xfrm>
            <a:off x="5410080" y="5715000"/>
            <a:ext cx="343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http://eir.library.utoronto.ca/rpo/display/poem2750.htm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609480" y="380880"/>
            <a:ext cx="2514600" cy="62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Footlight MT Light"/>
              </a:rPr>
              <a:t>A Woman's Last Wor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Footlight MT Light"/>
              </a:rPr>
              <a:t>I.</a:t>
            </a:r>
            <a:br>
              <a:rPr sz="1400"/>
            </a:br>
            <a:r>
              <a:rPr b="0" lang="en-US" sz="1400" spc="-1" strike="noStrike">
                <a:solidFill>
                  <a:srgbClr val="000000"/>
                </a:solidFill>
                <a:latin typeface="Footlight MT Light"/>
              </a:rPr>
              <a:t>Let's contend no more, Love,</a:t>
            </a:r>
            <a:br>
              <a:rPr sz="1400"/>
            </a:br>
            <a:r>
              <a:rPr b="0" lang="en-US" sz="1400" spc="-1" strike="noStrike">
                <a:solidFill>
                  <a:srgbClr val="000000"/>
                </a:solidFill>
                <a:latin typeface="Footlight MT Light"/>
              </a:rPr>
              <a:t>Strive nor weep:</a:t>
            </a:r>
            <a:br>
              <a:rPr sz="1400"/>
            </a:br>
            <a:r>
              <a:rPr b="0" lang="en-US" sz="1400" spc="-1" strike="noStrike">
                <a:solidFill>
                  <a:srgbClr val="000000"/>
                </a:solidFill>
                <a:latin typeface="Footlight MT Light"/>
              </a:rPr>
              <a:t>All be as before, Love,</a:t>
            </a:r>
            <a:br>
              <a:rPr sz="1400"/>
            </a:br>
            <a:r>
              <a:rPr b="0" lang="en-US" sz="1400" spc="-1" strike="noStrike">
                <a:solidFill>
                  <a:srgbClr val="000000"/>
                </a:solidFill>
                <a:latin typeface="Footlight MT Light"/>
              </a:rPr>
              <a:t>---Only sleep!</a:t>
            </a:r>
            <a:br>
              <a:rPr sz="1400"/>
            </a:br>
            <a:br>
              <a:rPr sz="1400"/>
            </a:br>
            <a:r>
              <a:rPr b="0" lang="en-US" sz="1400" spc="-1" strike="noStrike">
                <a:solidFill>
                  <a:srgbClr val="000000"/>
                </a:solidFill>
                <a:latin typeface="Footlight MT Light"/>
              </a:rPr>
              <a:t>II.</a:t>
            </a:r>
            <a:br>
              <a:rPr sz="1400"/>
            </a:br>
            <a:r>
              <a:rPr b="0" lang="en-US" sz="1400" spc="-1" strike="noStrike">
                <a:solidFill>
                  <a:srgbClr val="000000"/>
                </a:solidFill>
                <a:latin typeface="Footlight MT Light"/>
              </a:rPr>
              <a:t>What so wild as words are?</a:t>
            </a:r>
            <a:br>
              <a:rPr sz="1400"/>
            </a:br>
            <a:r>
              <a:rPr b="0" lang="en-US" sz="1400" spc="-1" strike="noStrike">
                <a:solidFill>
                  <a:srgbClr val="000000"/>
                </a:solidFill>
                <a:latin typeface="Footlight MT Light"/>
              </a:rPr>
              <a:t>I and thou</a:t>
            </a:r>
            <a:br>
              <a:rPr sz="1400"/>
            </a:br>
            <a:r>
              <a:rPr b="0" lang="en-US" sz="1400" spc="-1" strike="noStrike">
                <a:solidFill>
                  <a:srgbClr val="000000"/>
                </a:solidFill>
                <a:latin typeface="Footlight MT Light"/>
              </a:rPr>
              <a:t>In debate, as birds are,</a:t>
            </a:r>
            <a:br>
              <a:rPr sz="1400"/>
            </a:br>
            <a:r>
              <a:rPr b="0" lang="en-US" sz="1400" spc="-1" strike="noStrike">
                <a:solidFill>
                  <a:srgbClr val="000000"/>
                </a:solidFill>
                <a:latin typeface="Footlight MT Light"/>
              </a:rPr>
              <a:t>Hawk on bough!</a:t>
            </a:r>
            <a:br>
              <a:rPr sz="1400"/>
            </a:br>
            <a:br>
              <a:rPr sz="1400"/>
            </a:br>
            <a:r>
              <a:rPr b="0" lang="en-US" sz="1400" spc="-1" strike="noStrike">
                <a:solidFill>
                  <a:srgbClr val="000000"/>
                </a:solidFill>
                <a:latin typeface="Footlight MT Light"/>
              </a:rPr>
              <a:t>III.</a:t>
            </a:r>
            <a:br>
              <a:rPr sz="1400"/>
            </a:br>
            <a:r>
              <a:rPr b="0" lang="en-US" sz="1400" spc="-1" strike="noStrike">
                <a:solidFill>
                  <a:srgbClr val="000000"/>
                </a:solidFill>
                <a:latin typeface="Footlight MT Light"/>
              </a:rPr>
              <a:t>See the creature stalking</a:t>
            </a:r>
            <a:br>
              <a:rPr sz="1400"/>
            </a:br>
            <a:r>
              <a:rPr b="0" lang="en-US" sz="1400" spc="-1" strike="noStrike">
                <a:solidFill>
                  <a:srgbClr val="000000"/>
                </a:solidFill>
                <a:latin typeface="Footlight MT Light"/>
              </a:rPr>
              <a:t>While we speak!</a:t>
            </a:r>
            <a:br>
              <a:rPr sz="1400"/>
            </a:br>
            <a:r>
              <a:rPr b="0" lang="en-US" sz="1400" spc="-1" strike="noStrike">
                <a:solidFill>
                  <a:srgbClr val="000000"/>
                </a:solidFill>
                <a:latin typeface="Footlight MT Light"/>
              </a:rPr>
              <a:t>Hush and hide the talking,</a:t>
            </a:r>
            <a:br>
              <a:rPr sz="1400"/>
            </a:br>
            <a:r>
              <a:rPr b="0" lang="en-US" sz="1400" spc="-1" strike="noStrike">
                <a:solidFill>
                  <a:srgbClr val="000000"/>
                </a:solidFill>
                <a:latin typeface="Footlight MT Light"/>
              </a:rPr>
              <a:t>Cheek on cheek!</a:t>
            </a:r>
            <a:br>
              <a:rPr sz="1400"/>
            </a:br>
            <a:br>
              <a:rPr sz="1400"/>
            </a:br>
            <a:r>
              <a:rPr b="0" lang="en-US" sz="1400" spc="-1" strike="noStrike">
                <a:solidFill>
                  <a:srgbClr val="000000"/>
                </a:solidFill>
                <a:latin typeface="Footlight MT Light"/>
              </a:rPr>
              <a:t>IV.</a:t>
            </a:r>
            <a:br>
              <a:rPr sz="1400"/>
            </a:br>
            <a:r>
              <a:rPr b="0" lang="en-US" sz="1400" spc="-1" strike="noStrike">
                <a:solidFill>
                  <a:srgbClr val="000000"/>
                </a:solidFill>
                <a:latin typeface="Footlight MT Light"/>
              </a:rPr>
              <a:t>What so false as truth is,</a:t>
            </a:r>
            <a:br>
              <a:rPr sz="1400"/>
            </a:br>
            <a:r>
              <a:rPr b="0" lang="en-US" sz="1400" spc="-1" strike="noStrike">
                <a:solidFill>
                  <a:srgbClr val="000000"/>
                </a:solidFill>
                <a:latin typeface="Footlight MT Light"/>
              </a:rPr>
              <a:t>False to thee?</a:t>
            </a:r>
            <a:br>
              <a:rPr sz="1400"/>
            </a:br>
            <a:r>
              <a:rPr b="0" lang="en-US" sz="1400" spc="-1" strike="noStrike">
                <a:solidFill>
                  <a:srgbClr val="000000"/>
                </a:solidFill>
                <a:latin typeface="Footlight MT Light"/>
              </a:rPr>
              <a:t>Where the serpent's tooth is</a:t>
            </a:r>
            <a:br>
              <a:rPr sz="1400"/>
            </a:br>
            <a:r>
              <a:rPr b="0" lang="en-US" sz="1400" spc="-1" strike="noStrike">
                <a:solidFill>
                  <a:srgbClr val="000000"/>
                </a:solidFill>
                <a:latin typeface="Footlight MT Light"/>
              </a:rPr>
              <a:t>Shun the tree---</a:t>
            </a:r>
            <a:br>
              <a:rPr sz="1400"/>
            </a:br>
            <a:br>
              <a:rPr sz="1400"/>
            </a:br>
            <a:endParaRPr b="0" lang="en-US" sz="1400" spc="-1" strike="noStrike">
              <a:solidFill>
                <a:srgbClr val="000000"/>
              </a:solidFill>
              <a:latin typeface="Arial"/>
            </a:endParaRPr>
          </a:p>
        </p:txBody>
      </p:sp>
      <p:sp>
        <p:nvSpPr>
          <p:cNvPr id="90" name="Text Box 3"/>
          <p:cNvSpPr/>
          <p:nvPr/>
        </p:nvSpPr>
        <p:spPr>
          <a:xfrm>
            <a:off x="3276720" y="685800"/>
            <a:ext cx="251460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otlight MT Light"/>
              </a:rPr>
              <a:t>V.</a:t>
            </a:r>
            <a:br>
              <a:rPr sz="1400"/>
            </a:br>
            <a:r>
              <a:rPr b="0" lang="en-US" sz="1400" spc="-1" strike="noStrike">
                <a:solidFill>
                  <a:srgbClr val="000000"/>
                </a:solidFill>
                <a:latin typeface="Footlight MT Light"/>
              </a:rPr>
              <a:t>Where the apple reddens</a:t>
            </a:r>
            <a:br>
              <a:rPr sz="1400"/>
            </a:br>
            <a:r>
              <a:rPr b="0" lang="en-US" sz="1400" spc="-1" strike="noStrike">
                <a:solidFill>
                  <a:srgbClr val="000000"/>
                </a:solidFill>
                <a:latin typeface="Footlight MT Light"/>
              </a:rPr>
              <a:t>Never pry---</a:t>
            </a:r>
            <a:br>
              <a:rPr sz="1400"/>
            </a:br>
            <a:r>
              <a:rPr b="0" lang="en-US" sz="1400" spc="-1" strike="noStrike">
                <a:solidFill>
                  <a:srgbClr val="000000"/>
                </a:solidFill>
                <a:latin typeface="Footlight MT Light"/>
              </a:rPr>
              <a:t>Lest we lose our Edens,</a:t>
            </a:r>
            <a:br>
              <a:rPr sz="1400"/>
            </a:br>
            <a:r>
              <a:rPr b="0" lang="en-US" sz="1400" spc="-1" strike="noStrike">
                <a:solidFill>
                  <a:srgbClr val="000000"/>
                </a:solidFill>
                <a:latin typeface="Footlight MT Light"/>
              </a:rPr>
              <a:t>Eve and I.</a:t>
            </a:r>
            <a:br>
              <a:rPr sz="1400"/>
            </a:br>
            <a:br>
              <a:rPr sz="1400"/>
            </a:br>
            <a:r>
              <a:rPr b="0" lang="en-US" sz="1400" spc="-1" strike="noStrike">
                <a:solidFill>
                  <a:srgbClr val="000000"/>
                </a:solidFill>
                <a:latin typeface="Footlight MT Light"/>
              </a:rPr>
              <a:t>VI.</a:t>
            </a:r>
            <a:br>
              <a:rPr sz="1400"/>
            </a:br>
            <a:r>
              <a:rPr b="0" lang="en-US" sz="1400" spc="-1" strike="noStrike">
                <a:solidFill>
                  <a:srgbClr val="000000"/>
                </a:solidFill>
                <a:latin typeface="Footlight MT Light"/>
              </a:rPr>
              <a:t>Be a god and hold me</a:t>
            </a:r>
            <a:br>
              <a:rPr sz="1400"/>
            </a:br>
            <a:r>
              <a:rPr b="0" lang="en-US" sz="1400" spc="-1" strike="noStrike">
                <a:solidFill>
                  <a:srgbClr val="000000"/>
                </a:solidFill>
                <a:latin typeface="Footlight MT Light"/>
              </a:rPr>
              <a:t>With a charm!</a:t>
            </a:r>
            <a:br>
              <a:rPr sz="1400"/>
            </a:br>
            <a:r>
              <a:rPr b="0" lang="en-US" sz="1400" spc="-1" strike="noStrike">
                <a:solidFill>
                  <a:srgbClr val="000000"/>
                </a:solidFill>
                <a:latin typeface="Footlight MT Light"/>
              </a:rPr>
              <a:t>Be a man and fold me</a:t>
            </a:r>
            <a:br>
              <a:rPr sz="1400"/>
            </a:br>
            <a:r>
              <a:rPr b="0" lang="en-US" sz="1400" spc="-1" strike="noStrike">
                <a:solidFill>
                  <a:srgbClr val="000000"/>
                </a:solidFill>
                <a:latin typeface="Footlight MT Light"/>
              </a:rPr>
              <a:t>With thine arm!</a:t>
            </a:r>
            <a:br>
              <a:rPr sz="1400"/>
            </a:br>
            <a:br>
              <a:rPr sz="1400"/>
            </a:br>
            <a:r>
              <a:rPr b="0" lang="en-US" sz="1400" spc="-1" strike="noStrike">
                <a:solidFill>
                  <a:srgbClr val="000000"/>
                </a:solidFill>
                <a:latin typeface="Footlight MT Light"/>
              </a:rPr>
              <a:t>VII.</a:t>
            </a:r>
            <a:br>
              <a:rPr sz="1400"/>
            </a:br>
            <a:r>
              <a:rPr b="0" lang="en-US" sz="1400" spc="-1" strike="noStrike">
                <a:solidFill>
                  <a:srgbClr val="000000"/>
                </a:solidFill>
                <a:latin typeface="Footlight MT Light"/>
              </a:rPr>
              <a:t>Teach me, only teach, Love</a:t>
            </a:r>
            <a:br>
              <a:rPr sz="1400"/>
            </a:br>
            <a:r>
              <a:rPr b="0" lang="en-US" sz="1400" spc="-1" strike="noStrike">
                <a:solidFill>
                  <a:srgbClr val="000000"/>
                </a:solidFill>
                <a:latin typeface="Footlight MT Light"/>
              </a:rPr>
              <a:t>As I ought</a:t>
            </a:r>
            <a:br>
              <a:rPr sz="1400"/>
            </a:br>
            <a:r>
              <a:rPr b="0" lang="en-US" sz="1400" spc="-1" strike="noStrike">
                <a:solidFill>
                  <a:srgbClr val="000000"/>
                </a:solidFill>
                <a:latin typeface="Footlight MT Light"/>
              </a:rPr>
              <a:t>I will speak thy speech, Love,</a:t>
            </a:r>
            <a:br>
              <a:rPr sz="1400"/>
            </a:br>
            <a:r>
              <a:rPr b="0" lang="en-US" sz="1400" spc="-1" strike="noStrike">
                <a:solidFill>
                  <a:srgbClr val="000000"/>
                </a:solidFill>
                <a:latin typeface="Footlight MT Light"/>
              </a:rPr>
              <a:t>Think thy thought---</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otlight MT Light"/>
              </a:rPr>
              <a:t>VIII.</a:t>
            </a:r>
            <a:br>
              <a:rPr sz="1400"/>
            </a:br>
            <a:r>
              <a:rPr b="0" lang="en-US" sz="1400" spc="-1" strike="noStrike">
                <a:solidFill>
                  <a:srgbClr val="000000"/>
                </a:solidFill>
                <a:latin typeface="Footlight MT Light"/>
              </a:rPr>
              <a:t>Meet, if thou require it,</a:t>
            </a:r>
            <a:br>
              <a:rPr sz="1400"/>
            </a:br>
            <a:r>
              <a:rPr b="0" lang="en-US" sz="1400" spc="-1" strike="noStrike">
                <a:solidFill>
                  <a:srgbClr val="000000"/>
                </a:solidFill>
                <a:latin typeface="Footlight MT Light"/>
              </a:rPr>
              <a:t>Both demands,</a:t>
            </a:r>
            <a:br>
              <a:rPr sz="1400"/>
            </a:br>
            <a:r>
              <a:rPr b="0" lang="en-US" sz="1400" spc="-1" strike="noStrike">
                <a:solidFill>
                  <a:srgbClr val="000000"/>
                </a:solidFill>
                <a:latin typeface="Footlight MT Light"/>
              </a:rPr>
              <a:t>Laying flesh and spirit</a:t>
            </a:r>
            <a:br>
              <a:rPr sz="1400"/>
            </a:br>
            <a:r>
              <a:rPr b="0" lang="en-US" sz="1400" spc="-1" strike="noStrike">
                <a:solidFill>
                  <a:srgbClr val="000000"/>
                </a:solidFill>
                <a:latin typeface="Footlight MT Light"/>
              </a:rPr>
              <a:t>In thy hands.</a:t>
            </a:r>
            <a:endParaRPr b="0" lang="en-US" sz="1400" spc="-1" strike="noStrike">
              <a:solidFill>
                <a:srgbClr val="000000"/>
              </a:solidFill>
              <a:latin typeface="Arial"/>
            </a:endParaRPr>
          </a:p>
        </p:txBody>
      </p:sp>
      <p:sp>
        <p:nvSpPr>
          <p:cNvPr id="91" name="Text Box 5"/>
          <p:cNvSpPr/>
          <p:nvPr/>
        </p:nvSpPr>
        <p:spPr>
          <a:xfrm>
            <a:off x="6019920" y="762120"/>
            <a:ext cx="220968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otlight MT Light"/>
              </a:rPr>
              <a:t>IX.</a:t>
            </a:r>
            <a:br>
              <a:rPr sz="1400"/>
            </a:br>
            <a:r>
              <a:rPr b="0" lang="en-US" sz="1400" spc="-1" strike="noStrike">
                <a:solidFill>
                  <a:srgbClr val="000000"/>
                </a:solidFill>
                <a:latin typeface="Footlight MT Light"/>
              </a:rPr>
              <a:t>That shall be to-morrow</a:t>
            </a:r>
            <a:br>
              <a:rPr sz="1400"/>
            </a:br>
            <a:r>
              <a:rPr b="0" lang="en-US" sz="1400" spc="-1" strike="noStrike">
                <a:solidFill>
                  <a:srgbClr val="000000"/>
                </a:solidFill>
                <a:latin typeface="Footlight MT Light"/>
              </a:rPr>
              <a:t>Not to-night:</a:t>
            </a:r>
            <a:br>
              <a:rPr sz="1400"/>
            </a:br>
            <a:r>
              <a:rPr b="0" lang="en-US" sz="1400" spc="-1" strike="noStrike">
                <a:solidFill>
                  <a:srgbClr val="000000"/>
                </a:solidFill>
                <a:latin typeface="Footlight MT Light"/>
              </a:rPr>
              <a:t>I must bury sorrow</a:t>
            </a:r>
            <a:br>
              <a:rPr sz="1400"/>
            </a:br>
            <a:r>
              <a:rPr b="0" lang="en-US" sz="1400" spc="-1" strike="noStrike">
                <a:solidFill>
                  <a:srgbClr val="000000"/>
                </a:solidFill>
                <a:latin typeface="Footlight MT Light"/>
              </a:rPr>
              <a:t>Out of sight:</a:t>
            </a:r>
            <a:br>
              <a:rPr sz="1400"/>
            </a:br>
            <a:br>
              <a:rPr sz="1400"/>
            </a:br>
            <a:r>
              <a:rPr b="0" lang="en-US" sz="1400" spc="-1" strike="noStrike">
                <a:solidFill>
                  <a:srgbClr val="000000"/>
                </a:solidFill>
                <a:latin typeface="Footlight MT Light"/>
              </a:rPr>
              <a:t>X</a:t>
            </a:r>
            <a:br>
              <a:rPr sz="1400"/>
            </a:br>
            <a:r>
              <a:rPr b="0" lang="en-US" sz="1400" spc="-1" strike="noStrike">
                <a:solidFill>
                  <a:srgbClr val="000000"/>
                </a:solidFill>
                <a:latin typeface="Footlight MT Light"/>
              </a:rPr>
              <a:t>---Must a little weep, Love,</a:t>
            </a:r>
            <a:br>
              <a:rPr sz="1400"/>
            </a:br>
            <a:r>
              <a:rPr b="0" lang="en-US" sz="1400" spc="-1" strike="noStrike">
                <a:solidFill>
                  <a:srgbClr val="000000"/>
                </a:solidFill>
                <a:latin typeface="Footlight MT Light"/>
              </a:rPr>
              <a:t>(Foolish me!)</a:t>
            </a:r>
            <a:br>
              <a:rPr sz="1400"/>
            </a:br>
            <a:r>
              <a:rPr b="0" lang="en-US" sz="1400" spc="-1" strike="noStrike">
                <a:solidFill>
                  <a:srgbClr val="000000"/>
                </a:solidFill>
                <a:latin typeface="Footlight MT Light"/>
              </a:rPr>
              <a:t>And so fall asleep, Love,</a:t>
            </a:r>
            <a:br>
              <a:rPr sz="1400"/>
            </a:br>
            <a:r>
              <a:rPr b="0" lang="en-US" sz="1400" spc="-1" strike="noStrike">
                <a:solidFill>
                  <a:srgbClr val="000000"/>
                </a:solidFill>
                <a:latin typeface="Footlight MT Light"/>
              </a:rPr>
              <a:t>Loved by thee.</a:t>
            </a:r>
            <a:endParaRPr b="0" lang="en-US" sz="1400" spc="-1" strike="noStrike">
              <a:solidFill>
                <a:srgbClr val="000000"/>
              </a:solidFill>
              <a:latin typeface="Arial"/>
            </a:endParaRPr>
          </a:p>
        </p:txBody>
      </p:sp>
      <p:sp>
        <p:nvSpPr>
          <p:cNvPr id="92" name="Text Box 6"/>
          <p:cNvSpPr/>
          <p:nvPr/>
        </p:nvSpPr>
        <p:spPr>
          <a:xfrm>
            <a:off x="5105520" y="5943600"/>
            <a:ext cx="3733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otlight MT Light"/>
              </a:rPr>
              <a:t>http://www.emule.com/poetry/?page=poem&amp;poem=28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8"/>
          <p:cNvSpPr/>
          <p:nvPr/>
        </p:nvSpPr>
        <p:spPr>
          <a:xfrm>
            <a:off x="228600" y="1143000"/>
            <a:ext cx="396252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Footlight MT Light"/>
              </a:rPr>
              <a:t>Meeting At Nigh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The grey sea and the long black l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And the yellow half-moon large and lo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And the startled little waves that lea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In fiery ringlets from their sleep,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As I gain the cove with pushing pro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And quench its speed i' the slushy s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Then a mile of warm sea-scented beac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Three fields to cross till a farm appear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A tap at the pane, the quick sharp scratc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And blue spurt of a lighted matc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And a voice less loud, thro' its joys and fear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Than the two hearts beating each to each!</a:t>
            </a:r>
            <a:endParaRPr b="0" lang="en-US" sz="1600" spc="-1" strike="noStrike">
              <a:solidFill>
                <a:srgbClr val="000000"/>
              </a:solidFill>
              <a:latin typeface="Arial"/>
            </a:endParaRPr>
          </a:p>
        </p:txBody>
      </p:sp>
      <p:sp>
        <p:nvSpPr>
          <p:cNvPr id="94" name="Rectangle 20"/>
          <p:cNvSpPr/>
          <p:nvPr/>
        </p:nvSpPr>
        <p:spPr>
          <a:xfrm>
            <a:off x="4267080" y="970560"/>
            <a:ext cx="4572000" cy="4536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Footlight MT Light"/>
              </a:rPr>
              <a:t>My St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All that I kno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Of a certain sta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Is, it can thro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Like the angled spa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Now a dart of r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Now a dart of bl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Till my friends have sai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They would fain see, t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 </a:t>
            </a:r>
            <a:r>
              <a:rPr b="0" lang="en-US" sz="1600" spc="-1" strike="noStrike">
                <a:solidFill>
                  <a:srgbClr val="000000"/>
                </a:solidFill>
                <a:latin typeface="Footlight MT Light"/>
              </a:rPr>
              <a:t>My star that dartles the red and the bl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Then it stops like a bird; like a flower, hangs furl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They must solace themselves with the Saturn above i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What matter to me if their star is a worl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otlight MT Light"/>
              </a:rPr>
              <a:t>Mine has opened its soul to me; therefore I love it.</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21"/>
          <p:cNvSpPr/>
          <p:nvPr/>
        </p:nvSpPr>
        <p:spPr>
          <a:xfrm>
            <a:off x="3505320" y="6324480"/>
            <a:ext cx="579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http://eir.library.utoronto.ca/rpo/display/poem289.html</a:t>
            </a:r>
            <a:endParaRPr b="0" lang="en-US" sz="1800" spc="-1" strike="noStrike">
              <a:solidFill>
                <a:srgbClr val="000000"/>
              </a:solidFill>
              <a:latin typeface="Arial"/>
            </a:endParaRPr>
          </a:p>
        </p:txBody>
      </p:sp>
      <p:sp>
        <p:nvSpPr>
          <p:cNvPr id="96" name="Ink 5"/>
          <p:cNvSpPr/>
          <p:nvPr/>
        </p:nvSpPr>
        <p:spPr>
          <a:xfrm>
            <a:off x="2152800" y="3768840"/>
            <a:ext cx="1440" cy="1440"/>
          </a:xfrm>
          <a:custGeom>
            <a:avLst/>
            <a:gdLst/>
            <a:ahLst/>
            <a:rect l="l" t="t" r="r" b="b"/>
            <a:pathLst>
              <a:path w="1" h="1">
                <a:moveTo>
                  <a:pt x="5978" y="10468"/>
                </a:moveTo>
                <a:lnTo>
                  <a:pt x="5978" y="10468"/>
                </a:lnTo>
              </a:path>
            </a:pathLst>
          </a:custGeom>
          <a:noFill/>
          <a:ln cap="rnd" w="1908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 name="Ink 6"/>
          <p:cNvSpPr/>
          <p:nvPr/>
        </p:nvSpPr>
        <p:spPr>
          <a:xfrm>
            <a:off x="3427560" y="1468440"/>
            <a:ext cx="471240" cy="371520"/>
          </a:xfrm>
          <a:custGeom>
            <a:avLst/>
            <a:gdLst/>
            <a:ahLst/>
            <a:rect l="l" t="t" r="r" b="b"/>
            <a:pathLst>
              <a:path w="1310" h="1031">
                <a:moveTo>
                  <a:pt x="9915" y="4102"/>
                </a:moveTo>
                <a:cubicBezTo>
                  <a:pt x="9911" y="4101"/>
                  <a:pt x="9909" y="4100"/>
                  <a:pt x="9905" y="4099"/>
                </a:cubicBezTo>
                <a:cubicBezTo>
                  <a:pt x="9899" y="4097"/>
                  <a:pt x="9892" y="4094"/>
                  <a:pt x="9886" y="4092"/>
                </a:cubicBezTo>
                <a:cubicBezTo>
                  <a:pt x="9877" y="4090"/>
                  <a:pt x="9868" y="4088"/>
                  <a:pt x="9859" y="4086"/>
                </a:cubicBezTo>
                <a:cubicBezTo>
                  <a:pt x="9839" y="4082"/>
                  <a:pt x="9819" y="4080"/>
                  <a:pt x="9799" y="4079"/>
                </a:cubicBezTo>
                <a:cubicBezTo>
                  <a:pt x="9770" y="4078"/>
                  <a:pt x="9740" y="4079"/>
                  <a:pt x="9712" y="4086"/>
                </a:cubicBezTo>
                <a:cubicBezTo>
                  <a:pt x="9699" y="4089"/>
                  <a:pt x="9686" y="4094"/>
                  <a:pt x="9673" y="4098"/>
                </a:cubicBezTo>
                <a:cubicBezTo>
                  <a:pt x="9646" y="4107"/>
                  <a:pt x="9621" y="4120"/>
                  <a:pt x="9597" y="4136"/>
                </a:cubicBezTo>
                <a:cubicBezTo>
                  <a:pt x="9586" y="4144"/>
                  <a:pt x="9578" y="4153"/>
                  <a:pt x="9568" y="4162"/>
                </a:cubicBezTo>
                <a:cubicBezTo>
                  <a:pt x="9560" y="4170"/>
                  <a:pt x="9551" y="4177"/>
                  <a:pt x="9545" y="4187"/>
                </a:cubicBezTo>
                <a:cubicBezTo>
                  <a:pt x="9538" y="4198"/>
                  <a:pt x="9531" y="4211"/>
                  <a:pt x="9526" y="4223"/>
                </a:cubicBezTo>
                <a:cubicBezTo>
                  <a:pt x="9521" y="4237"/>
                  <a:pt x="9519" y="4252"/>
                  <a:pt x="9520" y="4267"/>
                </a:cubicBezTo>
                <a:cubicBezTo>
                  <a:pt x="9521" y="4283"/>
                  <a:pt x="9529" y="4298"/>
                  <a:pt x="9537" y="4312"/>
                </a:cubicBezTo>
                <a:cubicBezTo>
                  <a:pt x="9543" y="4321"/>
                  <a:pt x="9549" y="4332"/>
                  <a:pt x="9557" y="4340"/>
                </a:cubicBezTo>
                <a:cubicBezTo>
                  <a:pt x="9565" y="4347"/>
                  <a:pt x="9576" y="4357"/>
                  <a:pt x="9586" y="4362"/>
                </a:cubicBezTo>
                <a:cubicBezTo>
                  <a:pt x="9597" y="4368"/>
                  <a:pt x="9614" y="4373"/>
                  <a:pt x="9626" y="4376"/>
                </a:cubicBezTo>
                <a:cubicBezTo>
                  <a:pt x="9641" y="4379"/>
                  <a:pt x="9656" y="4379"/>
                  <a:pt x="9671" y="4379"/>
                </a:cubicBezTo>
                <a:cubicBezTo>
                  <a:pt x="9710" y="4379"/>
                  <a:pt x="9746" y="4367"/>
                  <a:pt x="9781" y="4351"/>
                </a:cubicBezTo>
                <a:cubicBezTo>
                  <a:pt x="9801" y="4342"/>
                  <a:pt x="9818" y="4331"/>
                  <a:pt x="9835" y="4317"/>
                </a:cubicBezTo>
                <a:cubicBezTo>
                  <a:pt x="9849" y="4306"/>
                  <a:pt x="9863" y="4294"/>
                  <a:pt x="9874" y="4279"/>
                </a:cubicBezTo>
                <a:cubicBezTo>
                  <a:pt x="9882" y="4269"/>
                  <a:pt x="9888" y="4255"/>
                  <a:pt x="9894" y="4244"/>
                </a:cubicBezTo>
                <a:cubicBezTo>
                  <a:pt x="9906" y="4222"/>
                  <a:pt x="9920" y="4200"/>
                  <a:pt x="9930" y="4177"/>
                </a:cubicBezTo>
                <a:cubicBezTo>
                  <a:pt x="9935" y="4165"/>
                  <a:pt x="9939" y="4153"/>
                  <a:pt x="9942" y="4141"/>
                </a:cubicBezTo>
                <a:cubicBezTo>
                  <a:pt x="9943" y="4136"/>
                  <a:pt x="9945" y="4129"/>
                  <a:pt x="9946" y="4124"/>
                </a:cubicBezTo>
                <a:cubicBezTo>
                  <a:pt x="9947" y="4120"/>
                  <a:pt x="9947" y="4118"/>
                  <a:pt x="9948" y="4114"/>
                </a:cubicBezTo>
                <a:cubicBezTo>
                  <a:pt x="9948" y="4112"/>
                  <a:pt x="9948" y="4109"/>
                  <a:pt x="9948" y="4107"/>
                </a:cubicBezTo>
                <a:cubicBezTo>
                  <a:pt x="9948" y="4111"/>
                  <a:pt x="9946" y="4117"/>
                  <a:pt x="9946" y="4122"/>
                </a:cubicBezTo>
                <a:cubicBezTo>
                  <a:pt x="9947" y="4131"/>
                  <a:pt x="9947" y="4139"/>
                  <a:pt x="9948" y="4147"/>
                </a:cubicBezTo>
                <a:cubicBezTo>
                  <a:pt x="9949" y="4157"/>
                  <a:pt x="9951" y="4167"/>
                  <a:pt x="9954" y="4177"/>
                </a:cubicBezTo>
                <a:cubicBezTo>
                  <a:pt x="9959" y="4191"/>
                  <a:pt x="9965" y="4207"/>
                  <a:pt x="9971" y="4221"/>
                </a:cubicBezTo>
                <a:cubicBezTo>
                  <a:pt x="9977" y="4237"/>
                  <a:pt x="9984" y="4252"/>
                  <a:pt x="9994" y="4266"/>
                </a:cubicBezTo>
                <a:cubicBezTo>
                  <a:pt x="10002" y="4278"/>
                  <a:pt x="10011" y="4288"/>
                  <a:pt x="10021" y="4297"/>
                </a:cubicBezTo>
                <a:cubicBezTo>
                  <a:pt x="10046" y="4320"/>
                  <a:pt x="10077" y="4326"/>
                  <a:pt x="10110" y="4331"/>
                </a:cubicBezTo>
                <a:cubicBezTo>
                  <a:pt x="10134" y="4334"/>
                  <a:pt x="10161" y="4337"/>
                  <a:pt x="10186" y="4333"/>
                </a:cubicBezTo>
                <a:cubicBezTo>
                  <a:pt x="10197" y="4331"/>
                  <a:pt x="10209" y="4328"/>
                  <a:pt x="10219" y="4324"/>
                </a:cubicBezTo>
                <a:cubicBezTo>
                  <a:pt x="10228" y="4321"/>
                  <a:pt x="10237" y="4317"/>
                  <a:pt x="10246" y="4313"/>
                </a:cubicBezTo>
                <a:cubicBezTo>
                  <a:pt x="10254" y="4310"/>
                  <a:pt x="10260" y="4305"/>
                  <a:pt x="10267" y="4301"/>
                </a:cubicBezTo>
                <a:cubicBezTo>
                  <a:pt x="10275" y="4296"/>
                  <a:pt x="10279" y="4292"/>
                  <a:pt x="10285" y="4286"/>
                </a:cubicBezTo>
                <a:cubicBezTo>
                  <a:pt x="10291" y="4281"/>
                  <a:pt x="10294" y="4278"/>
                  <a:pt x="10298" y="4272"/>
                </a:cubicBezTo>
                <a:cubicBezTo>
                  <a:pt x="10299" y="4270"/>
                  <a:pt x="10297" y="4268"/>
                  <a:pt x="10298" y="4266"/>
                </a:cubicBezTo>
              </a:path>
              <a:path w="1310" h="1031">
                <a:moveTo>
                  <a:pt x="10399" y="4729"/>
                </a:moveTo>
                <a:cubicBezTo>
                  <a:pt x="10397" y="4725"/>
                  <a:pt x="10393" y="4719"/>
                  <a:pt x="10391" y="4715"/>
                </a:cubicBezTo>
                <a:cubicBezTo>
                  <a:pt x="10389" y="4711"/>
                  <a:pt x="10388" y="4706"/>
                  <a:pt x="10387" y="4702"/>
                </a:cubicBezTo>
                <a:cubicBezTo>
                  <a:pt x="10386" y="4699"/>
                  <a:pt x="10384" y="4694"/>
                  <a:pt x="10383" y="4691"/>
                </a:cubicBezTo>
                <a:cubicBezTo>
                  <a:pt x="10382" y="4688"/>
                  <a:pt x="10379" y="4683"/>
                  <a:pt x="10378" y="4680"/>
                </a:cubicBezTo>
                <a:cubicBezTo>
                  <a:pt x="10377" y="4677"/>
                  <a:pt x="10377" y="4673"/>
                  <a:pt x="10376" y="4670"/>
                </a:cubicBezTo>
                <a:cubicBezTo>
                  <a:pt x="10375" y="4666"/>
                  <a:pt x="10374" y="4661"/>
                  <a:pt x="10374" y="4657"/>
                </a:cubicBezTo>
                <a:cubicBezTo>
                  <a:pt x="10374" y="4655"/>
                  <a:pt x="10374" y="4652"/>
                  <a:pt x="10374" y="4650"/>
                </a:cubicBezTo>
                <a:cubicBezTo>
                  <a:pt x="10375" y="4652"/>
                  <a:pt x="10377" y="4652"/>
                  <a:pt x="10378" y="4656"/>
                </a:cubicBezTo>
                <a:cubicBezTo>
                  <a:pt x="10380" y="4663"/>
                  <a:pt x="10383" y="4671"/>
                  <a:pt x="10385" y="4678"/>
                </a:cubicBezTo>
                <a:cubicBezTo>
                  <a:pt x="10391" y="4696"/>
                  <a:pt x="10395" y="4715"/>
                  <a:pt x="10401" y="4733"/>
                </a:cubicBezTo>
                <a:cubicBezTo>
                  <a:pt x="10408" y="4756"/>
                  <a:pt x="10416" y="4779"/>
                  <a:pt x="10424" y="4801"/>
                </a:cubicBezTo>
                <a:cubicBezTo>
                  <a:pt x="10435" y="4831"/>
                  <a:pt x="10449" y="4860"/>
                  <a:pt x="10459" y="4891"/>
                </a:cubicBezTo>
                <a:cubicBezTo>
                  <a:pt x="10465" y="4911"/>
                  <a:pt x="10474" y="4929"/>
                  <a:pt x="10480" y="4949"/>
                </a:cubicBezTo>
                <a:cubicBezTo>
                  <a:pt x="10493" y="4991"/>
                  <a:pt x="10503" y="5035"/>
                  <a:pt x="10517" y="5077"/>
                </a:cubicBezTo>
                <a:cubicBezTo>
                  <a:pt x="10520" y="5085"/>
                  <a:pt x="10521" y="5094"/>
                  <a:pt x="10523" y="5101"/>
                </a:cubicBezTo>
                <a:cubicBezTo>
                  <a:pt x="10524" y="5104"/>
                  <a:pt x="10524" y="5107"/>
                  <a:pt x="10525" y="5109"/>
                </a:cubicBezTo>
                <a:cubicBezTo>
                  <a:pt x="10526" y="5109"/>
                  <a:pt x="10526" y="5109"/>
                  <a:pt x="10527" y="5109"/>
                </a:cubicBezTo>
                <a:cubicBezTo>
                  <a:pt x="10526" y="5103"/>
                  <a:pt x="10525" y="5098"/>
                  <a:pt x="10523" y="5092"/>
                </a:cubicBezTo>
                <a:cubicBezTo>
                  <a:pt x="10518" y="5072"/>
                  <a:pt x="10515" y="5056"/>
                  <a:pt x="10515" y="5036"/>
                </a:cubicBezTo>
                <a:cubicBezTo>
                  <a:pt x="10515" y="5010"/>
                  <a:pt x="10518" y="4989"/>
                  <a:pt x="10527" y="4965"/>
                </a:cubicBezTo>
                <a:cubicBezTo>
                  <a:pt x="10534" y="4946"/>
                  <a:pt x="10544" y="4930"/>
                  <a:pt x="10556" y="4914"/>
                </a:cubicBezTo>
                <a:cubicBezTo>
                  <a:pt x="10566" y="4900"/>
                  <a:pt x="10580" y="4888"/>
                  <a:pt x="10594" y="4877"/>
                </a:cubicBezTo>
                <a:cubicBezTo>
                  <a:pt x="10608" y="4866"/>
                  <a:pt x="10622" y="4857"/>
                  <a:pt x="10637" y="4849"/>
                </a:cubicBezTo>
                <a:cubicBezTo>
                  <a:pt x="10652" y="4840"/>
                  <a:pt x="10668" y="4833"/>
                  <a:pt x="10685" y="4829"/>
                </a:cubicBezTo>
                <a:cubicBezTo>
                  <a:pt x="10712" y="4823"/>
                  <a:pt x="10741" y="4825"/>
                  <a:pt x="10767" y="4834"/>
                </a:cubicBezTo>
                <a:cubicBezTo>
                  <a:pt x="10791" y="4843"/>
                  <a:pt x="10815" y="4864"/>
                  <a:pt x="10825" y="4888"/>
                </a:cubicBezTo>
                <a:cubicBezTo>
                  <a:pt x="10829" y="4899"/>
                  <a:pt x="10831" y="4916"/>
                  <a:pt x="10829" y="4927"/>
                </a:cubicBezTo>
                <a:cubicBezTo>
                  <a:pt x="10824" y="4959"/>
                  <a:pt x="10800" y="4982"/>
                  <a:pt x="10778" y="5003"/>
                </a:cubicBezTo>
                <a:cubicBezTo>
                  <a:pt x="10757" y="5024"/>
                  <a:pt x="10730" y="5041"/>
                  <a:pt x="10703" y="5052"/>
                </a:cubicBezTo>
                <a:cubicBezTo>
                  <a:pt x="10685" y="5059"/>
                  <a:pt x="10666" y="5065"/>
                  <a:pt x="10647" y="5067"/>
                </a:cubicBezTo>
                <a:cubicBezTo>
                  <a:pt x="10635" y="5068"/>
                  <a:pt x="10622" y="5067"/>
                  <a:pt x="10610" y="5066"/>
                </a:cubicBezTo>
                <a:cubicBezTo>
                  <a:pt x="10595" y="5064"/>
                  <a:pt x="10576" y="5058"/>
                  <a:pt x="10563" y="5050"/>
                </a:cubicBezTo>
                <a:cubicBezTo>
                  <a:pt x="10560" y="5048"/>
                  <a:pt x="10558" y="5043"/>
                  <a:pt x="10556" y="5042"/>
                </a:cubicBezTo>
                <a:cubicBezTo>
                  <a:pt x="10554" y="5041"/>
                  <a:pt x="10553" y="5041"/>
                  <a:pt x="10552" y="504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Ink 7"/>
          <p:cNvSpPr/>
          <p:nvPr/>
        </p:nvSpPr>
        <p:spPr>
          <a:xfrm>
            <a:off x="3014640" y="2049480"/>
            <a:ext cx="577800" cy="504720"/>
          </a:xfrm>
          <a:custGeom>
            <a:avLst/>
            <a:gdLst/>
            <a:ahLst/>
            <a:rect l="l" t="t" r="r" b="b"/>
            <a:pathLst>
              <a:path w="1606" h="1403">
                <a:moveTo>
                  <a:pt x="9698" y="5716"/>
                </a:moveTo>
                <a:cubicBezTo>
                  <a:pt x="9697" y="5715"/>
                  <a:pt x="9694" y="5710"/>
                  <a:pt x="9692" y="5709"/>
                </a:cubicBezTo>
                <a:cubicBezTo>
                  <a:pt x="9687" y="5706"/>
                  <a:pt x="9682" y="5704"/>
                  <a:pt x="9677" y="5702"/>
                </a:cubicBezTo>
                <a:cubicBezTo>
                  <a:pt x="9673" y="5700"/>
                  <a:pt x="9667" y="5700"/>
                  <a:pt x="9663" y="5699"/>
                </a:cubicBezTo>
                <a:cubicBezTo>
                  <a:pt x="9657" y="5697"/>
                  <a:pt x="9652" y="5696"/>
                  <a:pt x="9646" y="5695"/>
                </a:cubicBezTo>
                <a:cubicBezTo>
                  <a:pt x="9641" y="5694"/>
                  <a:pt x="9635" y="5693"/>
                  <a:pt x="9630" y="5693"/>
                </a:cubicBezTo>
                <a:cubicBezTo>
                  <a:pt x="9624" y="5693"/>
                  <a:pt x="9617" y="5693"/>
                  <a:pt x="9611" y="5695"/>
                </a:cubicBezTo>
                <a:cubicBezTo>
                  <a:pt x="9603" y="5697"/>
                  <a:pt x="9591" y="5704"/>
                  <a:pt x="9584" y="5708"/>
                </a:cubicBezTo>
                <a:cubicBezTo>
                  <a:pt x="9570" y="5716"/>
                  <a:pt x="9555" y="5730"/>
                  <a:pt x="9545" y="5743"/>
                </a:cubicBezTo>
                <a:cubicBezTo>
                  <a:pt x="9537" y="5753"/>
                  <a:pt x="9530" y="5766"/>
                  <a:pt x="9524" y="5777"/>
                </a:cubicBezTo>
                <a:cubicBezTo>
                  <a:pt x="9519" y="5787"/>
                  <a:pt x="9515" y="5799"/>
                  <a:pt x="9512" y="5810"/>
                </a:cubicBezTo>
                <a:cubicBezTo>
                  <a:pt x="9509" y="5821"/>
                  <a:pt x="9507" y="5833"/>
                  <a:pt x="9506" y="5844"/>
                </a:cubicBezTo>
                <a:cubicBezTo>
                  <a:pt x="9505" y="5857"/>
                  <a:pt x="9508" y="5868"/>
                  <a:pt x="9510" y="5881"/>
                </a:cubicBezTo>
                <a:cubicBezTo>
                  <a:pt x="9515" y="5905"/>
                  <a:pt x="9520" y="5925"/>
                  <a:pt x="9537" y="5943"/>
                </a:cubicBezTo>
                <a:cubicBezTo>
                  <a:pt x="9549" y="5956"/>
                  <a:pt x="9563" y="5967"/>
                  <a:pt x="9580" y="5974"/>
                </a:cubicBezTo>
                <a:cubicBezTo>
                  <a:pt x="9596" y="5981"/>
                  <a:pt x="9611" y="5987"/>
                  <a:pt x="9628" y="5990"/>
                </a:cubicBezTo>
                <a:cubicBezTo>
                  <a:pt x="9667" y="5996"/>
                  <a:pt x="9710" y="5995"/>
                  <a:pt x="9750" y="5992"/>
                </a:cubicBezTo>
                <a:cubicBezTo>
                  <a:pt x="9761" y="5991"/>
                  <a:pt x="9772" y="5989"/>
                  <a:pt x="9783" y="5986"/>
                </a:cubicBezTo>
                <a:cubicBezTo>
                  <a:pt x="9793" y="5983"/>
                  <a:pt x="9805" y="5978"/>
                  <a:pt x="9814" y="5972"/>
                </a:cubicBezTo>
                <a:cubicBezTo>
                  <a:pt x="9820" y="5968"/>
                  <a:pt x="9826" y="5960"/>
                  <a:pt x="9832" y="5955"/>
                </a:cubicBezTo>
                <a:cubicBezTo>
                  <a:pt x="9840" y="5948"/>
                  <a:pt x="9848" y="5940"/>
                  <a:pt x="9857" y="5933"/>
                </a:cubicBezTo>
                <a:cubicBezTo>
                  <a:pt x="9865" y="5927"/>
                  <a:pt x="9872" y="5920"/>
                  <a:pt x="9880" y="5914"/>
                </a:cubicBezTo>
                <a:cubicBezTo>
                  <a:pt x="9886" y="5909"/>
                  <a:pt x="9891" y="5905"/>
                  <a:pt x="9897" y="5900"/>
                </a:cubicBezTo>
              </a:path>
              <a:path w="1606" h="1403">
                <a:moveTo>
                  <a:pt x="8569" y="6330"/>
                </a:moveTo>
                <a:cubicBezTo>
                  <a:pt x="8564" y="6325"/>
                  <a:pt x="8560" y="6322"/>
                  <a:pt x="8554" y="6317"/>
                </a:cubicBezTo>
                <a:cubicBezTo>
                  <a:pt x="8550" y="6314"/>
                  <a:pt x="8546" y="6310"/>
                  <a:pt x="8542" y="6308"/>
                </a:cubicBezTo>
                <a:cubicBezTo>
                  <a:pt x="8535" y="6305"/>
                  <a:pt x="8526" y="6303"/>
                  <a:pt x="8519" y="6303"/>
                </a:cubicBezTo>
                <a:cubicBezTo>
                  <a:pt x="8508" y="6303"/>
                  <a:pt x="8495" y="6304"/>
                  <a:pt x="8484" y="6306"/>
                </a:cubicBezTo>
                <a:cubicBezTo>
                  <a:pt x="8469" y="6309"/>
                  <a:pt x="8452" y="6314"/>
                  <a:pt x="8438" y="6321"/>
                </a:cubicBezTo>
                <a:cubicBezTo>
                  <a:pt x="8431" y="6325"/>
                  <a:pt x="8421" y="6330"/>
                  <a:pt x="8414" y="6335"/>
                </a:cubicBezTo>
                <a:cubicBezTo>
                  <a:pt x="8409" y="6339"/>
                  <a:pt x="8403" y="6345"/>
                  <a:pt x="8399" y="6350"/>
                </a:cubicBezTo>
                <a:cubicBezTo>
                  <a:pt x="8395" y="6355"/>
                  <a:pt x="8390" y="6364"/>
                  <a:pt x="8387" y="6371"/>
                </a:cubicBezTo>
                <a:cubicBezTo>
                  <a:pt x="8382" y="6383"/>
                  <a:pt x="8377" y="6398"/>
                  <a:pt x="8374" y="6410"/>
                </a:cubicBezTo>
                <a:cubicBezTo>
                  <a:pt x="8372" y="6420"/>
                  <a:pt x="8371" y="6431"/>
                  <a:pt x="8372" y="6441"/>
                </a:cubicBezTo>
                <a:cubicBezTo>
                  <a:pt x="8373" y="6453"/>
                  <a:pt x="8373" y="6465"/>
                  <a:pt x="8376" y="6477"/>
                </a:cubicBezTo>
                <a:cubicBezTo>
                  <a:pt x="8380" y="6494"/>
                  <a:pt x="8384" y="6510"/>
                  <a:pt x="8391" y="6526"/>
                </a:cubicBezTo>
                <a:cubicBezTo>
                  <a:pt x="8401" y="6550"/>
                  <a:pt x="8414" y="6568"/>
                  <a:pt x="8432" y="6586"/>
                </a:cubicBezTo>
                <a:cubicBezTo>
                  <a:pt x="8443" y="6597"/>
                  <a:pt x="8456" y="6608"/>
                  <a:pt x="8470" y="6615"/>
                </a:cubicBezTo>
                <a:cubicBezTo>
                  <a:pt x="8481" y="6621"/>
                  <a:pt x="8497" y="6622"/>
                  <a:pt x="8509" y="6624"/>
                </a:cubicBezTo>
                <a:cubicBezTo>
                  <a:pt x="8523" y="6626"/>
                  <a:pt x="8535" y="6626"/>
                  <a:pt x="8550" y="6624"/>
                </a:cubicBezTo>
                <a:cubicBezTo>
                  <a:pt x="8577" y="6621"/>
                  <a:pt x="8598" y="6618"/>
                  <a:pt x="8623" y="6607"/>
                </a:cubicBezTo>
                <a:cubicBezTo>
                  <a:pt x="8634" y="6602"/>
                  <a:pt x="8645" y="6597"/>
                  <a:pt x="8656" y="6591"/>
                </a:cubicBezTo>
                <a:cubicBezTo>
                  <a:pt x="8664" y="6587"/>
                  <a:pt x="8672" y="6582"/>
                  <a:pt x="8680" y="6578"/>
                </a:cubicBezTo>
                <a:cubicBezTo>
                  <a:pt x="8691" y="6572"/>
                  <a:pt x="8700" y="6566"/>
                  <a:pt x="8709" y="6558"/>
                </a:cubicBezTo>
                <a:cubicBezTo>
                  <a:pt x="8714" y="6554"/>
                  <a:pt x="8720" y="6550"/>
                  <a:pt x="8724" y="6545"/>
                </a:cubicBezTo>
                <a:cubicBezTo>
                  <a:pt x="8725" y="6543"/>
                  <a:pt x="8727" y="6543"/>
                  <a:pt x="8728" y="6541"/>
                </a:cubicBezTo>
                <a:cubicBezTo>
                  <a:pt x="8729" y="6540"/>
                  <a:pt x="8727" y="6537"/>
                  <a:pt x="8728" y="6536"/>
                </a:cubicBezTo>
              </a:path>
              <a:path w="1606" h="1403">
                <a:moveTo>
                  <a:pt x="9619" y="6436"/>
                </a:moveTo>
                <a:cubicBezTo>
                  <a:pt x="9621" y="6444"/>
                  <a:pt x="9622" y="6452"/>
                  <a:pt x="9624" y="6460"/>
                </a:cubicBezTo>
                <a:cubicBezTo>
                  <a:pt x="9629" y="6482"/>
                  <a:pt x="9630" y="6504"/>
                  <a:pt x="9634" y="6526"/>
                </a:cubicBezTo>
                <a:cubicBezTo>
                  <a:pt x="9637" y="6545"/>
                  <a:pt x="9642" y="6564"/>
                  <a:pt x="9644" y="6584"/>
                </a:cubicBezTo>
                <a:cubicBezTo>
                  <a:pt x="9647" y="6606"/>
                  <a:pt x="9651" y="6627"/>
                  <a:pt x="9655" y="6648"/>
                </a:cubicBezTo>
                <a:cubicBezTo>
                  <a:pt x="9662" y="6681"/>
                  <a:pt x="9665" y="6715"/>
                  <a:pt x="9669" y="6748"/>
                </a:cubicBezTo>
                <a:cubicBezTo>
                  <a:pt x="9673" y="6779"/>
                  <a:pt x="9675" y="6811"/>
                  <a:pt x="9679" y="6842"/>
                </a:cubicBezTo>
                <a:cubicBezTo>
                  <a:pt x="9682" y="6866"/>
                  <a:pt x="9685" y="6889"/>
                  <a:pt x="9688" y="6913"/>
                </a:cubicBezTo>
                <a:cubicBezTo>
                  <a:pt x="9691" y="6933"/>
                  <a:pt x="9694" y="6953"/>
                  <a:pt x="9696" y="6973"/>
                </a:cubicBezTo>
                <a:cubicBezTo>
                  <a:pt x="9697" y="6987"/>
                  <a:pt x="9698" y="7000"/>
                  <a:pt x="9700" y="7014"/>
                </a:cubicBezTo>
                <a:cubicBezTo>
                  <a:pt x="9701" y="7024"/>
                  <a:pt x="9700" y="7034"/>
                  <a:pt x="9702" y="7044"/>
                </a:cubicBezTo>
                <a:cubicBezTo>
                  <a:pt x="9703" y="7050"/>
                  <a:pt x="9705" y="7056"/>
                  <a:pt x="9706" y="7062"/>
                </a:cubicBezTo>
                <a:cubicBezTo>
                  <a:pt x="9707" y="7066"/>
                  <a:pt x="9708" y="7074"/>
                  <a:pt x="9708" y="7078"/>
                </a:cubicBezTo>
                <a:cubicBezTo>
                  <a:pt x="9708" y="7082"/>
                  <a:pt x="9708" y="7087"/>
                  <a:pt x="9708" y="7091"/>
                </a:cubicBezTo>
                <a:cubicBezTo>
                  <a:pt x="9707" y="7089"/>
                  <a:pt x="9711" y="7097"/>
                  <a:pt x="9710" y="7095"/>
                </a:cubicBezTo>
                <a:cubicBezTo>
                  <a:pt x="9708" y="7091"/>
                  <a:pt x="9705" y="7084"/>
                  <a:pt x="9704" y="7080"/>
                </a:cubicBezTo>
                <a:cubicBezTo>
                  <a:pt x="9702" y="7073"/>
                  <a:pt x="9702" y="7065"/>
                  <a:pt x="9700" y="7058"/>
                </a:cubicBezTo>
                <a:cubicBezTo>
                  <a:pt x="9697" y="7048"/>
                  <a:pt x="9696" y="7038"/>
                  <a:pt x="9694" y="7028"/>
                </a:cubicBezTo>
                <a:cubicBezTo>
                  <a:pt x="9690" y="7009"/>
                  <a:pt x="9685" y="6990"/>
                  <a:pt x="9684" y="6971"/>
                </a:cubicBezTo>
                <a:cubicBezTo>
                  <a:pt x="9683" y="6958"/>
                  <a:pt x="9684" y="6943"/>
                  <a:pt x="9686" y="6930"/>
                </a:cubicBezTo>
                <a:cubicBezTo>
                  <a:pt x="9689" y="6909"/>
                  <a:pt x="9696" y="6883"/>
                  <a:pt x="9710" y="6867"/>
                </a:cubicBezTo>
                <a:cubicBezTo>
                  <a:pt x="9722" y="6853"/>
                  <a:pt x="9738" y="6845"/>
                  <a:pt x="9754" y="6838"/>
                </a:cubicBezTo>
                <a:cubicBezTo>
                  <a:pt x="9767" y="6832"/>
                  <a:pt x="9779" y="6830"/>
                  <a:pt x="9793" y="6829"/>
                </a:cubicBezTo>
                <a:cubicBezTo>
                  <a:pt x="9813" y="6827"/>
                  <a:pt x="9833" y="6828"/>
                  <a:pt x="9853" y="6830"/>
                </a:cubicBezTo>
                <a:cubicBezTo>
                  <a:pt x="9866" y="6832"/>
                  <a:pt x="9880" y="6834"/>
                  <a:pt x="9892" y="6838"/>
                </a:cubicBezTo>
                <a:cubicBezTo>
                  <a:pt x="9904" y="6842"/>
                  <a:pt x="9917" y="6848"/>
                  <a:pt x="9928" y="6855"/>
                </a:cubicBezTo>
                <a:cubicBezTo>
                  <a:pt x="9942" y="6864"/>
                  <a:pt x="9956" y="6877"/>
                  <a:pt x="9965" y="6891"/>
                </a:cubicBezTo>
                <a:cubicBezTo>
                  <a:pt x="9971" y="6901"/>
                  <a:pt x="9973" y="6910"/>
                  <a:pt x="9975" y="6920"/>
                </a:cubicBezTo>
                <a:cubicBezTo>
                  <a:pt x="9979" y="6940"/>
                  <a:pt x="9972" y="6961"/>
                  <a:pt x="9961" y="6978"/>
                </a:cubicBezTo>
                <a:cubicBezTo>
                  <a:pt x="9954" y="6990"/>
                  <a:pt x="9942" y="7002"/>
                  <a:pt x="9932" y="7012"/>
                </a:cubicBezTo>
                <a:cubicBezTo>
                  <a:pt x="9922" y="7022"/>
                  <a:pt x="9909" y="7030"/>
                  <a:pt x="9897" y="7037"/>
                </a:cubicBezTo>
                <a:cubicBezTo>
                  <a:pt x="9884" y="7045"/>
                  <a:pt x="9870" y="7052"/>
                  <a:pt x="9855" y="7058"/>
                </a:cubicBezTo>
                <a:cubicBezTo>
                  <a:pt x="9841" y="7064"/>
                  <a:pt x="9826" y="7069"/>
                  <a:pt x="9812" y="7074"/>
                </a:cubicBezTo>
                <a:cubicBezTo>
                  <a:pt x="9801" y="7078"/>
                  <a:pt x="9790" y="7082"/>
                  <a:pt x="9779" y="7084"/>
                </a:cubicBezTo>
                <a:cubicBezTo>
                  <a:pt x="9761" y="7088"/>
                  <a:pt x="9745" y="7086"/>
                  <a:pt x="9727" y="708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Ink 8"/>
          <p:cNvSpPr/>
          <p:nvPr/>
        </p:nvSpPr>
        <p:spPr>
          <a:xfrm>
            <a:off x="3549600" y="2733840"/>
            <a:ext cx="284040" cy="145800"/>
          </a:xfrm>
          <a:custGeom>
            <a:avLst/>
            <a:gdLst/>
            <a:ahLst/>
            <a:rect l="l" t="t" r="r" b="b"/>
            <a:pathLst>
              <a:path w="789" h="406">
                <a:moveTo>
                  <a:pt x="10300" y="7678"/>
                </a:moveTo>
                <a:cubicBezTo>
                  <a:pt x="10299" y="7675"/>
                  <a:pt x="10297" y="7672"/>
                  <a:pt x="10296" y="7669"/>
                </a:cubicBezTo>
                <a:cubicBezTo>
                  <a:pt x="10294" y="7666"/>
                  <a:pt x="10294" y="7661"/>
                  <a:pt x="10292" y="7659"/>
                </a:cubicBezTo>
                <a:cubicBezTo>
                  <a:pt x="10290" y="7657"/>
                  <a:pt x="10288" y="7654"/>
                  <a:pt x="10287" y="7652"/>
                </a:cubicBezTo>
                <a:cubicBezTo>
                  <a:pt x="10285" y="7649"/>
                  <a:pt x="10283" y="7648"/>
                  <a:pt x="10281" y="7645"/>
                </a:cubicBezTo>
                <a:cubicBezTo>
                  <a:pt x="10280" y="7643"/>
                  <a:pt x="10279" y="7642"/>
                  <a:pt x="10277" y="7640"/>
                </a:cubicBezTo>
                <a:cubicBezTo>
                  <a:pt x="10275" y="7637"/>
                  <a:pt x="10273" y="7634"/>
                  <a:pt x="10269" y="7631"/>
                </a:cubicBezTo>
                <a:cubicBezTo>
                  <a:pt x="10265" y="7628"/>
                  <a:pt x="10262" y="7627"/>
                  <a:pt x="10258" y="7624"/>
                </a:cubicBezTo>
                <a:cubicBezTo>
                  <a:pt x="10255" y="7622"/>
                  <a:pt x="10250" y="7619"/>
                  <a:pt x="10246" y="7617"/>
                </a:cubicBezTo>
                <a:cubicBezTo>
                  <a:pt x="10236" y="7612"/>
                  <a:pt x="10225" y="7610"/>
                  <a:pt x="10215" y="7607"/>
                </a:cubicBezTo>
                <a:cubicBezTo>
                  <a:pt x="10201" y="7603"/>
                  <a:pt x="10187" y="7600"/>
                  <a:pt x="10172" y="7598"/>
                </a:cubicBezTo>
                <a:cubicBezTo>
                  <a:pt x="10134" y="7594"/>
                  <a:pt x="10094" y="7599"/>
                  <a:pt x="10058" y="7612"/>
                </a:cubicBezTo>
                <a:cubicBezTo>
                  <a:pt x="10049" y="7615"/>
                  <a:pt x="10041" y="7618"/>
                  <a:pt x="10033" y="7622"/>
                </a:cubicBezTo>
                <a:cubicBezTo>
                  <a:pt x="10013" y="7632"/>
                  <a:pt x="9992" y="7645"/>
                  <a:pt x="9975" y="7659"/>
                </a:cubicBezTo>
                <a:cubicBezTo>
                  <a:pt x="9967" y="7666"/>
                  <a:pt x="9957" y="7674"/>
                  <a:pt x="9950" y="7681"/>
                </a:cubicBezTo>
                <a:cubicBezTo>
                  <a:pt x="9940" y="7691"/>
                  <a:pt x="9931" y="7701"/>
                  <a:pt x="9923" y="7712"/>
                </a:cubicBezTo>
                <a:cubicBezTo>
                  <a:pt x="9912" y="7726"/>
                  <a:pt x="9902" y="7741"/>
                  <a:pt x="9892" y="7756"/>
                </a:cubicBezTo>
                <a:cubicBezTo>
                  <a:pt x="9882" y="7771"/>
                  <a:pt x="9878" y="7784"/>
                  <a:pt x="9872" y="7800"/>
                </a:cubicBezTo>
                <a:cubicBezTo>
                  <a:pt x="9868" y="7811"/>
                  <a:pt x="9864" y="7819"/>
                  <a:pt x="9863" y="7831"/>
                </a:cubicBezTo>
                <a:cubicBezTo>
                  <a:pt x="9861" y="7846"/>
                  <a:pt x="9862" y="7862"/>
                  <a:pt x="9863" y="7877"/>
                </a:cubicBezTo>
                <a:cubicBezTo>
                  <a:pt x="9864" y="7894"/>
                  <a:pt x="9871" y="7908"/>
                  <a:pt x="9876" y="7924"/>
                </a:cubicBezTo>
                <a:cubicBezTo>
                  <a:pt x="9879" y="7936"/>
                  <a:pt x="9879" y="7941"/>
                  <a:pt x="9886" y="7952"/>
                </a:cubicBezTo>
                <a:cubicBezTo>
                  <a:pt x="9892" y="7961"/>
                  <a:pt x="9898" y="7967"/>
                  <a:pt x="9905" y="7974"/>
                </a:cubicBezTo>
                <a:cubicBezTo>
                  <a:pt x="9915" y="7983"/>
                  <a:pt x="9927" y="7993"/>
                  <a:pt x="9940" y="7997"/>
                </a:cubicBezTo>
                <a:cubicBezTo>
                  <a:pt x="9945" y="7999"/>
                  <a:pt x="9951" y="7999"/>
                  <a:pt x="9957" y="7999"/>
                </a:cubicBezTo>
                <a:cubicBezTo>
                  <a:pt x="9977" y="8000"/>
                  <a:pt x="9999" y="7991"/>
                  <a:pt x="10017" y="7984"/>
                </a:cubicBezTo>
                <a:cubicBezTo>
                  <a:pt x="10027" y="7980"/>
                  <a:pt x="10038" y="7975"/>
                  <a:pt x="10048" y="7970"/>
                </a:cubicBezTo>
                <a:cubicBezTo>
                  <a:pt x="10058" y="7965"/>
                  <a:pt x="10065" y="7959"/>
                  <a:pt x="10074" y="7953"/>
                </a:cubicBezTo>
                <a:cubicBezTo>
                  <a:pt x="10084" y="7947"/>
                  <a:pt x="10094" y="7942"/>
                  <a:pt x="10103" y="7934"/>
                </a:cubicBezTo>
                <a:cubicBezTo>
                  <a:pt x="10114" y="7925"/>
                  <a:pt x="10123" y="7915"/>
                  <a:pt x="10132" y="7905"/>
                </a:cubicBezTo>
                <a:cubicBezTo>
                  <a:pt x="10141" y="7896"/>
                  <a:pt x="10147" y="7886"/>
                  <a:pt x="10155" y="7876"/>
                </a:cubicBezTo>
                <a:cubicBezTo>
                  <a:pt x="10163" y="7865"/>
                  <a:pt x="10170" y="7854"/>
                  <a:pt x="10176" y="7842"/>
                </a:cubicBezTo>
                <a:cubicBezTo>
                  <a:pt x="10181" y="7833"/>
                  <a:pt x="10184" y="7823"/>
                  <a:pt x="10188" y="7813"/>
                </a:cubicBezTo>
                <a:cubicBezTo>
                  <a:pt x="10195" y="7797"/>
                  <a:pt x="10203" y="7782"/>
                  <a:pt x="10207" y="7764"/>
                </a:cubicBezTo>
                <a:cubicBezTo>
                  <a:pt x="10209" y="7754"/>
                  <a:pt x="10211" y="7746"/>
                  <a:pt x="10213" y="7736"/>
                </a:cubicBezTo>
                <a:cubicBezTo>
                  <a:pt x="10214" y="7729"/>
                  <a:pt x="10216" y="7720"/>
                  <a:pt x="10217" y="7713"/>
                </a:cubicBezTo>
                <a:cubicBezTo>
                  <a:pt x="10218" y="7705"/>
                  <a:pt x="10220" y="7696"/>
                  <a:pt x="10221" y="7688"/>
                </a:cubicBezTo>
                <a:cubicBezTo>
                  <a:pt x="10222" y="7681"/>
                  <a:pt x="10222" y="7673"/>
                  <a:pt x="10223" y="7666"/>
                </a:cubicBezTo>
                <a:cubicBezTo>
                  <a:pt x="10224" y="7657"/>
                  <a:pt x="10226" y="7649"/>
                  <a:pt x="10227" y="7640"/>
                </a:cubicBezTo>
                <a:cubicBezTo>
                  <a:pt x="10227" y="7633"/>
                  <a:pt x="10230" y="7624"/>
                  <a:pt x="10230" y="7619"/>
                </a:cubicBezTo>
                <a:cubicBezTo>
                  <a:pt x="10230" y="7612"/>
                  <a:pt x="10232" y="7604"/>
                  <a:pt x="10232" y="7599"/>
                </a:cubicBezTo>
                <a:cubicBezTo>
                  <a:pt x="10232" y="7597"/>
                  <a:pt x="10232" y="7596"/>
                  <a:pt x="10232" y="7594"/>
                </a:cubicBezTo>
                <a:cubicBezTo>
                  <a:pt x="10233" y="7596"/>
                  <a:pt x="10233" y="7596"/>
                  <a:pt x="10234" y="7599"/>
                </a:cubicBezTo>
                <a:cubicBezTo>
                  <a:pt x="10235" y="7604"/>
                  <a:pt x="10237" y="7609"/>
                  <a:pt x="10238" y="7614"/>
                </a:cubicBezTo>
                <a:cubicBezTo>
                  <a:pt x="10240" y="7625"/>
                  <a:pt x="10241" y="7637"/>
                  <a:pt x="10244" y="7648"/>
                </a:cubicBezTo>
                <a:cubicBezTo>
                  <a:pt x="10247" y="7660"/>
                  <a:pt x="10252" y="7671"/>
                  <a:pt x="10256" y="7683"/>
                </a:cubicBezTo>
                <a:cubicBezTo>
                  <a:pt x="10261" y="7697"/>
                  <a:pt x="10266" y="7710"/>
                  <a:pt x="10271" y="7724"/>
                </a:cubicBezTo>
                <a:cubicBezTo>
                  <a:pt x="10277" y="7738"/>
                  <a:pt x="10283" y="7751"/>
                  <a:pt x="10290" y="7764"/>
                </a:cubicBezTo>
                <a:cubicBezTo>
                  <a:pt x="10296" y="7776"/>
                  <a:pt x="10302" y="7788"/>
                  <a:pt x="10310" y="7799"/>
                </a:cubicBezTo>
                <a:cubicBezTo>
                  <a:pt x="10336" y="7836"/>
                  <a:pt x="10367" y="7857"/>
                  <a:pt x="10412" y="7860"/>
                </a:cubicBezTo>
                <a:cubicBezTo>
                  <a:pt x="10429" y="7861"/>
                  <a:pt x="10446" y="7858"/>
                  <a:pt x="10463" y="7857"/>
                </a:cubicBezTo>
                <a:cubicBezTo>
                  <a:pt x="10491" y="7855"/>
                  <a:pt x="10514" y="7846"/>
                  <a:pt x="10540" y="7835"/>
                </a:cubicBezTo>
                <a:cubicBezTo>
                  <a:pt x="10566" y="7824"/>
                  <a:pt x="10593" y="7815"/>
                  <a:pt x="10618" y="7802"/>
                </a:cubicBezTo>
                <a:cubicBezTo>
                  <a:pt x="10624" y="7799"/>
                  <a:pt x="10628" y="7796"/>
                  <a:pt x="10633" y="7793"/>
                </a:cubicBezTo>
                <a:cubicBezTo>
                  <a:pt x="10636" y="7791"/>
                  <a:pt x="10642" y="7789"/>
                  <a:pt x="10643" y="7787"/>
                </a:cubicBezTo>
                <a:cubicBezTo>
                  <a:pt x="10644" y="7786"/>
                  <a:pt x="10649" y="7785"/>
                  <a:pt x="10649" y="7785"/>
                </a:cubicBezTo>
                <a:cubicBezTo>
                  <a:pt x="10651" y="7782"/>
                  <a:pt x="10643" y="7780"/>
                  <a:pt x="10645" y="777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Ink 9"/>
          <p:cNvSpPr/>
          <p:nvPr/>
        </p:nvSpPr>
        <p:spPr>
          <a:xfrm>
            <a:off x="3602160" y="3195720"/>
            <a:ext cx="311040" cy="625320"/>
          </a:xfrm>
          <a:custGeom>
            <a:avLst/>
            <a:gdLst/>
            <a:ahLst/>
            <a:rect l="l" t="t" r="r" b="b"/>
            <a:pathLst>
              <a:path w="866" h="1738">
                <a:moveTo>
                  <a:pt x="10587" y="8921"/>
                </a:moveTo>
                <a:cubicBezTo>
                  <a:pt x="10577" y="8919"/>
                  <a:pt x="10568" y="8918"/>
                  <a:pt x="10558" y="8914"/>
                </a:cubicBezTo>
                <a:cubicBezTo>
                  <a:pt x="10553" y="8912"/>
                  <a:pt x="10550" y="8909"/>
                  <a:pt x="10546" y="8907"/>
                </a:cubicBezTo>
                <a:cubicBezTo>
                  <a:pt x="10542" y="8905"/>
                  <a:pt x="10538" y="8902"/>
                  <a:pt x="10534" y="8900"/>
                </a:cubicBezTo>
                <a:cubicBezTo>
                  <a:pt x="10528" y="8897"/>
                  <a:pt x="10523" y="8894"/>
                  <a:pt x="10517" y="8891"/>
                </a:cubicBezTo>
                <a:cubicBezTo>
                  <a:pt x="10511" y="8888"/>
                  <a:pt x="10504" y="8886"/>
                  <a:pt x="10498" y="8884"/>
                </a:cubicBezTo>
                <a:cubicBezTo>
                  <a:pt x="10491" y="8881"/>
                  <a:pt x="10485" y="8879"/>
                  <a:pt x="10478" y="8878"/>
                </a:cubicBezTo>
                <a:cubicBezTo>
                  <a:pt x="10474" y="8877"/>
                  <a:pt x="10469" y="8877"/>
                  <a:pt x="10465" y="8877"/>
                </a:cubicBezTo>
                <a:cubicBezTo>
                  <a:pt x="10443" y="8875"/>
                  <a:pt x="10420" y="8878"/>
                  <a:pt x="10399" y="8883"/>
                </a:cubicBezTo>
                <a:cubicBezTo>
                  <a:pt x="10391" y="8885"/>
                  <a:pt x="10384" y="8887"/>
                  <a:pt x="10376" y="8890"/>
                </a:cubicBezTo>
                <a:cubicBezTo>
                  <a:pt x="10367" y="8893"/>
                  <a:pt x="10357" y="8896"/>
                  <a:pt x="10349" y="8901"/>
                </a:cubicBezTo>
                <a:cubicBezTo>
                  <a:pt x="10341" y="8905"/>
                  <a:pt x="10334" y="8910"/>
                  <a:pt x="10327" y="8915"/>
                </a:cubicBezTo>
                <a:cubicBezTo>
                  <a:pt x="10320" y="8920"/>
                  <a:pt x="10314" y="8925"/>
                  <a:pt x="10308" y="8931"/>
                </a:cubicBezTo>
                <a:cubicBezTo>
                  <a:pt x="10302" y="8937"/>
                  <a:pt x="10297" y="8945"/>
                  <a:pt x="10292" y="8951"/>
                </a:cubicBezTo>
                <a:cubicBezTo>
                  <a:pt x="10285" y="8959"/>
                  <a:pt x="10281" y="8966"/>
                  <a:pt x="10277" y="8976"/>
                </a:cubicBezTo>
                <a:cubicBezTo>
                  <a:pt x="10271" y="8991"/>
                  <a:pt x="10269" y="9008"/>
                  <a:pt x="10267" y="9024"/>
                </a:cubicBezTo>
                <a:cubicBezTo>
                  <a:pt x="10266" y="9035"/>
                  <a:pt x="10263" y="9049"/>
                  <a:pt x="10263" y="9060"/>
                </a:cubicBezTo>
                <a:cubicBezTo>
                  <a:pt x="10263" y="9073"/>
                  <a:pt x="10265" y="9085"/>
                  <a:pt x="10267" y="9098"/>
                </a:cubicBezTo>
                <a:cubicBezTo>
                  <a:pt x="10270" y="9116"/>
                  <a:pt x="10275" y="9133"/>
                  <a:pt x="10281" y="9150"/>
                </a:cubicBezTo>
                <a:cubicBezTo>
                  <a:pt x="10285" y="9161"/>
                  <a:pt x="10289" y="9170"/>
                  <a:pt x="10296" y="9179"/>
                </a:cubicBezTo>
                <a:cubicBezTo>
                  <a:pt x="10301" y="9186"/>
                  <a:pt x="10309" y="9194"/>
                  <a:pt x="10316" y="9199"/>
                </a:cubicBezTo>
                <a:cubicBezTo>
                  <a:pt x="10323" y="9204"/>
                  <a:pt x="10335" y="9207"/>
                  <a:pt x="10343" y="9208"/>
                </a:cubicBezTo>
                <a:cubicBezTo>
                  <a:pt x="10369" y="9212"/>
                  <a:pt x="10398" y="9196"/>
                  <a:pt x="10418" y="9181"/>
                </a:cubicBezTo>
                <a:cubicBezTo>
                  <a:pt x="10427" y="9174"/>
                  <a:pt x="10437" y="9165"/>
                  <a:pt x="10445" y="9157"/>
                </a:cubicBezTo>
                <a:cubicBezTo>
                  <a:pt x="10466" y="9135"/>
                  <a:pt x="10486" y="9117"/>
                  <a:pt x="10500" y="9090"/>
                </a:cubicBezTo>
                <a:cubicBezTo>
                  <a:pt x="10508" y="9075"/>
                  <a:pt x="10515" y="9059"/>
                  <a:pt x="10523" y="9044"/>
                </a:cubicBezTo>
                <a:cubicBezTo>
                  <a:pt x="10531" y="9028"/>
                  <a:pt x="10537" y="9013"/>
                  <a:pt x="10544" y="8997"/>
                </a:cubicBezTo>
                <a:cubicBezTo>
                  <a:pt x="10549" y="8986"/>
                  <a:pt x="10553" y="8976"/>
                  <a:pt x="10556" y="8964"/>
                </a:cubicBezTo>
                <a:cubicBezTo>
                  <a:pt x="10560" y="8952"/>
                  <a:pt x="10563" y="8938"/>
                  <a:pt x="10567" y="8927"/>
                </a:cubicBezTo>
                <a:cubicBezTo>
                  <a:pt x="10568" y="8924"/>
                  <a:pt x="10573" y="8916"/>
                  <a:pt x="10573" y="8914"/>
                </a:cubicBezTo>
                <a:cubicBezTo>
                  <a:pt x="10573" y="8912"/>
                  <a:pt x="10570" y="8915"/>
                  <a:pt x="10571" y="8913"/>
                </a:cubicBezTo>
                <a:cubicBezTo>
                  <a:pt x="10571" y="8917"/>
                  <a:pt x="10571" y="8925"/>
                  <a:pt x="10571" y="8931"/>
                </a:cubicBezTo>
                <a:cubicBezTo>
                  <a:pt x="10570" y="8957"/>
                  <a:pt x="10571" y="8984"/>
                  <a:pt x="10579" y="9009"/>
                </a:cubicBezTo>
                <a:cubicBezTo>
                  <a:pt x="10585" y="9027"/>
                  <a:pt x="10594" y="9040"/>
                  <a:pt x="10604" y="9056"/>
                </a:cubicBezTo>
                <a:cubicBezTo>
                  <a:pt x="10612" y="9068"/>
                  <a:pt x="10618" y="9081"/>
                  <a:pt x="10627" y="9092"/>
                </a:cubicBezTo>
                <a:cubicBezTo>
                  <a:pt x="10633" y="9099"/>
                  <a:pt x="10641" y="9107"/>
                  <a:pt x="10649" y="9113"/>
                </a:cubicBezTo>
                <a:cubicBezTo>
                  <a:pt x="10656" y="9118"/>
                  <a:pt x="10668" y="9124"/>
                  <a:pt x="10676" y="9128"/>
                </a:cubicBezTo>
                <a:cubicBezTo>
                  <a:pt x="10687" y="9133"/>
                  <a:pt x="10700" y="9138"/>
                  <a:pt x="10711" y="9141"/>
                </a:cubicBezTo>
                <a:cubicBezTo>
                  <a:pt x="10723" y="9145"/>
                  <a:pt x="10736" y="9146"/>
                  <a:pt x="10749" y="9147"/>
                </a:cubicBezTo>
                <a:cubicBezTo>
                  <a:pt x="10758" y="9147"/>
                  <a:pt x="10767" y="9149"/>
                  <a:pt x="10776" y="9148"/>
                </a:cubicBezTo>
                <a:cubicBezTo>
                  <a:pt x="10784" y="9147"/>
                  <a:pt x="10790" y="9145"/>
                  <a:pt x="10798" y="9144"/>
                </a:cubicBezTo>
                <a:cubicBezTo>
                  <a:pt x="10811" y="9142"/>
                  <a:pt x="10823" y="9138"/>
                  <a:pt x="10833" y="9128"/>
                </a:cubicBezTo>
                <a:cubicBezTo>
                  <a:pt x="10837" y="9124"/>
                  <a:pt x="10842" y="9118"/>
                  <a:pt x="10846" y="9113"/>
                </a:cubicBezTo>
                <a:cubicBezTo>
                  <a:pt x="10849" y="9109"/>
                  <a:pt x="10853" y="9103"/>
                  <a:pt x="10856" y="9098"/>
                </a:cubicBezTo>
                <a:cubicBezTo>
                  <a:pt x="10859" y="9092"/>
                  <a:pt x="10861" y="9086"/>
                  <a:pt x="10864" y="9080"/>
                </a:cubicBezTo>
                <a:cubicBezTo>
                  <a:pt x="10866" y="9076"/>
                  <a:pt x="10868" y="9073"/>
                  <a:pt x="10869" y="9069"/>
                </a:cubicBezTo>
                <a:cubicBezTo>
                  <a:pt x="10870" y="9065"/>
                  <a:pt x="10869" y="9060"/>
                  <a:pt x="10869" y="9058"/>
                </a:cubicBezTo>
              </a:path>
              <a:path w="866" h="1738">
                <a:moveTo>
                  <a:pt x="10006" y="9413"/>
                </a:moveTo>
                <a:cubicBezTo>
                  <a:pt x="10007" y="9410"/>
                  <a:pt x="10005" y="9409"/>
                  <a:pt x="10006" y="9406"/>
                </a:cubicBezTo>
                <a:cubicBezTo>
                  <a:pt x="10007" y="9404"/>
                  <a:pt x="10009" y="9401"/>
                  <a:pt x="10010" y="9399"/>
                </a:cubicBezTo>
                <a:cubicBezTo>
                  <a:pt x="10011" y="9401"/>
                  <a:pt x="10013" y="9400"/>
                  <a:pt x="10014" y="9402"/>
                </a:cubicBezTo>
                <a:cubicBezTo>
                  <a:pt x="10022" y="9412"/>
                  <a:pt x="10030" y="9423"/>
                  <a:pt x="10037" y="9435"/>
                </a:cubicBezTo>
                <a:cubicBezTo>
                  <a:pt x="10043" y="9446"/>
                  <a:pt x="10050" y="9455"/>
                  <a:pt x="10056" y="9466"/>
                </a:cubicBezTo>
                <a:cubicBezTo>
                  <a:pt x="10063" y="9479"/>
                  <a:pt x="10068" y="9494"/>
                  <a:pt x="10074" y="9508"/>
                </a:cubicBezTo>
                <a:cubicBezTo>
                  <a:pt x="10082" y="9524"/>
                  <a:pt x="10089" y="9540"/>
                  <a:pt x="10095" y="9557"/>
                </a:cubicBezTo>
                <a:cubicBezTo>
                  <a:pt x="10103" y="9582"/>
                  <a:pt x="10111" y="9606"/>
                  <a:pt x="10118" y="9631"/>
                </a:cubicBezTo>
                <a:cubicBezTo>
                  <a:pt x="10123" y="9648"/>
                  <a:pt x="10126" y="9664"/>
                  <a:pt x="10130" y="9681"/>
                </a:cubicBezTo>
                <a:cubicBezTo>
                  <a:pt x="10134" y="9697"/>
                  <a:pt x="10138" y="9713"/>
                  <a:pt x="10141" y="9730"/>
                </a:cubicBezTo>
                <a:cubicBezTo>
                  <a:pt x="10145" y="9752"/>
                  <a:pt x="10147" y="9775"/>
                  <a:pt x="10151" y="9797"/>
                </a:cubicBezTo>
                <a:cubicBezTo>
                  <a:pt x="10155" y="9821"/>
                  <a:pt x="10160" y="9847"/>
                  <a:pt x="10167" y="9870"/>
                </a:cubicBezTo>
                <a:cubicBezTo>
                  <a:pt x="10168" y="9875"/>
                  <a:pt x="10171" y="9879"/>
                  <a:pt x="10172" y="9884"/>
                </a:cubicBezTo>
                <a:cubicBezTo>
                  <a:pt x="10172" y="9886"/>
                  <a:pt x="10172" y="9888"/>
                  <a:pt x="10172" y="9890"/>
                </a:cubicBezTo>
                <a:cubicBezTo>
                  <a:pt x="10171" y="9887"/>
                  <a:pt x="10171" y="9884"/>
                  <a:pt x="10170" y="9880"/>
                </a:cubicBezTo>
                <a:cubicBezTo>
                  <a:pt x="10167" y="9870"/>
                  <a:pt x="10165" y="9861"/>
                  <a:pt x="10163" y="9851"/>
                </a:cubicBezTo>
                <a:cubicBezTo>
                  <a:pt x="10159" y="9832"/>
                  <a:pt x="10154" y="9813"/>
                  <a:pt x="10153" y="9793"/>
                </a:cubicBezTo>
                <a:cubicBezTo>
                  <a:pt x="10151" y="9763"/>
                  <a:pt x="10152" y="9730"/>
                  <a:pt x="10161" y="9701"/>
                </a:cubicBezTo>
                <a:cubicBezTo>
                  <a:pt x="10166" y="9682"/>
                  <a:pt x="10175" y="9664"/>
                  <a:pt x="10184" y="9647"/>
                </a:cubicBezTo>
                <a:cubicBezTo>
                  <a:pt x="10193" y="9631"/>
                  <a:pt x="10204" y="9614"/>
                  <a:pt x="10217" y="9602"/>
                </a:cubicBezTo>
                <a:cubicBezTo>
                  <a:pt x="10224" y="9595"/>
                  <a:pt x="10235" y="9587"/>
                  <a:pt x="10244" y="9583"/>
                </a:cubicBezTo>
                <a:cubicBezTo>
                  <a:pt x="10258" y="9577"/>
                  <a:pt x="10274" y="9580"/>
                  <a:pt x="10287" y="9586"/>
                </a:cubicBezTo>
                <a:cubicBezTo>
                  <a:pt x="10301" y="9592"/>
                  <a:pt x="10313" y="9603"/>
                  <a:pt x="10323" y="9614"/>
                </a:cubicBezTo>
                <a:cubicBezTo>
                  <a:pt x="10336" y="9627"/>
                  <a:pt x="10351" y="9645"/>
                  <a:pt x="10358" y="9662"/>
                </a:cubicBezTo>
                <a:cubicBezTo>
                  <a:pt x="10368" y="9687"/>
                  <a:pt x="10369" y="9714"/>
                  <a:pt x="10356" y="9738"/>
                </a:cubicBezTo>
                <a:cubicBezTo>
                  <a:pt x="10349" y="9751"/>
                  <a:pt x="10339" y="9765"/>
                  <a:pt x="10329" y="9776"/>
                </a:cubicBezTo>
                <a:cubicBezTo>
                  <a:pt x="10318" y="9788"/>
                  <a:pt x="10303" y="9800"/>
                  <a:pt x="10290" y="9808"/>
                </a:cubicBezTo>
                <a:cubicBezTo>
                  <a:pt x="10273" y="9819"/>
                  <a:pt x="10257" y="9821"/>
                  <a:pt x="10238" y="9826"/>
                </a:cubicBezTo>
                <a:cubicBezTo>
                  <a:pt x="10226" y="9829"/>
                  <a:pt x="10215" y="9830"/>
                  <a:pt x="10203" y="9833"/>
                </a:cubicBezTo>
                <a:cubicBezTo>
                  <a:pt x="10194" y="9835"/>
                  <a:pt x="10185" y="9836"/>
                  <a:pt x="10176" y="9838"/>
                </a:cubicBezTo>
                <a:cubicBezTo>
                  <a:pt x="10170" y="9839"/>
                  <a:pt x="10163" y="9841"/>
                  <a:pt x="10157" y="9842"/>
                </a:cubicBezTo>
                <a:cubicBezTo>
                  <a:pt x="10152" y="9843"/>
                  <a:pt x="10145" y="9842"/>
                  <a:pt x="10141" y="9842"/>
                </a:cubicBezTo>
                <a:cubicBezTo>
                  <a:pt x="10138" y="9842"/>
                  <a:pt x="10135" y="9842"/>
                  <a:pt x="10132" y="9842"/>
                </a:cubicBezTo>
              </a:path>
              <a:path w="866" h="1738">
                <a:moveTo>
                  <a:pt x="10788" y="10273"/>
                </a:moveTo>
                <a:cubicBezTo>
                  <a:pt x="10786" y="10271"/>
                  <a:pt x="10785" y="10267"/>
                  <a:pt x="10782" y="10264"/>
                </a:cubicBezTo>
                <a:cubicBezTo>
                  <a:pt x="10778" y="10260"/>
                  <a:pt x="10775" y="10259"/>
                  <a:pt x="10771" y="10256"/>
                </a:cubicBezTo>
                <a:cubicBezTo>
                  <a:pt x="10767" y="10253"/>
                  <a:pt x="10765" y="10251"/>
                  <a:pt x="10761" y="10248"/>
                </a:cubicBezTo>
                <a:cubicBezTo>
                  <a:pt x="10757" y="10245"/>
                  <a:pt x="10752" y="10240"/>
                  <a:pt x="10747" y="10238"/>
                </a:cubicBezTo>
                <a:cubicBezTo>
                  <a:pt x="10741" y="10235"/>
                  <a:pt x="10732" y="10233"/>
                  <a:pt x="10726" y="10231"/>
                </a:cubicBezTo>
                <a:cubicBezTo>
                  <a:pt x="10715" y="10228"/>
                  <a:pt x="10702" y="10225"/>
                  <a:pt x="10691" y="10224"/>
                </a:cubicBezTo>
                <a:cubicBezTo>
                  <a:pt x="10684" y="10223"/>
                  <a:pt x="10676" y="10222"/>
                  <a:pt x="10668" y="10222"/>
                </a:cubicBezTo>
                <a:cubicBezTo>
                  <a:pt x="10654" y="10222"/>
                  <a:pt x="10640" y="10224"/>
                  <a:pt x="10627" y="10227"/>
                </a:cubicBezTo>
                <a:cubicBezTo>
                  <a:pt x="10616" y="10229"/>
                  <a:pt x="10605" y="10233"/>
                  <a:pt x="10594" y="10235"/>
                </a:cubicBezTo>
                <a:cubicBezTo>
                  <a:pt x="10584" y="10237"/>
                  <a:pt x="10578" y="10239"/>
                  <a:pt x="10569" y="10244"/>
                </a:cubicBezTo>
                <a:cubicBezTo>
                  <a:pt x="10559" y="10249"/>
                  <a:pt x="10557" y="10254"/>
                  <a:pt x="10550" y="10262"/>
                </a:cubicBezTo>
                <a:cubicBezTo>
                  <a:pt x="10542" y="10270"/>
                  <a:pt x="10534" y="10279"/>
                  <a:pt x="10527" y="10288"/>
                </a:cubicBezTo>
                <a:cubicBezTo>
                  <a:pt x="10514" y="10306"/>
                  <a:pt x="10505" y="10328"/>
                  <a:pt x="10498" y="10348"/>
                </a:cubicBezTo>
                <a:cubicBezTo>
                  <a:pt x="10495" y="10355"/>
                  <a:pt x="10492" y="10363"/>
                  <a:pt x="10490" y="10370"/>
                </a:cubicBezTo>
                <a:cubicBezTo>
                  <a:pt x="10488" y="10378"/>
                  <a:pt x="10485" y="10385"/>
                  <a:pt x="10484" y="10393"/>
                </a:cubicBezTo>
                <a:cubicBezTo>
                  <a:pt x="10482" y="10416"/>
                  <a:pt x="10486" y="10440"/>
                  <a:pt x="10492" y="10462"/>
                </a:cubicBezTo>
                <a:cubicBezTo>
                  <a:pt x="10497" y="10480"/>
                  <a:pt x="10504" y="10498"/>
                  <a:pt x="10513" y="10515"/>
                </a:cubicBezTo>
                <a:cubicBezTo>
                  <a:pt x="10527" y="10542"/>
                  <a:pt x="10546" y="10572"/>
                  <a:pt x="10571" y="10588"/>
                </a:cubicBezTo>
                <a:cubicBezTo>
                  <a:pt x="10588" y="10599"/>
                  <a:pt x="10605" y="10608"/>
                  <a:pt x="10625" y="10612"/>
                </a:cubicBezTo>
                <a:cubicBezTo>
                  <a:pt x="10640" y="10615"/>
                  <a:pt x="10655" y="10614"/>
                  <a:pt x="10670" y="10612"/>
                </a:cubicBezTo>
                <a:cubicBezTo>
                  <a:pt x="10683" y="10610"/>
                  <a:pt x="10696" y="10605"/>
                  <a:pt x="10709" y="10601"/>
                </a:cubicBezTo>
                <a:cubicBezTo>
                  <a:pt x="10722" y="10597"/>
                  <a:pt x="10737" y="10591"/>
                  <a:pt x="10749" y="10585"/>
                </a:cubicBezTo>
                <a:cubicBezTo>
                  <a:pt x="10761" y="10579"/>
                  <a:pt x="10773" y="10572"/>
                  <a:pt x="10784" y="10565"/>
                </a:cubicBezTo>
                <a:cubicBezTo>
                  <a:pt x="10792" y="10560"/>
                  <a:pt x="10800" y="10555"/>
                  <a:pt x="10807" y="10550"/>
                </a:cubicBezTo>
                <a:cubicBezTo>
                  <a:pt x="10811" y="10547"/>
                  <a:pt x="10817" y="10545"/>
                  <a:pt x="10821" y="10542"/>
                </a:cubicBezTo>
                <a:cubicBezTo>
                  <a:pt x="10824" y="10540"/>
                  <a:pt x="10828" y="10536"/>
                  <a:pt x="10831" y="10534"/>
                </a:cubicBezTo>
                <a:cubicBezTo>
                  <a:pt x="10834" y="10532"/>
                  <a:pt x="10835" y="10530"/>
                  <a:pt x="10838" y="10528"/>
                </a:cubicBezTo>
                <a:cubicBezTo>
                  <a:pt x="10841" y="10526"/>
                  <a:pt x="10844" y="10525"/>
                  <a:pt x="10846" y="10522"/>
                </a:cubicBezTo>
                <a:cubicBezTo>
                  <a:pt x="10847" y="10520"/>
                  <a:pt x="10847" y="10520"/>
                  <a:pt x="10848" y="10516"/>
                </a:cubicBezTo>
                <a:cubicBezTo>
                  <a:pt x="10849" y="10514"/>
                  <a:pt x="10848" y="10510"/>
                  <a:pt x="10848" y="1050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Ink 10"/>
          <p:cNvSpPr/>
          <p:nvPr/>
        </p:nvSpPr>
        <p:spPr>
          <a:xfrm>
            <a:off x="2957400" y="1681200"/>
            <a:ext cx="878040" cy="270000"/>
          </a:xfrm>
          <a:custGeom>
            <a:avLst/>
            <a:gdLst/>
            <a:ahLst/>
            <a:rect l="l" t="t" r="r" b="b"/>
            <a:pathLst>
              <a:path w="2437" h="749">
                <a:moveTo>
                  <a:pt x="8219" y="4773"/>
                </a:moveTo>
                <a:cubicBezTo>
                  <a:pt x="8217" y="4773"/>
                  <a:pt x="8216" y="4773"/>
                  <a:pt x="8215" y="4773"/>
                </a:cubicBezTo>
                <a:cubicBezTo>
                  <a:pt x="8216" y="4773"/>
                  <a:pt x="8213" y="4775"/>
                  <a:pt x="8217" y="4776"/>
                </a:cubicBezTo>
                <a:cubicBezTo>
                  <a:pt x="8218" y="4776"/>
                  <a:pt x="8218" y="4781"/>
                  <a:pt x="8221" y="4781"/>
                </a:cubicBezTo>
                <a:cubicBezTo>
                  <a:pt x="8229" y="4781"/>
                  <a:pt x="8236" y="4779"/>
                  <a:pt x="8244" y="4778"/>
                </a:cubicBezTo>
                <a:cubicBezTo>
                  <a:pt x="8251" y="4777"/>
                  <a:pt x="8258" y="4775"/>
                  <a:pt x="8265" y="4774"/>
                </a:cubicBezTo>
                <a:cubicBezTo>
                  <a:pt x="8315" y="4768"/>
                  <a:pt x="8367" y="4763"/>
                  <a:pt x="8418" y="4762"/>
                </a:cubicBezTo>
                <a:cubicBezTo>
                  <a:pt x="8443" y="4761"/>
                  <a:pt x="8467" y="4760"/>
                  <a:pt x="8492" y="4759"/>
                </a:cubicBezTo>
                <a:cubicBezTo>
                  <a:pt x="8527" y="4758"/>
                  <a:pt x="8561" y="4754"/>
                  <a:pt x="8596" y="4752"/>
                </a:cubicBezTo>
                <a:cubicBezTo>
                  <a:pt x="8652" y="4748"/>
                  <a:pt x="8709" y="4740"/>
                  <a:pt x="8765" y="4737"/>
                </a:cubicBezTo>
                <a:cubicBezTo>
                  <a:pt x="8823" y="4734"/>
                  <a:pt x="8881" y="4733"/>
                  <a:pt x="8939" y="4727"/>
                </a:cubicBezTo>
                <a:cubicBezTo>
                  <a:pt x="8972" y="4724"/>
                  <a:pt x="9005" y="4719"/>
                  <a:pt x="9038" y="4717"/>
                </a:cubicBezTo>
                <a:cubicBezTo>
                  <a:pt x="9093" y="4714"/>
                  <a:pt x="9147" y="4709"/>
                  <a:pt x="9202" y="4705"/>
                </a:cubicBezTo>
                <a:cubicBezTo>
                  <a:pt x="9225" y="4703"/>
                  <a:pt x="9247" y="4701"/>
                  <a:pt x="9270" y="4699"/>
                </a:cubicBezTo>
                <a:cubicBezTo>
                  <a:pt x="9292" y="4697"/>
                  <a:pt x="9314" y="4694"/>
                  <a:pt x="9336" y="4693"/>
                </a:cubicBezTo>
                <a:cubicBezTo>
                  <a:pt x="9375" y="4690"/>
                  <a:pt x="9415" y="4688"/>
                  <a:pt x="9454" y="4685"/>
                </a:cubicBezTo>
                <a:cubicBezTo>
                  <a:pt x="9489" y="4683"/>
                  <a:pt x="9524" y="4682"/>
                  <a:pt x="9559" y="4680"/>
                </a:cubicBezTo>
                <a:cubicBezTo>
                  <a:pt x="9584" y="4679"/>
                  <a:pt x="9609" y="4676"/>
                  <a:pt x="9634" y="4674"/>
                </a:cubicBezTo>
                <a:cubicBezTo>
                  <a:pt x="9641" y="4673"/>
                  <a:pt x="9648" y="4673"/>
                  <a:pt x="9655" y="4672"/>
                </a:cubicBezTo>
                <a:cubicBezTo>
                  <a:pt x="9657" y="4672"/>
                  <a:pt x="9662" y="4670"/>
                  <a:pt x="9663" y="4670"/>
                </a:cubicBezTo>
                <a:cubicBezTo>
                  <a:pt x="9663" y="4670"/>
                  <a:pt x="9663" y="4669"/>
                  <a:pt x="9663" y="4669"/>
                </a:cubicBezTo>
              </a:path>
              <a:path w="2437" h="749">
                <a:moveTo>
                  <a:pt x="9278" y="5399"/>
                </a:moveTo>
                <a:cubicBezTo>
                  <a:pt x="9280" y="5400"/>
                  <a:pt x="9281" y="5405"/>
                  <a:pt x="9282" y="5405"/>
                </a:cubicBezTo>
                <a:cubicBezTo>
                  <a:pt x="9286" y="5407"/>
                  <a:pt x="9290" y="5408"/>
                  <a:pt x="9295" y="5410"/>
                </a:cubicBezTo>
                <a:cubicBezTo>
                  <a:pt x="9299" y="5411"/>
                  <a:pt x="9304" y="5413"/>
                  <a:pt x="9309" y="5414"/>
                </a:cubicBezTo>
                <a:cubicBezTo>
                  <a:pt x="9337" y="5419"/>
                  <a:pt x="9368" y="5418"/>
                  <a:pt x="9396" y="5417"/>
                </a:cubicBezTo>
                <a:cubicBezTo>
                  <a:pt x="9416" y="5416"/>
                  <a:pt x="9436" y="5415"/>
                  <a:pt x="9456" y="5414"/>
                </a:cubicBezTo>
                <a:cubicBezTo>
                  <a:pt x="9470" y="5413"/>
                  <a:pt x="9483" y="5411"/>
                  <a:pt x="9497" y="5410"/>
                </a:cubicBezTo>
                <a:cubicBezTo>
                  <a:pt x="9537" y="5407"/>
                  <a:pt x="9577" y="5402"/>
                  <a:pt x="9617" y="5397"/>
                </a:cubicBezTo>
                <a:cubicBezTo>
                  <a:pt x="9645" y="5393"/>
                  <a:pt x="9672" y="5389"/>
                  <a:pt x="9700" y="5387"/>
                </a:cubicBezTo>
                <a:cubicBezTo>
                  <a:pt x="9712" y="5386"/>
                  <a:pt x="9723" y="5385"/>
                  <a:pt x="9735" y="5384"/>
                </a:cubicBezTo>
                <a:cubicBezTo>
                  <a:pt x="9761" y="5382"/>
                  <a:pt x="9788" y="5383"/>
                  <a:pt x="9814" y="5381"/>
                </a:cubicBezTo>
                <a:cubicBezTo>
                  <a:pt x="9853" y="5378"/>
                  <a:pt x="9891" y="5373"/>
                  <a:pt x="9930" y="5372"/>
                </a:cubicBezTo>
                <a:cubicBezTo>
                  <a:pt x="9966" y="5371"/>
                  <a:pt x="10003" y="5371"/>
                  <a:pt x="10039" y="5370"/>
                </a:cubicBezTo>
                <a:cubicBezTo>
                  <a:pt x="10056" y="5370"/>
                  <a:pt x="10072" y="5367"/>
                  <a:pt x="10089" y="5367"/>
                </a:cubicBezTo>
                <a:cubicBezTo>
                  <a:pt x="10188" y="5364"/>
                  <a:pt x="10286" y="5357"/>
                  <a:pt x="10385" y="5353"/>
                </a:cubicBezTo>
                <a:cubicBezTo>
                  <a:pt x="10430" y="5351"/>
                  <a:pt x="10476" y="5352"/>
                  <a:pt x="10521" y="5353"/>
                </a:cubicBezTo>
                <a:cubicBezTo>
                  <a:pt x="10547" y="5353"/>
                  <a:pt x="10572" y="5355"/>
                  <a:pt x="10598" y="5356"/>
                </a:cubicBezTo>
                <a:cubicBezTo>
                  <a:pt x="10611" y="5356"/>
                  <a:pt x="10628" y="5359"/>
                  <a:pt x="10641" y="5357"/>
                </a:cubicBezTo>
                <a:cubicBezTo>
                  <a:pt x="10645" y="5356"/>
                  <a:pt x="10647" y="5356"/>
                  <a:pt x="10651" y="5355"/>
                </a:cubicBezTo>
                <a:cubicBezTo>
                  <a:pt x="10649" y="5353"/>
                  <a:pt x="10648" y="5352"/>
                  <a:pt x="10645" y="535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Ink 11"/>
          <p:cNvSpPr/>
          <p:nvPr/>
        </p:nvSpPr>
        <p:spPr>
          <a:xfrm>
            <a:off x="3030480" y="2162160"/>
            <a:ext cx="447840" cy="25560"/>
          </a:xfrm>
          <a:custGeom>
            <a:avLst/>
            <a:gdLst/>
            <a:ahLst/>
            <a:rect l="l" t="t" r="r" b="b"/>
            <a:pathLst>
              <a:path w="1246" h="72">
                <a:moveTo>
                  <a:pt x="8420" y="6013"/>
                </a:moveTo>
                <a:cubicBezTo>
                  <a:pt x="8418" y="6018"/>
                  <a:pt x="8418" y="6019"/>
                  <a:pt x="8418" y="6020"/>
                </a:cubicBezTo>
                <a:cubicBezTo>
                  <a:pt x="8417" y="6022"/>
                  <a:pt x="8417" y="6024"/>
                  <a:pt x="8416" y="6026"/>
                </a:cubicBezTo>
                <a:cubicBezTo>
                  <a:pt x="8417" y="6027"/>
                  <a:pt x="8421" y="6029"/>
                  <a:pt x="8422" y="6030"/>
                </a:cubicBezTo>
                <a:cubicBezTo>
                  <a:pt x="8423" y="6031"/>
                  <a:pt x="8426" y="6034"/>
                  <a:pt x="8428" y="6036"/>
                </a:cubicBezTo>
                <a:cubicBezTo>
                  <a:pt x="8431" y="6039"/>
                  <a:pt x="8429" y="6041"/>
                  <a:pt x="8434" y="6045"/>
                </a:cubicBezTo>
                <a:cubicBezTo>
                  <a:pt x="8440" y="6050"/>
                  <a:pt x="8446" y="6053"/>
                  <a:pt x="8453" y="6057"/>
                </a:cubicBezTo>
                <a:cubicBezTo>
                  <a:pt x="8460" y="6060"/>
                  <a:pt x="8469" y="6063"/>
                  <a:pt x="8476" y="6065"/>
                </a:cubicBezTo>
                <a:cubicBezTo>
                  <a:pt x="8493" y="6070"/>
                  <a:pt x="8511" y="6072"/>
                  <a:pt x="8529" y="6074"/>
                </a:cubicBezTo>
                <a:cubicBezTo>
                  <a:pt x="8544" y="6076"/>
                  <a:pt x="8560" y="6077"/>
                  <a:pt x="8575" y="6076"/>
                </a:cubicBezTo>
                <a:cubicBezTo>
                  <a:pt x="8598" y="6075"/>
                  <a:pt x="8622" y="6073"/>
                  <a:pt x="8645" y="6072"/>
                </a:cubicBezTo>
                <a:cubicBezTo>
                  <a:pt x="8675" y="6071"/>
                  <a:pt x="8704" y="6068"/>
                  <a:pt x="8734" y="6066"/>
                </a:cubicBezTo>
                <a:cubicBezTo>
                  <a:pt x="8777" y="6062"/>
                  <a:pt x="8819" y="6058"/>
                  <a:pt x="8862" y="6053"/>
                </a:cubicBezTo>
                <a:cubicBezTo>
                  <a:pt x="8994" y="6037"/>
                  <a:pt x="9125" y="6023"/>
                  <a:pt x="9257" y="6010"/>
                </a:cubicBezTo>
                <a:cubicBezTo>
                  <a:pt x="9312" y="6005"/>
                  <a:pt x="9367" y="6005"/>
                  <a:pt x="9423" y="6007"/>
                </a:cubicBezTo>
                <a:cubicBezTo>
                  <a:pt x="9475" y="6009"/>
                  <a:pt x="9526" y="6010"/>
                  <a:pt x="9578" y="6012"/>
                </a:cubicBezTo>
                <a:cubicBezTo>
                  <a:pt x="9593" y="6013"/>
                  <a:pt x="9609" y="6012"/>
                  <a:pt x="9624" y="6012"/>
                </a:cubicBezTo>
                <a:cubicBezTo>
                  <a:pt x="9633" y="6012"/>
                  <a:pt x="9641" y="6013"/>
                  <a:pt x="9650" y="6012"/>
                </a:cubicBezTo>
                <a:cubicBezTo>
                  <a:pt x="9654" y="6012"/>
                  <a:pt x="9655" y="6009"/>
                  <a:pt x="9659" y="6009"/>
                </a:cubicBezTo>
                <a:cubicBezTo>
                  <a:pt x="9659" y="6010"/>
                  <a:pt x="9659" y="6011"/>
                  <a:pt x="9661" y="6010"/>
                </a:cubicBezTo>
              </a:path>
            </a:pathLst>
          </a:custGeom>
          <a:noFill/>
          <a:ln cap="rnd" w="19080">
            <a:solidFill>
              <a:srgbClr val="ff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3" name="Ink 12"/>
          <p:cNvSpPr/>
          <p:nvPr/>
        </p:nvSpPr>
        <p:spPr>
          <a:xfrm>
            <a:off x="2543040" y="2351160"/>
            <a:ext cx="1125720" cy="544320"/>
          </a:xfrm>
          <a:custGeom>
            <a:avLst/>
            <a:gdLst/>
            <a:ahLst/>
            <a:rect l="l" t="t" r="r" b="b"/>
            <a:pathLst>
              <a:path w="3124" h="1510">
                <a:moveTo>
                  <a:pt x="7067" y="6683"/>
                </a:moveTo>
                <a:cubicBezTo>
                  <a:pt x="7067" y="6680"/>
                  <a:pt x="7065" y="6680"/>
                  <a:pt x="7065" y="6676"/>
                </a:cubicBezTo>
                <a:cubicBezTo>
                  <a:pt x="7065" y="6672"/>
                  <a:pt x="7064" y="6670"/>
                  <a:pt x="7065" y="6666"/>
                </a:cubicBezTo>
                <a:cubicBezTo>
                  <a:pt x="7066" y="6662"/>
                  <a:pt x="7068" y="6659"/>
                  <a:pt x="7069" y="6655"/>
                </a:cubicBezTo>
                <a:cubicBezTo>
                  <a:pt x="7071" y="6656"/>
                  <a:pt x="7065" y="6652"/>
                  <a:pt x="7067" y="6653"/>
                </a:cubicBezTo>
                <a:cubicBezTo>
                  <a:pt x="7070" y="6654"/>
                  <a:pt x="7070" y="6656"/>
                  <a:pt x="7073" y="6657"/>
                </a:cubicBezTo>
                <a:cubicBezTo>
                  <a:pt x="7075" y="6658"/>
                  <a:pt x="7079" y="6661"/>
                  <a:pt x="7082" y="6662"/>
                </a:cubicBezTo>
                <a:cubicBezTo>
                  <a:pt x="7088" y="6663"/>
                  <a:pt x="7092" y="6663"/>
                  <a:pt x="7098" y="6664"/>
                </a:cubicBezTo>
                <a:cubicBezTo>
                  <a:pt x="7105" y="6665"/>
                  <a:pt x="7114" y="6664"/>
                  <a:pt x="7121" y="6664"/>
                </a:cubicBezTo>
                <a:cubicBezTo>
                  <a:pt x="7173" y="6664"/>
                  <a:pt x="7226" y="6657"/>
                  <a:pt x="7278" y="6652"/>
                </a:cubicBezTo>
                <a:cubicBezTo>
                  <a:pt x="7321" y="6648"/>
                  <a:pt x="7363" y="6642"/>
                  <a:pt x="7406" y="6636"/>
                </a:cubicBezTo>
                <a:cubicBezTo>
                  <a:pt x="7435" y="6632"/>
                  <a:pt x="7464" y="6627"/>
                  <a:pt x="7493" y="6624"/>
                </a:cubicBezTo>
                <a:cubicBezTo>
                  <a:pt x="7583" y="6613"/>
                  <a:pt x="7674" y="6608"/>
                  <a:pt x="7764" y="6595"/>
                </a:cubicBezTo>
                <a:cubicBezTo>
                  <a:pt x="7858" y="6582"/>
                  <a:pt x="7953" y="6573"/>
                  <a:pt x="8048" y="6571"/>
                </a:cubicBezTo>
                <a:cubicBezTo>
                  <a:pt x="8100" y="6570"/>
                  <a:pt x="8153" y="6571"/>
                  <a:pt x="8205" y="6567"/>
                </a:cubicBezTo>
                <a:cubicBezTo>
                  <a:pt x="8243" y="6564"/>
                  <a:pt x="8281" y="6560"/>
                  <a:pt x="8319" y="6555"/>
                </a:cubicBezTo>
                <a:cubicBezTo>
                  <a:pt x="8347" y="6551"/>
                  <a:pt x="8377" y="6548"/>
                  <a:pt x="8405" y="6543"/>
                </a:cubicBezTo>
                <a:cubicBezTo>
                  <a:pt x="8416" y="6541"/>
                  <a:pt x="8427" y="6537"/>
                  <a:pt x="8436" y="6534"/>
                </a:cubicBezTo>
                <a:cubicBezTo>
                  <a:pt x="8435" y="6534"/>
                  <a:pt x="8433" y="6533"/>
                  <a:pt x="8432" y="6533"/>
                </a:cubicBezTo>
              </a:path>
              <a:path w="3124" h="1510">
                <a:moveTo>
                  <a:pt x="8190" y="7380"/>
                </a:moveTo>
                <a:cubicBezTo>
                  <a:pt x="8187" y="7379"/>
                  <a:pt x="8186" y="7377"/>
                  <a:pt x="8182" y="7376"/>
                </a:cubicBezTo>
                <a:cubicBezTo>
                  <a:pt x="8179" y="7375"/>
                  <a:pt x="8174" y="7373"/>
                  <a:pt x="8172" y="7372"/>
                </a:cubicBezTo>
                <a:cubicBezTo>
                  <a:pt x="8169" y="7371"/>
                  <a:pt x="8169" y="7373"/>
                  <a:pt x="8165" y="7372"/>
                </a:cubicBezTo>
                <a:cubicBezTo>
                  <a:pt x="8166" y="7372"/>
                  <a:pt x="8168" y="7375"/>
                  <a:pt x="8170" y="7376"/>
                </a:cubicBezTo>
                <a:cubicBezTo>
                  <a:pt x="8175" y="7378"/>
                  <a:pt x="8180" y="7382"/>
                  <a:pt x="8186" y="7383"/>
                </a:cubicBezTo>
                <a:cubicBezTo>
                  <a:pt x="8229" y="7393"/>
                  <a:pt x="8280" y="7381"/>
                  <a:pt x="8323" y="7377"/>
                </a:cubicBezTo>
                <a:cubicBezTo>
                  <a:pt x="8356" y="7374"/>
                  <a:pt x="8389" y="7369"/>
                  <a:pt x="8422" y="7365"/>
                </a:cubicBezTo>
                <a:cubicBezTo>
                  <a:pt x="8516" y="7354"/>
                  <a:pt x="8609" y="7336"/>
                  <a:pt x="8703" y="7320"/>
                </a:cubicBezTo>
                <a:cubicBezTo>
                  <a:pt x="8741" y="7314"/>
                  <a:pt x="8779" y="7305"/>
                  <a:pt x="8817" y="7300"/>
                </a:cubicBezTo>
                <a:cubicBezTo>
                  <a:pt x="8896" y="7289"/>
                  <a:pt x="8977" y="7277"/>
                  <a:pt x="9057" y="7273"/>
                </a:cubicBezTo>
                <a:cubicBezTo>
                  <a:pt x="9088" y="7271"/>
                  <a:pt x="9119" y="7270"/>
                  <a:pt x="9150" y="7269"/>
                </a:cubicBezTo>
                <a:cubicBezTo>
                  <a:pt x="9170" y="7269"/>
                  <a:pt x="9190" y="7267"/>
                  <a:pt x="9210" y="7265"/>
                </a:cubicBezTo>
                <a:cubicBezTo>
                  <a:pt x="9259" y="7261"/>
                  <a:pt x="9308" y="7257"/>
                  <a:pt x="9357" y="7251"/>
                </a:cubicBezTo>
                <a:cubicBezTo>
                  <a:pt x="9414" y="7244"/>
                  <a:pt x="9471" y="7238"/>
                  <a:pt x="9528" y="7230"/>
                </a:cubicBezTo>
                <a:cubicBezTo>
                  <a:pt x="9546" y="7228"/>
                  <a:pt x="9565" y="7226"/>
                  <a:pt x="9582" y="7222"/>
                </a:cubicBezTo>
                <a:cubicBezTo>
                  <a:pt x="9587" y="7221"/>
                  <a:pt x="9591" y="7217"/>
                  <a:pt x="9595" y="7216"/>
                </a:cubicBezTo>
              </a:path>
              <a:path w="3124" h="1510">
                <a:moveTo>
                  <a:pt x="8978" y="8017"/>
                </a:moveTo>
                <a:cubicBezTo>
                  <a:pt x="8980" y="8018"/>
                  <a:pt x="8980" y="8020"/>
                  <a:pt x="8982" y="8020"/>
                </a:cubicBezTo>
                <a:cubicBezTo>
                  <a:pt x="8998" y="8023"/>
                  <a:pt x="9014" y="8026"/>
                  <a:pt x="9030" y="8028"/>
                </a:cubicBezTo>
                <a:cubicBezTo>
                  <a:pt x="9053" y="8031"/>
                  <a:pt x="9075" y="8033"/>
                  <a:pt x="9098" y="8035"/>
                </a:cubicBezTo>
                <a:cubicBezTo>
                  <a:pt x="9117" y="8036"/>
                  <a:pt x="9135" y="8037"/>
                  <a:pt x="9154" y="8038"/>
                </a:cubicBezTo>
                <a:cubicBezTo>
                  <a:pt x="9188" y="8040"/>
                  <a:pt x="9221" y="8043"/>
                  <a:pt x="9255" y="8041"/>
                </a:cubicBezTo>
                <a:cubicBezTo>
                  <a:pt x="9300" y="8038"/>
                  <a:pt x="9345" y="8032"/>
                  <a:pt x="9390" y="8027"/>
                </a:cubicBezTo>
                <a:cubicBezTo>
                  <a:pt x="9417" y="8024"/>
                  <a:pt x="9444" y="8023"/>
                  <a:pt x="9471" y="8019"/>
                </a:cubicBezTo>
                <a:cubicBezTo>
                  <a:pt x="9537" y="8009"/>
                  <a:pt x="9603" y="8001"/>
                  <a:pt x="9669" y="7992"/>
                </a:cubicBezTo>
                <a:cubicBezTo>
                  <a:pt x="9732" y="7984"/>
                  <a:pt x="9794" y="7973"/>
                  <a:pt x="9857" y="7966"/>
                </a:cubicBezTo>
                <a:cubicBezTo>
                  <a:pt x="9909" y="7960"/>
                  <a:pt x="9960" y="7958"/>
                  <a:pt x="10012" y="7956"/>
                </a:cubicBezTo>
                <a:cubicBezTo>
                  <a:pt x="10043" y="7955"/>
                  <a:pt x="10074" y="7954"/>
                  <a:pt x="10105" y="7953"/>
                </a:cubicBezTo>
                <a:cubicBezTo>
                  <a:pt x="10133" y="7952"/>
                  <a:pt x="10160" y="7953"/>
                  <a:pt x="10188" y="795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Ink 13"/>
          <p:cNvSpPr/>
          <p:nvPr/>
        </p:nvSpPr>
        <p:spPr>
          <a:xfrm>
            <a:off x="3193920" y="3965400"/>
            <a:ext cx="130320" cy="120960"/>
          </a:xfrm>
          <a:custGeom>
            <a:avLst/>
            <a:gdLst/>
            <a:ahLst/>
            <a:rect l="l" t="t" r="r" b="b"/>
            <a:pathLst>
              <a:path w="361" h="336">
                <a:moveTo>
                  <a:pt x="9104" y="11081"/>
                </a:moveTo>
                <a:cubicBezTo>
                  <a:pt x="9103" y="11085"/>
                  <a:pt x="9104" y="11081"/>
                  <a:pt x="9102" y="11085"/>
                </a:cubicBezTo>
                <a:cubicBezTo>
                  <a:pt x="9102" y="11083"/>
                  <a:pt x="9105" y="11081"/>
                  <a:pt x="9104" y="11078"/>
                </a:cubicBezTo>
                <a:cubicBezTo>
                  <a:pt x="9104" y="11077"/>
                  <a:pt x="9099" y="11069"/>
                  <a:pt x="9100" y="11067"/>
                </a:cubicBezTo>
                <a:cubicBezTo>
                  <a:pt x="9102" y="11066"/>
                  <a:pt x="9103" y="11066"/>
                  <a:pt x="9104" y="11066"/>
                </a:cubicBezTo>
                <a:cubicBezTo>
                  <a:pt x="9101" y="11064"/>
                  <a:pt x="9101" y="11065"/>
                  <a:pt x="9098" y="11063"/>
                </a:cubicBezTo>
                <a:cubicBezTo>
                  <a:pt x="9094" y="11060"/>
                  <a:pt x="9089" y="11056"/>
                  <a:pt x="9084" y="11053"/>
                </a:cubicBezTo>
                <a:cubicBezTo>
                  <a:pt x="9080" y="11051"/>
                  <a:pt x="9077" y="11050"/>
                  <a:pt x="9073" y="11048"/>
                </a:cubicBezTo>
                <a:cubicBezTo>
                  <a:pt x="9069" y="11046"/>
                  <a:pt x="9064" y="11043"/>
                  <a:pt x="9059" y="11041"/>
                </a:cubicBezTo>
                <a:cubicBezTo>
                  <a:pt x="9054" y="11039"/>
                  <a:pt x="9049" y="11037"/>
                  <a:pt x="9044" y="11035"/>
                </a:cubicBezTo>
                <a:cubicBezTo>
                  <a:pt x="9038" y="11032"/>
                  <a:pt x="9033" y="11031"/>
                  <a:pt x="9026" y="11029"/>
                </a:cubicBezTo>
                <a:cubicBezTo>
                  <a:pt x="9018" y="11027"/>
                  <a:pt x="9010" y="11026"/>
                  <a:pt x="9003" y="11024"/>
                </a:cubicBezTo>
                <a:cubicBezTo>
                  <a:pt x="8991" y="11021"/>
                  <a:pt x="8977" y="11017"/>
                  <a:pt x="8966" y="11017"/>
                </a:cubicBezTo>
                <a:cubicBezTo>
                  <a:pt x="8962" y="11017"/>
                  <a:pt x="8960" y="11017"/>
                  <a:pt x="8956" y="11017"/>
                </a:cubicBezTo>
                <a:cubicBezTo>
                  <a:pt x="8955" y="11017"/>
                  <a:pt x="8947" y="11019"/>
                  <a:pt x="8945" y="11020"/>
                </a:cubicBezTo>
                <a:cubicBezTo>
                  <a:pt x="8941" y="11022"/>
                  <a:pt x="8938" y="11025"/>
                  <a:pt x="8935" y="11027"/>
                </a:cubicBezTo>
                <a:cubicBezTo>
                  <a:pt x="8931" y="11030"/>
                  <a:pt x="8926" y="11032"/>
                  <a:pt x="8922" y="11036"/>
                </a:cubicBezTo>
                <a:cubicBezTo>
                  <a:pt x="8918" y="11040"/>
                  <a:pt x="8914" y="11044"/>
                  <a:pt x="8910" y="11049"/>
                </a:cubicBezTo>
                <a:cubicBezTo>
                  <a:pt x="8907" y="11053"/>
                  <a:pt x="8905" y="11058"/>
                  <a:pt x="8902" y="11062"/>
                </a:cubicBezTo>
                <a:cubicBezTo>
                  <a:pt x="8897" y="11068"/>
                  <a:pt x="8893" y="11073"/>
                  <a:pt x="8889" y="11079"/>
                </a:cubicBezTo>
                <a:cubicBezTo>
                  <a:pt x="8886" y="11084"/>
                  <a:pt x="8884" y="11089"/>
                  <a:pt x="8881" y="11094"/>
                </a:cubicBezTo>
                <a:cubicBezTo>
                  <a:pt x="8877" y="11101"/>
                  <a:pt x="8875" y="11107"/>
                  <a:pt x="8873" y="11114"/>
                </a:cubicBezTo>
                <a:cubicBezTo>
                  <a:pt x="8872" y="11119"/>
                  <a:pt x="8871" y="11125"/>
                  <a:pt x="8871" y="11130"/>
                </a:cubicBezTo>
                <a:cubicBezTo>
                  <a:pt x="8870" y="11145"/>
                  <a:pt x="8873" y="11158"/>
                  <a:pt x="8875" y="11172"/>
                </a:cubicBezTo>
                <a:cubicBezTo>
                  <a:pt x="8876" y="11178"/>
                  <a:pt x="8876" y="11185"/>
                  <a:pt x="8877" y="11191"/>
                </a:cubicBezTo>
                <a:cubicBezTo>
                  <a:pt x="8878" y="11197"/>
                  <a:pt x="8879" y="11203"/>
                  <a:pt x="8881" y="11209"/>
                </a:cubicBezTo>
                <a:cubicBezTo>
                  <a:pt x="8883" y="11215"/>
                  <a:pt x="8885" y="11221"/>
                  <a:pt x="8887" y="11227"/>
                </a:cubicBezTo>
                <a:cubicBezTo>
                  <a:pt x="8889" y="11234"/>
                  <a:pt x="8890" y="11241"/>
                  <a:pt x="8893" y="11247"/>
                </a:cubicBezTo>
                <a:cubicBezTo>
                  <a:pt x="8896" y="11252"/>
                  <a:pt x="8899" y="11257"/>
                  <a:pt x="8902" y="11263"/>
                </a:cubicBezTo>
                <a:cubicBezTo>
                  <a:pt x="8906" y="11271"/>
                  <a:pt x="8909" y="11277"/>
                  <a:pt x="8914" y="11284"/>
                </a:cubicBezTo>
                <a:cubicBezTo>
                  <a:pt x="8918" y="11289"/>
                  <a:pt x="8921" y="11293"/>
                  <a:pt x="8925" y="11298"/>
                </a:cubicBezTo>
                <a:cubicBezTo>
                  <a:pt x="8929" y="11303"/>
                  <a:pt x="8933" y="11308"/>
                  <a:pt x="8937" y="11312"/>
                </a:cubicBezTo>
                <a:cubicBezTo>
                  <a:pt x="8941" y="11316"/>
                  <a:pt x="8944" y="11320"/>
                  <a:pt x="8949" y="11324"/>
                </a:cubicBezTo>
                <a:cubicBezTo>
                  <a:pt x="8956" y="11330"/>
                  <a:pt x="8966" y="11336"/>
                  <a:pt x="8974" y="11340"/>
                </a:cubicBezTo>
                <a:cubicBezTo>
                  <a:pt x="8980" y="11343"/>
                  <a:pt x="8987" y="11345"/>
                  <a:pt x="8993" y="11347"/>
                </a:cubicBezTo>
                <a:cubicBezTo>
                  <a:pt x="9004" y="11350"/>
                  <a:pt x="9016" y="11351"/>
                  <a:pt x="9028" y="11351"/>
                </a:cubicBezTo>
                <a:cubicBezTo>
                  <a:pt x="9050" y="11352"/>
                  <a:pt x="9072" y="11348"/>
                  <a:pt x="9094" y="11343"/>
                </a:cubicBezTo>
                <a:cubicBezTo>
                  <a:pt x="9107" y="11340"/>
                  <a:pt x="9120" y="11334"/>
                  <a:pt x="9133" y="11330"/>
                </a:cubicBezTo>
                <a:cubicBezTo>
                  <a:pt x="9143" y="11327"/>
                  <a:pt x="9153" y="11324"/>
                  <a:pt x="9162" y="11320"/>
                </a:cubicBezTo>
                <a:cubicBezTo>
                  <a:pt x="9172" y="11315"/>
                  <a:pt x="9183" y="11310"/>
                  <a:pt x="9193" y="11305"/>
                </a:cubicBezTo>
                <a:cubicBezTo>
                  <a:pt x="9198" y="11302"/>
                  <a:pt x="9203" y="11300"/>
                  <a:pt x="9208" y="11297"/>
                </a:cubicBezTo>
                <a:cubicBezTo>
                  <a:pt x="9210" y="11296"/>
                  <a:pt x="9214" y="11293"/>
                  <a:pt x="9216" y="11292"/>
                </a:cubicBezTo>
                <a:cubicBezTo>
                  <a:pt x="9218" y="11291"/>
                  <a:pt x="9221" y="11292"/>
                  <a:pt x="9222" y="11291"/>
                </a:cubicBezTo>
                <a:cubicBezTo>
                  <a:pt x="9224" y="11290"/>
                  <a:pt x="9224" y="11288"/>
                  <a:pt x="9226" y="11287"/>
                </a:cubicBezTo>
                <a:cubicBezTo>
                  <a:pt x="9228" y="11286"/>
                  <a:pt x="9229" y="11285"/>
                  <a:pt x="9231" y="11283"/>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Ink 14"/>
          <p:cNvSpPr/>
          <p:nvPr/>
        </p:nvSpPr>
        <p:spPr>
          <a:xfrm>
            <a:off x="3801960" y="4137120"/>
            <a:ext cx="320760" cy="452520"/>
          </a:xfrm>
          <a:custGeom>
            <a:avLst/>
            <a:gdLst/>
            <a:ahLst/>
            <a:rect l="l" t="t" r="r" b="b"/>
            <a:pathLst>
              <a:path w="891" h="1260">
                <a:moveTo>
                  <a:pt x="11078" y="11490"/>
                </a:moveTo>
                <a:cubicBezTo>
                  <a:pt x="11083" y="11496"/>
                  <a:pt x="11089" y="11502"/>
                  <a:pt x="11094" y="11509"/>
                </a:cubicBezTo>
                <a:cubicBezTo>
                  <a:pt x="11108" y="11529"/>
                  <a:pt x="11113" y="11551"/>
                  <a:pt x="11121" y="11574"/>
                </a:cubicBezTo>
                <a:cubicBezTo>
                  <a:pt x="11126" y="11589"/>
                  <a:pt x="11134" y="11602"/>
                  <a:pt x="11140" y="11616"/>
                </a:cubicBezTo>
                <a:cubicBezTo>
                  <a:pt x="11149" y="11636"/>
                  <a:pt x="11157" y="11657"/>
                  <a:pt x="11162" y="11678"/>
                </a:cubicBezTo>
                <a:cubicBezTo>
                  <a:pt x="11165" y="11691"/>
                  <a:pt x="11169" y="11704"/>
                  <a:pt x="11173" y="11717"/>
                </a:cubicBezTo>
                <a:cubicBezTo>
                  <a:pt x="11177" y="11729"/>
                  <a:pt x="11179" y="11741"/>
                  <a:pt x="11183" y="11753"/>
                </a:cubicBezTo>
                <a:cubicBezTo>
                  <a:pt x="11186" y="11763"/>
                  <a:pt x="11190" y="11771"/>
                  <a:pt x="11193" y="11781"/>
                </a:cubicBezTo>
                <a:cubicBezTo>
                  <a:pt x="11196" y="11790"/>
                  <a:pt x="11199" y="11800"/>
                  <a:pt x="11202" y="11809"/>
                </a:cubicBezTo>
                <a:cubicBezTo>
                  <a:pt x="11205" y="11817"/>
                  <a:pt x="11206" y="11825"/>
                  <a:pt x="11208" y="11833"/>
                </a:cubicBezTo>
                <a:cubicBezTo>
                  <a:pt x="11209" y="11839"/>
                  <a:pt x="11212" y="11844"/>
                  <a:pt x="11214" y="11850"/>
                </a:cubicBezTo>
                <a:cubicBezTo>
                  <a:pt x="11215" y="11855"/>
                  <a:pt x="11218" y="11859"/>
                  <a:pt x="11220" y="11864"/>
                </a:cubicBezTo>
                <a:cubicBezTo>
                  <a:pt x="11221" y="11867"/>
                  <a:pt x="11223" y="11871"/>
                  <a:pt x="11224" y="11873"/>
                </a:cubicBezTo>
                <a:cubicBezTo>
                  <a:pt x="11225" y="11875"/>
                  <a:pt x="11223" y="11875"/>
                  <a:pt x="11224" y="11878"/>
                </a:cubicBezTo>
                <a:cubicBezTo>
                  <a:pt x="11224" y="11878"/>
                  <a:pt x="11224" y="11879"/>
                  <a:pt x="11224" y="11879"/>
                </a:cubicBezTo>
                <a:cubicBezTo>
                  <a:pt x="11223" y="11876"/>
                  <a:pt x="11224" y="11872"/>
                  <a:pt x="11222" y="11869"/>
                </a:cubicBezTo>
                <a:cubicBezTo>
                  <a:pt x="11220" y="11864"/>
                  <a:pt x="11215" y="11860"/>
                  <a:pt x="11214" y="11855"/>
                </a:cubicBezTo>
                <a:cubicBezTo>
                  <a:pt x="11212" y="11847"/>
                  <a:pt x="11212" y="11838"/>
                  <a:pt x="11210" y="11830"/>
                </a:cubicBezTo>
                <a:cubicBezTo>
                  <a:pt x="11207" y="11817"/>
                  <a:pt x="11204" y="11805"/>
                  <a:pt x="11202" y="11792"/>
                </a:cubicBezTo>
                <a:cubicBezTo>
                  <a:pt x="11200" y="11778"/>
                  <a:pt x="11200" y="11764"/>
                  <a:pt x="11200" y="11750"/>
                </a:cubicBezTo>
                <a:cubicBezTo>
                  <a:pt x="11200" y="11729"/>
                  <a:pt x="11198" y="11708"/>
                  <a:pt x="11204" y="11688"/>
                </a:cubicBezTo>
                <a:cubicBezTo>
                  <a:pt x="11207" y="11677"/>
                  <a:pt x="11213" y="11667"/>
                  <a:pt x="11218" y="11657"/>
                </a:cubicBezTo>
                <a:cubicBezTo>
                  <a:pt x="11227" y="11639"/>
                  <a:pt x="11237" y="11622"/>
                  <a:pt x="11251" y="11607"/>
                </a:cubicBezTo>
                <a:cubicBezTo>
                  <a:pt x="11266" y="11591"/>
                  <a:pt x="11283" y="11581"/>
                  <a:pt x="11303" y="11571"/>
                </a:cubicBezTo>
                <a:cubicBezTo>
                  <a:pt x="11312" y="11567"/>
                  <a:pt x="11320" y="11564"/>
                  <a:pt x="11330" y="11563"/>
                </a:cubicBezTo>
                <a:cubicBezTo>
                  <a:pt x="11348" y="11561"/>
                  <a:pt x="11371" y="11566"/>
                  <a:pt x="11388" y="11572"/>
                </a:cubicBezTo>
                <a:cubicBezTo>
                  <a:pt x="11398" y="11576"/>
                  <a:pt x="11410" y="11582"/>
                  <a:pt x="11419" y="11588"/>
                </a:cubicBezTo>
                <a:cubicBezTo>
                  <a:pt x="11429" y="11595"/>
                  <a:pt x="11439" y="11606"/>
                  <a:pt x="11444" y="11617"/>
                </a:cubicBezTo>
                <a:cubicBezTo>
                  <a:pt x="11452" y="11633"/>
                  <a:pt x="11449" y="11647"/>
                  <a:pt x="11446" y="11664"/>
                </a:cubicBezTo>
                <a:cubicBezTo>
                  <a:pt x="11443" y="11678"/>
                  <a:pt x="11439" y="11689"/>
                  <a:pt x="11433" y="11701"/>
                </a:cubicBezTo>
                <a:cubicBezTo>
                  <a:pt x="11427" y="11713"/>
                  <a:pt x="11418" y="11723"/>
                  <a:pt x="11410" y="11734"/>
                </a:cubicBezTo>
                <a:cubicBezTo>
                  <a:pt x="11400" y="11747"/>
                  <a:pt x="11389" y="11755"/>
                  <a:pt x="11375" y="11763"/>
                </a:cubicBezTo>
                <a:cubicBezTo>
                  <a:pt x="11357" y="11773"/>
                  <a:pt x="11337" y="11779"/>
                  <a:pt x="11317" y="11785"/>
                </a:cubicBezTo>
                <a:cubicBezTo>
                  <a:pt x="11304" y="11789"/>
                  <a:pt x="11293" y="11790"/>
                  <a:pt x="11280" y="11791"/>
                </a:cubicBezTo>
                <a:cubicBezTo>
                  <a:pt x="11276" y="11791"/>
                  <a:pt x="11268" y="11790"/>
                  <a:pt x="11264" y="11790"/>
                </a:cubicBezTo>
                <a:cubicBezTo>
                  <a:pt x="11256" y="11789"/>
                  <a:pt x="11256" y="11789"/>
                  <a:pt x="11247" y="11791"/>
                </a:cubicBezTo>
                <a:cubicBezTo>
                  <a:pt x="11249" y="11792"/>
                  <a:pt x="11249" y="11789"/>
                  <a:pt x="11249" y="11791"/>
                </a:cubicBezTo>
                <a:cubicBezTo>
                  <a:pt x="11249" y="11793"/>
                  <a:pt x="11247" y="11791"/>
                  <a:pt x="11249" y="11792"/>
                </a:cubicBezTo>
                <a:cubicBezTo>
                  <a:pt x="11252" y="11794"/>
                  <a:pt x="11252" y="11798"/>
                  <a:pt x="11251" y="11795"/>
                </a:cubicBezTo>
                <a:cubicBezTo>
                  <a:pt x="11251" y="11793"/>
                  <a:pt x="11248" y="11792"/>
                  <a:pt x="11249" y="11790"/>
                </a:cubicBezTo>
              </a:path>
              <a:path w="891" h="1260">
                <a:moveTo>
                  <a:pt x="10807" y="12447"/>
                </a:moveTo>
                <a:cubicBezTo>
                  <a:pt x="10807" y="12441"/>
                  <a:pt x="10809" y="12436"/>
                  <a:pt x="10809" y="12429"/>
                </a:cubicBezTo>
                <a:cubicBezTo>
                  <a:pt x="10809" y="12426"/>
                  <a:pt x="10807" y="12426"/>
                  <a:pt x="10807" y="12423"/>
                </a:cubicBezTo>
                <a:cubicBezTo>
                  <a:pt x="10806" y="12418"/>
                  <a:pt x="10807" y="12414"/>
                  <a:pt x="10805" y="12410"/>
                </a:cubicBezTo>
                <a:cubicBezTo>
                  <a:pt x="10804" y="12407"/>
                  <a:pt x="10804" y="12407"/>
                  <a:pt x="10802" y="12405"/>
                </a:cubicBezTo>
                <a:cubicBezTo>
                  <a:pt x="10801" y="12404"/>
                  <a:pt x="10799" y="12402"/>
                  <a:pt x="10798" y="12401"/>
                </a:cubicBezTo>
                <a:cubicBezTo>
                  <a:pt x="10796" y="12399"/>
                  <a:pt x="10792" y="12400"/>
                  <a:pt x="10790" y="12399"/>
                </a:cubicBezTo>
                <a:cubicBezTo>
                  <a:pt x="10786" y="12397"/>
                  <a:pt x="10784" y="12395"/>
                  <a:pt x="10780" y="12394"/>
                </a:cubicBezTo>
                <a:cubicBezTo>
                  <a:pt x="10765" y="12391"/>
                  <a:pt x="10742" y="12394"/>
                  <a:pt x="10728" y="12398"/>
                </a:cubicBezTo>
                <a:cubicBezTo>
                  <a:pt x="10719" y="12400"/>
                  <a:pt x="10710" y="12404"/>
                  <a:pt x="10701" y="12406"/>
                </a:cubicBezTo>
                <a:cubicBezTo>
                  <a:pt x="10688" y="12409"/>
                  <a:pt x="10678" y="12411"/>
                  <a:pt x="10666" y="12417"/>
                </a:cubicBezTo>
                <a:cubicBezTo>
                  <a:pt x="10659" y="12420"/>
                  <a:pt x="10652" y="12423"/>
                  <a:pt x="10645" y="12428"/>
                </a:cubicBezTo>
                <a:cubicBezTo>
                  <a:pt x="10638" y="12433"/>
                  <a:pt x="10633" y="12438"/>
                  <a:pt x="10627" y="12443"/>
                </a:cubicBezTo>
                <a:cubicBezTo>
                  <a:pt x="10614" y="12454"/>
                  <a:pt x="10600" y="12466"/>
                  <a:pt x="10589" y="12479"/>
                </a:cubicBezTo>
                <a:cubicBezTo>
                  <a:pt x="10582" y="12488"/>
                  <a:pt x="10575" y="12499"/>
                  <a:pt x="10571" y="12509"/>
                </a:cubicBezTo>
                <a:cubicBezTo>
                  <a:pt x="10568" y="12517"/>
                  <a:pt x="10567" y="12526"/>
                  <a:pt x="10565" y="12534"/>
                </a:cubicBezTo>
                <a:cubicBezTo>
                  <a:pt x="10562" y="12548"/>
                  <a:pt x="10559" y="12564"/>
                  <a:pt x="10560" y="12578"/>
                </a:cubicBezTo>
                <a:cubicBezTo>
                  <a:pt x="10560" y="12588"/>
                  <a:pt x="10561" y="12600"/>
                  <a:pt x="10563" y="12610"/>
                </a:cubicBezTo>
                <a:cubicBezTo>
                  <a:pt x="10565" y="12622"/>
                  <a:pt x="10569" y="12634"/>
                  <a:pt x="10573" y="12645"/>
                </a:cubicBezTo>
                <a:cubicBezTo>
                  <a:pt x="10577" y="12655"/>
                  <a:pt x="10581" y="12665"/>
                  <a:pt x="10585" y="12673"/>
                </a:cubicBezTo>
                <a:cubicBezTo>
                  <a:pt x="10588" y="12678"/>
                  <a:pt x="10592" y="12686"/>
                  <a:pt x="10596" y="12690"/>
                </a:cubicBezTo>
                <a:cubicBezTo>
                  <a:pt x="10602" y="12697"/>
                  <a:pt x="10609" y="12704"/>
                  <a:pt x="10616" y="12710"/>
                </a:cubicBezTo>
                <a:cubicBezTo>
                  <a:pt x="10623" y="12716"/>
                  <a:pt x="10629" y="12722"/>
                  <a:pt x="10637" y="12727"/>
                </a:cubicBezTo>
                <a:cubicBezTo>
                  <a:pt x="10645" y="12732"/>
                  <a:pt x="10655" y="12738"/>
                  <a:pt x="10664" y="12741"/>
                </a:cubicBezTo>
                <a:cubicBezTo>
                  <a:pt x="10672" y="12744"/>
                  <a:pt x="10683" y="12747"/>
                  <a:pt x="10691" y="12748"/>
                </a:cubicBezTo>
                <a:cubicBezTo>
                  <a:pt x="10699" y="12749"/>
                  <a:pt x="10710" y="12750"/>
                  <a:pt x="10718" y="12749"/>
                </a:cubicBezTo>
                <a:cubicBezTo>
                  <a:pt x="10727" y="12748"/>
                  <a:pt x="10736" y="12746"/>
                  <a:pt x="10745" y="12743"/>
                </a:cubicBezTo>
                <a:cubicBezTo>
                  <a:pt x="10753" y="12740"/>
                  <a:pt x="10762" y="12735"/>
                  <a:pt x="10769" y="12730"/>
                </a:cubicBezTo>
                <a:cubicBezTo>
                  <a:pt x="10777" y="12724"/>
                  <a:pt x="10784" y="12718"/>
                  <a:pt x="10790" y="12710"/>
                </a:cubicBezTo>
                <a:cubicBezTo>
                  <a:pt x="10798" y="12699"/>
                  <a:pt x="10804" y="12688"/>
                  <a:pt x="10809" y="12676"/>
                </a:cubicBezTo>
                <a:cubicBezTo>
                  <a:pt x="10814" y="12666"/>
                  <a:pt x="10818" y="12656"/>
                  <a:pt x="10821" y="12645"/>
                </a:cubicBezTo>
                <a:cubicBezTo>
                  <a:pt x="10826" y="12628"/>
                  <a:pt x="10829" y="12609"/>
                  <a:pt x="10831" y="12591"/>
                </a:cubicBezTo>
                <a:cubicBezTo>
                  <a:pt x="10832" y="12582"/>
                  <a:pt x="10833" y="12573"/>
                  <a:pt x="10833" y="12564"/>
                </a:cubicBezTo>
                <a:cubicBezTo>
                  <a:pt x="10834" y="12550"/>
                  <a:pt x="10832" y="12535"/>
                  <a:pt x="10831" y="12522"/>
                </a:cubicBezTo>
                <a:cubicBezTo>
                  <a:pt x="10831" y="12514"/>
                  <a:pt x="10831" y="12506"/>
                  <a:pt x="10831" y="12498"/>
                </a:cubicBezTo>
                <a:cubicBezTo>
                  <a:pt x="10832" y="12501"/>
                  <a:pt x="10835" y="12505"/>
                  <a:pt x="10836" y="12508"/>
                </a:cubicBezTo>
                <a:cubicBezTo>
                  <a:pt x="10838" y="12516"/>
                  <a:pt x="10839" y="12525"/>
                  <a:pt x="10842" y="12534"/>
                </a:cubicBezTo>
                <a:cubicBezTo>
                  <a:pt x="10846" y="12545"/>
                  <a:pt x="10850" y="12556"/>
                  <a:pt x="10854" y="12567"/>
                </a:cubicBezTo>
                <a:cubicBezTo>
                  <a:pt x="10867" y="12599"/>
                  <a:pt x="10885" y="12625"/>
                  <a:pt x="10908" y="12651"/>
                </a:cubicBezTo>
                <a:cubicBezTo>
                  <a:pt x="10921" y="12666"/>
                  <a:pt x="10934" y="12676"/>
                  <a:pt x="10951" y="12685"/>
                </a:cubicBezTo>
                <a:cubicBezTo>
                  <a:pt x="10961" y="12691"/>
                  <a:pt x="10972" y="12696"/>
                  <a:pt x="10984" y="12699"/>
                </a:cubicBezTo>
                <a:cubicBezTo>
                  <a:pt x="11018" y="12707"/>
                  <a:pt x="11057" y="12702"/>
                  <a:pt x="11088" y="12688"/>
                </a:cubicBezTo>
                <a:cubicBezTo>
                  <a:pt x="11098" y="12684"/>
                  <a:pt x="11107" y="12679"/>
                  <a:pt x="11117" y="12674"/>
                </a:cubicBezTo>
                <a:cubicBezTo>
                  <a:pt x="11132" y="12667"/>
                  <a:pt x="11142" y="12657"/>
                  <a:pt x="11156" y="12648"/>
                </a:cubicBezTo>
                <a:cubicBezTo>
                  <a:pt x="11162" y="12644"/>
                  <a:pt x="11169" y="12642"/>
                  <a:pt x="11175" y="12637"/>
                </a:cubicBezTo>
                <a:cubicBezTo>
                  <a:pt x="11179" y="12634"/>
                  <a:pt x="11182" y="12632"/>
                  <a:pt x="11185" y="12628"/>
                </a:cubicBezTo>
                <a:cubicBezTo>
                  <a:pt x="11188" y="12624"/>
                  <a:pt x="11187" y="12619"/>
                  <a:pt x="11189" y="1261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Ink 15"/>
          <p:cNvSpPr/>
          <p:nvPr/>
        </p:nvSpPr>
        <p:spPr>
          <a:xfrm>
            <a:off x="4510080" y="4197240"/>
            <a:ext cx="101520" cy="216000"/>
          </a:xfrm>
          <a:custGeom>
            <a:avLst/>
            <a:gdLst/>
            <a:ahLst/>
            <a:rect l="l" t="t" r="r" b="b"/>
            <a:pathLst>
              <a:path w="285" h="599">
                <a:moveTo>
                  <a:pt x="12744" y="11685"/>
                </a:moveTo>
                <a:cubicBezTo>
                  <a:pt x="12744" y="11685"/>
                  <a:pt x="12744" y="11686"/>
                  <a:pt x="12744" y="11686"/>
                </a:cubicBezTo>
                <a:cubicBezTo>
                  <a:pt x="12744" y="11685"/>
                  <a:pt x="12746" y="11686"/>
                  <a:pt x="12744" y="11681"/>
                </a:cubicBezTo>
                <a:cubicBezTo>
                  <a:pt x="12742" y="11676"/>
                  <a:pt x="12741" y="11673"/>
                  <a:pt x="12738" y="11669"/>
                </a:cubicBezTo>
                <a:cubicBezTo>
                  <a:pt x="12737" y="11668"/>
                  <a:pt x="12737" y="11664"/>
                  <a:pt x="12736" y="11663"/>
                </a:cubicBezTo>
                <a:cubicBezTo>
                  <a:pt x="12732" y="11660"/>
                  <a:pt x="12720" y="11659"/>
                  <a:pt x="12716" y="11659"/>
                </a:cubicBezTo>
                <a:cubicBezTo>
                  <a:pt x="12710" y="11658"/>
                  <a:pt x="12703" y="11659"/>
                  <a:pt x="12697" y="11660"/>
                </a:cubicBezTo>
                <a:cubicBezTo>
                  <a:pt x="12695" y="11660"/>
                  <a:pt x="12685" y="11663"/>
                  <a:pt x="12684" y="11664"/>
                </a:cubicBezTo>
                <a:cubicBezTo>
                  <a:pt x="12678" y="11668"/>
                  <a:pt x="12673" y="11679"/>
                  <a:pt x="12670" y="11685"/>
                </a:cubicBezTo>
                <a:cubicBezTo>
                  <a:pt x="12667" y="11691"/>
                  <a:pt x="12666" y="11696"/>
                  <a:pt x="12662" y="11701"/>
                </a:cubicBezTo>
                <a:cubicBezTo>
                  <a:pt x="12660" y="11704"/>
                  <a:pt x="12654" y="11707"/>
                  <a:pt x="12653" y="11710"/>
                </a:cubicBezTo>
                <a:cubicBezTo>
                  <a:pt x="12651" y="11714"/>
                  <a:pt x="12652" y="11720"/>
                  <a:pt x="12651" y="11724"/>
                </a:cubicBezTo>
                <a:cubicBezTo>
                  <a:pt x="12649" y="11729"/>
                  <a:pt x="12647" y="11734"/>
                  <a:pt x="12647" y="11740"/>
                </a:cubicBezTo>
                <a:cubicBezTo>
                  <a:pt x="12646" y="11749"/>
                  <a:pt x="12645" y="11759"/>
                  <a:pt x="12645" y="11767"/>
                </a:cubicBezTo>
                <a:cubicBezTo>
                  <a:pt x="12645" y="11774"/>
                  <a:pt x="12644" y="11781"/>
                  <a:pt x="12645" y="11788"/>
                </a:cubicBezTo>
                <a:cubicBezTo>
                  <a:pt x="12646" y="11797"/>
                  <a:pt x="12648" y="11807"/>
                  <a:pt x="12649" y="11816"/>
                </a:cubicBezTo>
                <a:cubicBezTo>
                  <a:pt x="12650" y="11824"/>
                  <a:pt x="12651" y="11835"/>
                  <a:pt x="12653" y="11843"/>
                </a:cubicBezTo>
                <a:cubicBezTo>
                  <a:pt x="12656" y="11855"/>
                  <a:pt x="12659" y="11868"/>
                  <a:pt x="12662" y="11880"/>
                </a:cubicBezTo>
                <a:cubicBezTo>
                  <a:pt x="12664" y="11890"/>
                  <a:pt x="12669" y="11900"/>
                  <a:pt x="12672" y="11910"/>
                </a:cubicBezTo>
                <a:cubicBezTo>
                  <a:pt x="12677" y="11928"/>
                  <a:pt x="12681" y="11945"/>
                  <a:pt x="12687" y="11962"/>
                </a:cubicBezTo>
                <a:cubicBezTo>
                  <a:pt x="12692" y="11974"/>
                  <a:pt x="12693" y="11987"/>
                  <a:pt x="12697" y="11999"/>
                </a:cubicBezTo>
                <a:cubicBezTo>
                  <a:pt x="12701" y="12011"/>
                  <a:pt x="12705" y="12025"/>
                  <a:pt x="12709" y="12037"/>
                </a:cubicBezTo>
                <a:cubicBezTo>
                  <a:pt x="12713" y="12049"/>
                  <a:pt x="12718" y="12062"/>
                  <a:pt x="12722" y="12074"/>
                </a:cubicBezTo>
                <a:cubicBezTo>
                  <a:pt x="12727" y="12088"/>
                  <a:pt x="12731" y="12102"/>
                  <a:pt x="12736" y="12116"/>
                </a:cubicBezTo>
                <a:cubicBezTo>
                  <a:pt x="12740" y="12127"/>
                  <a:pt x="12741" y="12137"/>
                  <a:pt x="12744" y="12148"/>
                </a:cubicBezTo>
                <a:cubicBezTo>
                  <a:pt x="12747" y="12157"/>
                  <a:pt x="12752" y="12166"/>
                  <a:pt x="12755" y="12174"/>
                </a:cubicBezTo>
                <a:cubicBezTo>
                  <a:pt x="12758" y="12182"/>
                  <a:pt x="12761" y="12191"/>
                  <a:pt x="12763" y="12199"/>
                </a:cubicBezTo>
                <a:cubicBezTo>
                  <a:pt x="12765" y="12205"/>
                  <a:pt x="12768" y="12213"/>
                  <a:pt x="12769" y="12219"/>
                </a:cubicBezTo>
                <a:cubicBezTo>
                  <a:pt x="12770" y="12225"/>
                  <a:pt x="12768" y="12230"/>
                  <a:pt x="12769" y="12235"/>
                </a:cubicBezTo>
                <a:cubicBezTo>
                  <a:pt x="12770" y="12239"/>
                  <a:pt x="12772" y="12243"/>
                  <a:pt x="12773" y="12247"/>
                </a:cubicBezTo>
                <a:cubicBezTo>
                  <a:pt x="12774" y="12250"/>
                  <a:pt x="12778" y="12256"/>
                  <a:pt x="12778" y="12257"/>
                </a:cubicBezTo>
                <a:cubicBezTo>
                  <a:pt x="12777" y="12255"/>
                  <a:pt x="12778" y="12256"/>
                  <a:pt x="12775" y="12252"/>
                </a:cubicBezTo>
              </a:path>
              <a:path w="285" h="599">
                <a:moveTo>
                  <a:pt x="12529" y="11986"/>
                </a:moveTo>
                <a:cubicBezTo>
                  <a:pt x="12532" y="11986"/>
                  <a:pt x="12531" y="11986"/>
                  <a:pt x="12534" y="11986"/>
                </a:cubicBezTo>
                <a:cubicBezTo>
                  <a:pt x="12543" y="11987"/>
                  <a:pt x="12551" y="11987"/>
                  <a:pt x="12560" y="11987"/>
                </a:cubicBezTo>
                <a:cubicBezTo>
                  <a:pt x="12571" y="11987"/>
                  <a:pt x="12582" y="11986"/>
                  <a:pt x="12593" y="11985"/>
                </a:cubicBezTo>
                <a:cubicBezTo>
                  <a:pt x="12606" y="11984"/>
                  <a:pt x="12618" y="11981"/>
                  <a:pt x="12631" y="11979"/>
                </a:cubicBezTo>
                <a:cubicBezTo>
                  <a:pt x="12644" y="11977"/>
                  <a:pt x="12657" y="11976"/>
                  <a:pt x="12670" y="11974"/>
                </a:cubicBezTo>
                <a:cubicBezTo>
                  <a:pt x="12685" y="11972"/>
                  <a:pt x="12701" y="11971"/>
                  <a:pt x="12716" y="11970"/>
                </a:cubicBezTo>
                <a:cubicBezTo>
                  <a:pt x="12725" y="11969"/>
                  <a:pt x="12733" y="11966"/>
                  <a:pt x="12742" y="11966"/>
                </a:cubicBezTo>
                <a:cubicBezTo>
                  <a:pt x="12750" y="11966"/>
                  <a:pt x="12757" y="11966"/>
                  <a:pt x="12765" y="11965"/>
                </a:cubicBezTo>
                <a:cubicBezTo>
                  <a:pt x="12772" y="11964"/>
                  <a:pt x="12778" y="11961"/>
                  <a:pt x="12784" y="11960"/>
                </a:cubicBezTo>
                <a:cubicBezTo>
                  <a:pt x="12790" y="11959"/>
                  <a:pt x="12796" y="11960"/>
                  <a:pt x="12802" y="11959"/>
                </a:cubicBezTo>
                <a:cubicBezTo>
                  <a:pt x="12804" y="11959"/>
                  <a:pt x="12808" y="11957"/>
                  <a:pt x="12809" y="11957"/>
                </a:cubicBezTo>
                <a:cubicBezTo>
                  <a:pt x="12811" y="11957"/>
                  <a:pt x="12807" y="11958"/>
                  <a:pt x="12809" y="1195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Ink 16"/>
          <p:cNvSpPr/>
          <p:nvPr/>
        </p:nvSpPr>
        <p:spPr>
          <a:xfrm>
            <a:off x="5573880" y="1571760"/>
            <a:ext cx="336240" cy="655560"/>
          </a:xfrm>
          <a:custGeom>
            <a:avLst/>
            <a:gdLst/>
            <a:ahLst/>
            <a:rect l="l" t="t" r="r" b="b"/>
            <a:pathLst>
              <a:path w="936" h="1822">
                <a:moveTo>
                  <a:pt x="15865" y="4429"/>
                </a:moveTo>
                <a:cubicBezTo>
                  <a:pt x="15864" y="4427"/>
                  <a:pt x="15863" y="4424"/>
                  <a:pt x="15861" y="4421"/>
                </a:cubicBezTo>
                <a:cubicBezTo>
                  <a:pt x="15859" y="4419"/>
                  <a:pt x="15856" y="4415"/>
                  <a:pt x="15855" y="4413"/>
                </a:cubicBezTo>
                <a:cubicBezTo>
                  <a:pt x="15854" y="4411"/>
                  <a:pt x="15850" y="4409"/>
                  <a:pt x="15849" y="4407"/>
                </a:cubicBezTo>
                <a:cubicBezTo>
                  <a:pt x="15847" y="4403"/>
                  <a:pt x="15848" y="4404"/>
                  <a:pt x="15845" y="4400"/>
                </a:cubicBezTo>
                <a:cubicBezTo>
                  <a:pt x="15844" y="4398"/>
                  <a:pt x="15845" y="4396"/>
                  <a:pt x="15843" y="4394"/>
                </a:cubicBezTo>
                <a:cubicBezTo>
                  <a:pt x="15841" y="4392"/>
                  <a:pt x="15837" y="4389"/>
                  <a:pt x="15834" y="4386"/>
                </a:cubicBezTo>
                <a:cubicBezTo>
                  <a:pt x="15831" y="4384"/>
                  <a:pt x="15828" y="4381"/>
                  <a:pt x="15826" y="4380"/>
                </a:cubicBezTo>
                <a:cubicBezTo>
                  <a:pt x="15823" y="4379"/>
                  <a:pt x="15821" y="4377"/>
                  <a:pt x="15818" y="4376"/>
                </a:cubicBezTo>
                <a:cubicBezTo>
                  <a:pt x="15814" y="4375"/>
                  <a:pt x="15811" y="4375"/>
                  <a:pt x="15807" y="4374"/>
                </a:cubicBezTo>
                <a:cubicBezTo>
                  <a:pt x="15804" y="4373"/>
                  <a:pt x="15805" y="4373"/>
                  <a:pt x="15801" y="4372"/>
                </a:cubicBezTo>
                <a:cubicBezTo>
                  <a:pt x="15795" y="4371"/>
                  <a:pt x="15789" y="4372"/>
                  <a:pt x="15783" y="4371"/>
                </a:cubicBezTo>
                <a:cubicBezTo>
                  <a:pt x="15778" y="4370"/>
                  <a:pt x="15773" y="4369"/>
                  <a:pt x="15768" y="4369"/>
                </a:cubicBezTo>
                <a:cubicBezTo>
                  <a:pt x="15765" y="4369"/>
                  <a:pt x="15763" y="4369"/>
                  <a:pt x="15758" y="4369"/>
                </a:cubicBezTo>
                <a:cubicBezTo>
                  <a:pt x="15753" y="4369"/>
                  <a:pt x="15750" y="4369"/>
                  <a:pt x="15745" y="4369"/>
                </a:cubicBezTo>
                <a:cubicBezTo>
                  <a:pt x="15742" y="4369"/>
                  <a:pt x="15735" y="4367"/>
                  <a:pt x="15733" y="4367"/>
                </a:cubicBezTo>
                <a:cubicBezTo>
                  <a:pt x="15729" y="4367"/>
                  <a:pt x="15725" y="4369"/>
                  <a:pt x="15721" y="4369"/>
                </a:cubicBezTo>
                <a:cubicBezTo>
                  <a:pt x="15713" y="4369"/>
                  <a:pt x="15704" y="4370"/>
                  <a:pt x="15696" y="4372"/>
                </a:cubicBezTo>
                <a:cubicBezTo>
                  <a:pt x="15690" y="4373"/>
                  <a:pt x="15684" y="4374"/>
                  <a:pt x="15679" y="4376"/>
                </a:cubicBezTo>
                <a:cubicBezTo>
                  <a:pt x="15674" y="4377"/>
                  <a:pt x="15669" y="4379"/>
                  <a:pt x="15665" y="4381"/>
                </a:cubicBezTo>
                <a:cubicBezTo>
                  <a:pt x="15659" y="4383"/>
                  <a:pt x="15654" y="4386"/>
                  <a:pt x="15648" y="4388"/>
                </a:cubicBezTo>
                <a:cubicBezTo>
                  <a:pt x="15645" y="4389"/>
                  <a:pt x="15638" y="4392"/>
                  <a:pt x="15636" y="4393"/>
                </a:cubicBezTo>
                <a:cubicBezTo>
                  <a:pt x="15631" y="4395"/>
                  <a:pt x="15625" y="4398"/>
                  <a:pt x="15621" y="4401"/>
                </a:cubicBezTo>
                <a:cubicBezTo>
                  <a:pt x="15615" y="4405"/>
                  <a:pt x="15610" y="4411"/>
                  <a:pt x="15605" y="4414"/>
                </a:cubicBezTo>
                <a:cubicBezTo>
                  <a:pt x="15598" y="4418"/>
                  <a:pt x="15594" y="4422"/>
                  <a:pt x="15588" y="4427"/>
                </a:cubicBezTo>
                <a:cubicBezTo>
                  <a:pt x="15584" y="4430"/>
                  <a:pt x="15580" y="4435"/>
                  <a:pt x="15578" y="4437"/>
                </a:cubicBezTo>
                <a:cubicBezTo>
                  <a:pt x="15575" y="4440"/>
                  <a:pt x="15570" y="4444"/>
                  <a:pt x="15568" y="4448"/>
                </a:cubicBezTo>
                <a:cubicBezTo>
                  <a:pt x="15567" y="4451"/>
                  <a:pt x="15566" y="4454"/>
                  <a:pt x="15565" y="4457"/>
                </a:cubicBezTo>
                <a:cubicBezTo>
                  <a:pt x="15563" y="4460"/>
                  <a:pt x="15558" y="4468"/>
                  <a:pt x="15557" y="4471"/>
                </a:cubicBezTo>
                <a:cubicBezTo>
                  <a:pt x="15556" y="4474"/>
                  <a:pt x="15556" y="4477"/>
                  <a:pt x="15555" y="4480"/>
                </a:cubicBezTo>
                <a:cubicBezTo>
                  <a:pt x="15553" y="4484"/>
                  <a:pt x="15552" y="4488"/>
                  <a:pt x="15551" y="4492"/>
                </a:cubicBezTo>
                <a:cubicBezTo>
                  <a:pt x="15550" y="4498"/>
                  <a:pt x="15548" y="4504"/>
                  <a:pt x="15547" y="4509"/>
                </a:cubicBezTo>
                <a:cubicBezTo>
                  <a:pt x="15546" y="4513"/>
                  <a:pt x="15546" y="4517"/>
                  <a:pt x="15545" y="4521"/>
                </a:cubicBezTo>
                <a:cubicBezTo>
                  <a:pt x="15544" y="4525"/>
                  <a:pt x="15544" y="4528"/>
                  <a:pt x="15543" y="4531"/>
                </a:cubicBezTo>
                <a:cubicBezTo>
                  <a:pt x="15542" y="4535"/>
                  <a:pt x="15540" y="4537"/>
                  <a:pt x="15539" y="4541"/>
                </a:cubicBezTo>
                <a:cubicBezTo>
                  <a:pt x="15540" y="4543"/>
                  <a:pt x="15545" y="4547"/>
                  <a:pt x="15545" y="4550"/>
                </a:cubicBezTo>
                <a:cubicBezTo>
                  <a:pt x="15545" y="4555"/>
                  <a:pt x="15543" y="4560"/>
                  <a:pt x="15543" y="4565"/>
                </a:cubicBezTo>
                <a:cubicBezTo>
                  <a:pt x="15542" y="4571"/>
                  <a:pt x="15544" y="4569"/>
                  <a:pt x="15543" y="4573"/>
                </a:cubicBezTo>
                <a:cubicBezTo>
                  <a:pt x="15542" y="4574"/>
                  <a:pt x="15542" y="4575"/>
                  <a:pt x="15541" y="4576"/>
                </a:cubicBezTo>
                <a:cubicBezTo>
                  <a:pt x="15542" y="4579"/>
                  <a:pt x="15542" y="4583"/>
                  <a:pt x="15543" y="4587"/>
                </a:cubicBezTo>
                <a:cubicBezTo>
                  <a:pt x="15544" y="4591"/>
                  <a:pt x="15546" y="4597"/>
                  <a:pt x="15547" y="4601"/>
                </a:cubicBezTo>
                <a:cubicBezTo>
                  <a:pt x="15547" y="4601"/>
                  <a:pt x="15547" y="4609"/>
                  <a:pt x="15547" y="4612"/>
                </a:cubicBezTo>
                <a:cubicBezTo>
                  <a:pt x="15547" y="4617"/>
                  <a:pt x="15547" y="4623"/>
                  <a:pt x="15547" y="4629"/>
                </a:cubicBezTo>
                <a:cubicBezTo>
                  <a:pt x="15547" y="4633"/>
                  <a:pt x="15547" y="4639"/>
                  <a:pt x="15547" y="4643"/>
                </a:cubicBezTo>
                <a:cubicBezTo>
                  <a:pt x="15547" y="4653"/>
                  <a:pt x="15548" y="4661"/>
                  <a:pt x="15551" y="4670"/>
                </a:cubicBezTo>
                <a:cubicBezTo>
                  <a:pt x="15552" y="4673"/>
                  <a:pt x="15554" y="4674"/>
                  <a:pt x="15555" y="4677"/>
                </a:cubicBezTo>
                <a:cubicBezTo>
                  <a:pt x="15557" y="4685"/>
                  <a:pt x="15560" y="4689"/>
                  <a:pt x="15563" y="4695"/>
                </a:cubicBezTo>
                <a:cubicBezTo>
                  <a:pt x="15564" y="4696"/>
                  <a:pt x="15562" y="4698"/>
                  <a:pt x="15565" y="4701"/>
                </a:cubicBezTo>
                <a:cubicBezTo>
                  <a:pt x="15571" y="4707"/>
                  <a:pt x="15567" y="4703"/>
                  <a:pt x="15574" y="4708"/>
                </a:cubicBezTo>
                <a:cubicBezTo>
                  <a:pt x="15576" y="4709"/>
                  <a:pt x="15576" y="4711"/>
                  <a:pt x="15578" y="4712"/>
                </a:cubicBezTo>
                <a:cubicBezTo>
                  <a:pt x="15581" y="4713"/>
                  <a:pt x="15583" y="4714"/>
                  <a:pt x="15586" y="4715"/>
                </a:cubicBezTo>
                <a:cubicBezTo>
                  <a:pt x="15591" y="4716"/>
                  <a:pt x="15595" y="4715"/>
                  <a:pt x="15599" y="4715"/>
                </a:cubicBezTo>
                <a:cubicBezTo>
                  <a:pt x="15607" y="4715"/>
                  <a:pt x="15614" y="4714"/>
                  <a:pt x="15621" y="4712"/>
                </a:cubicBezTo>
                <a:cubicBezTo>
                  <a:pt x="15625" y="4711"/>
                  <a:pt x="15630" y="4710"/>
                  <a:pt x="15634" y="4708"/>
                </a:cubicBezTo>
                <a:cubicBezTo>
                  <a:pt x="15638" y="4706"/>
                  <a:pt x="15642" y="4703"/>
                  <a:pt x="15646" y="4701"/>
                </a:cubicBezTo>
                <a:cubicBezTo>
                  <a:pt x="15653" y="4698"/>
                  <a:pt x="15658" y="4693"/>
                  <a:pt x="15663" y="4690"/>
                </a:cubicBezTo>
                <a:cubicBezTo>
                  <a:pt x="15668" y="4687"/>
                  <a:pt x="15674" y="4683"/>
                  <a:pt x="15679" y="4679"/>
                </a:cubicBezTo>
                <a:cubicBezTo>
                  <a:pt x="15686" y="4673"/>
                  <a:pt x="15690" y="4666"/>
                  <a:pt x="15696" y="4660"/>
                </a:cubicBezTo>
                <a:cubicBezTo>
                  <a:pt x="15706" y="4650"/>
                  <a:pt x="15714" y="4641"/>
                  <a:pt x="15723" y="4630"/>
                </a:cubicBezTo>
                <a:cubicBezTo>
                  <a:pt x="15728" y="4625"/>
                  <a:pt x="15732" y="4619"/>
                  <a:pt x="15737" y="4614"/>
                </a:cubicBezTo>
                <a:cubicBezTo>
                  <a:pt x="15741" y="4609"/>
                  <a:pt x="15746" y="4603"/>
                  <a:pt x="15750" y="4598"/>
                </a:cubicBezTo>
                <a:cubicBezTo>
                  <a:pt x="15753" y="4594"/>
                  <a:pt x="15757" y="4589"/>
                  <a:pt x="15760" y="4584"/>
                </a:cubicBezTo>
                <a:cubicBezTo>
                  <a:pt x="15765" y="4577"/>
                  <a:pt x="15770" y="4569"/>
                  <a:pt x="15774" y="4562"/>
                </a:cubicBezTo>
                <a:cubicBezTo>
                  <a:pt x="15777" y="4557"/>
                  <a:pt x="15780" y="4553"/>
                  <a:pt x="15783" y="4547"/>
                </a:cubicBezTo>
                <a:cubicBezTo>
                  <a:pt x="15785" y="4542"/>
                  <a:pt x="15787" y="4535"/>
                  <a:pt x="15789" y="4530"/>
                </a:cubicBezTo>
                <a:cubicBezTo>
                  <a:pt x="15791" y="4526"/>
                  <a:pt x="15794" y="4521"/>
                  <a:pt x="15797" y="4517"/>
                </a:cubicBezTo>
                <a:cubicBezTo>
                  <a:pt x="15801" y="4511"/>
                  <a:pt x="15807" y="4504"/>
                  <a:pt x="15810" y="4497"/>
                </a:cubicBezTo>
                <a:cubicBezTo>
                  <a:pt x="15812" y="4493"/>
                  <a:pt x="15812" y="4488"/>
                  <a:pt x="15814" y="4484"/>
                </a:cubicBezTo>
                <a:cubicBezTo>
                  <a:pt x="15816" y="4479"/>
                  <a:pt x="15818" y="4477"/>
                  <a:pt x="15820" y="4473"/>
                </a:cubicBezTo>
                <a:cubicBezTo>
                  <a:pt x="15822" y="4470"/>
                  <a:pt x="15824" y="4465"/>
                  <a:pt x="15826" y="4462"/>
                </a:cubicBezTo>
                <a:cubicBezTo>
                  <a:pt x="15828" y="4458"/>
                  <a:pt x="15829" y="4452"/>
                  <a:pt x="15832" y="4448"/>
                </a:cubicBezTo>
                <a:cubicBezTo>
                  <a:pt x="15835" y="4444"/>
                  <a:pt x="15839" y="4440"/>
                  <a:pt x="15841" y="4436"/>
                </a:cubicBezTo>
                <a:cubicBezTo>
                  <a:pt x="15843" y="4433"/>
                  <a:pt x="15844" y="4431"/>
                  <a:pt x="15845" y="4428"/>
                </a:cubicBezTo>
                <a:cubicBezTo>
                  <a:pt x="15846" y="4426"/>
                  <a:pt x="15848" y="4423"/>
                  <a:pt x="15849" y="4421"/>
                </a:cubicBezTo>
                <a:cubicBezTo>
                  <a:pt x="15850" y="4418"/>
                  <a:pt x="15850" y="4416"/>
                  <a:pt x="15851" y="4413"/>
                </a:cubicBezTo>
                <a:cubicBezTo>
                  <a:pt x="15852" y="4410"/>
                  <a:pt x="15852" y="4405"/>
                  <a:pt x="15853" y="4402"/>
                </a:cubicBezTo>
                <a:cubicBezTo>
                  <a:pt x="15853" y="4401"/>
                  <a:pt x="15853" y="4400"/>
                  <a:pt x="15853" y="4399"/>
                </a:cubicBezTo>
                <a:cubicBezTo>
                  <a:pt x="15852" y="4402"/>
                  <a:pt x="15851" y="4398"/>
                  <a:pt x="15851" y="4400"/>
                </a:cubicBezTo>
                <a:cubicBezTo>
                  <a:pt x="15851" y="4401"/>
                  <a:pt x="15850" y="4406"/>
                  <a:pt x="15849" y="4408"/>
                </a:cubicBezTo>
                <a:cubicBezTo>
                  <a:pt x="15848" y="4412"/>
                  <a:pt x="15848" y="4415"/>
                  <a:pt x="15847" y="4419"/>
                </a:cubicBezTo>
                <a:cubicBezTo>
                  <a:pt x="15846" y="4425"/>
                  <a:pt x="15846" y="4431"/>
                  <a:pt x="15845" y="4437"/>
                </a:cubicBezTo>
                <a:cubicBezTo>
                  <a:pt x="15844" y="4442"/>
                  <a:pt x="15843" y="4448"/>
                  <a:pt x="15841" y="4453"/>
                </a:cubicBezTo>
                <a:cubicBezTo>
                  <a:pt x="15839" y="4459"/>
                  <a:pt x="15837" y="4464"/>
                  <a:pt x="15836" y="4470"/>
                </a:cubicBezTo>
                <a:cubicBezTo>
                  <a:pt x="15835" y="4474"/>
                  <a:pt x="15835" y="4479"/>
                  <a:pt x="15834" y="4483"/>
                </a:cubicBezTo>
                <a:cubicBezTo>
                  <a:pt x="15833" y="4487"/>
                  <a:pt x="15833" y="4490"/>
                  <a:pt x="15832" y="4495"/>
                </a:cubicBezTo>
                <a:cubicBezTo>
                  <a:pt x="15831" y="4501"/>
                  <a:pt x="15830" y="4506"/>
                  <a:pt x="15830" y="4513"/>
                </a:cubicBezTo>
                <a:cubicBezTo>
                  <a:pt x="15830" y="4519"/>
                  <a:pt x="15829" y="4528"/>
                  <a:pt x="15832" y="4533"/>
                </a:cubicBezTo>
                <a:cubicBezTo>
                  <a:pt x="15834" y="4538"/>
                  <a:pt x="15841" y="4541"/>
                  <a:pt x="15843" y="4545"/>
                </a:cubicBezTo>
                <a:cubicBezTo>
                  <a:pt x="15846" y="4551"/>
                  <a:pt x="15846" y="4557"/>
                  <a:pt x="15849" y="4563"/>
                </a:cubicBezTo>
                <a:cubicBezTo>
                  <a:pt x="15853" y="4572"/>
                  <a:pt x="15857" y="4581"/>
                  <a:pt x="15861" y="4590"/>
                </a:cubicBezTo>
                <a:cubicBezTo>
                  <a:pt x="15864" y="4597"/>
                  <a:pt x="15868" y="4602"/>
                  <a:pt x="15872" y="4608"/>
                </a:cubicBezTo>
                <a:cubicBezTo>
                  <a:pt x="15876" y="4614"/>
                  <a:pt x="15880" y="4620"/>
                  <a:pt x="15884" y="4626"/>
                </a:cubicBezTo>
                <a:cubicBezTo>
                  <a:pt x="15888" y="4633"/>
                  <a:pt x="15891" y="4641"/>
                  <a:pt x="15896" y="4647"/>
                </a:cubicBezTo>
                <a:cubicBezTo>
                  <a:pt x="15903" y="4656"/>
                  <a:pt x="15912" y="4665"/>
                  <a:pt x="15919" y="4672"/>
                </a:cubicBezTo>
                <a:cubicBezTo>
                  <a:pt x="15923" y="4676"/>
                  <a:pt x="15928" y="4679"/>
                  <a:pt x="15932" y="4683"/>
                </a:cubicBezTo>
                <a:cubicBezTo>
                  <a:pt x="15935" y="4687"/>
                  <a:pt x="15938" y="4692"/>
                  <a:pt x="15942" y="4695"/>
                </a:cubicBezTo>
                <a:cubicBezTo>
                  <a:pt x="15946" y="4697"/>
                  <a:pt x="15950" y="4699"/>
                  <a:pt x="15954" y="4700"/>
                </a:cubicBezTo>
                <a:cubicBezTo>
                  <a:pt x="15959" y="4701"/>
                  <a:pt x="15964" y="4701"/>
                  <a:pt x="15969" y="4701"/>
                </a:cubicBezTo>
                <a:cubicBezTo>
                  <a:pt x="15982" y="4702"/>
                  <a:pt x="15994" y="4700"/>
                  <a:pt x="16006" y="4699"/>
                </a:cubicBezTo>
                <a:cubicBezTo>
                  <a:pt x="16013" y="4698"/>
                  <a:pt x="16020" y="4696"/>
                  <a:pt x="16027" y="4695"/>
                </a:cubicBezTo>
                <a:cubicBezTo>
                  <a:pt x="16032" y="4694"/>
                  <a:pt x="16042" y="4696"/>
                  <a:pt x="16045" y="4695"/>
                </a:cubicBezTo>
                <a:cubicBezTo>
                  <a:pt x="16051" y="4693"/>
                  <a:pt x="16043" y="4695"/>
                  <a:pt x="16047" y="4693"/>
                </a:cubicBezTo>
                <a:cubicBezTo>
                  <a:pt x="16046" y="4693"/>
                  <a:pt x="16044" y="4692"/>
                  <a:pt x="16043" y="4692"/>
                </a:cubicBezTo>
              </a:path>
              <a:path w="936" h="1822">
                <a:moveTo>
                  <a:pt x="16105" y="5019"/>
                </a:moveTo>
                <a:cubicBezTo>
                  <a:pt x="16102" y="5016"/>
                  <a:pt x="16100" y="5013"/>
                  <a:pt x="16097" y="5009"/>
                </a:cubicBezTo>
                <a:cubicBezTo>
                  <a:pt x="16096" y="5007"/>
                  <a:pt x="16095" y="5005"/>
                  <a:pt x="16093" y="5003"/>
                </a:cubicBezTo>
                <a:cubicBezTo>
                  <a:pt x="16093" y="5002"/>
                  <a:pt x="16093" y="5001"/>
                  <a:pt x="16091" y="5001"/>
                </a:cubicBezTo>
                <a:cubicBezTo>
                  <a:pt x="16092" y="5003"/>
                  <a:pt x="16093" y="5006"/>
                  <a:pt x="16093" y="5009"/>
                </a:cubicBezTo>
                <a:cubicBezTo>
                  <a:pt x="16094" y="5016"/>
                  <a:pt x="16096" y="5024"/>
                  <a:pt x="16097" y="5031"/>
                </a:cubicBezTo>
                <a:cubicBezTo>
                  <a:pt x="16099" y="5042"/>
                  <a:pt x="16101" y="5052"/>
                  <a:pt x="16103" y="5063"/>
                </a:cubicBezTo>
                <a:cubicBezTo>
                  <a:pt x="16105" y="5075"/>
                  <a:pt x="16108" y="5089"/>
                  <a:pt x="16109" y="5101"/>
                </a:cubicBezTo>
                <a:cubicBezTo>
                  <a:pt x="16111" y="5123"/>
                  <a:pt x="16112" y="5144"/>
                  <a:pt x="16116" y="5166"/>
                </a:cubicBezTo>
                <a:cubicBezTo>
                  <a:pt x="16120" y="5187"/>
                  <a:pt x="16122" y="5207"/>
                  <a:pt x="16122" y="5228"/>
                </a:cubicBezTo>
                <a:cubicBezTo>
                  <a:pt x="16122" y="5249"/>
                  <a:pt x="16124" y="5269"/>
                  <a:pt x="16122" y="5290"/>
                </a:cubicBezTo>
                <a:cubicBezTo>
                  <a:pt x="16121" y="5307"/>
                  <a:pt x="16119" y="5324"/>
                  <a:pt x="16120" y="5341"/>
                </a:cubicBezTo>
                <a:cubicBezTo>
                  <a:pt x="16121" y="5356"/>
                  <a:pt x="16122" y="5371"/>
                  <a:pt x="16122" y="5387"/>
                </a:cubicBezTo>
                <a:cubicBezTo>
                  <a:pt x="16122" y="5399"/>
                  <a:pt x="16124" y="5412"/>
                  <a:pt x="16124" y="5423"/>
                </a:cubicBezTo>
                <a:cubicBezTo>
                  <a:pt x="16124" y="5432"/>
                  <a:pt x="16121" y="5440"/>
                  <a:pt x="16122" y="5449"/>
                </a:cubicBezTo>
                <a:cubicBezTo>
                  <a:pt x="16123" y="5457"/>
                  <a:pt x="16128" y="5463"/>
                  <a:pt x="16130" y="5470"/>
                </a:cubicBezTo>
                <a:cubicBezTo>
                  <a:pt x="16130" y="5471"/>
                  <a:pt x="16129" y="5473"/>
                  <a:pt x="16130" y="5476"/>
                </a:cubicBezTo>
                <a:cubicBezTo>
                  <a:pt x="16130" y="5478"/>
                  <a:pt x="16129" y="5476"/>
                  <a:pt x="16130" y="5479"/>
                </a:cubicBezTo>
                <a:cubicBezTo>
                  <a:pt x="16128" y="5478"/>
                  <a:pt x="16127" y="5478"/>
                  <a:pt x="16130" y="5478"/>
                </a:cubicBezTo>
                <a:cubicBezTo>
                  <a:pt x="16130" y="5468"/>
                  <a:pt x="16128" y="5458"/>
                  <a:pt x="16128" y="5448"/>
                </a:cubicBezTo>
                <a:cubicBezTo>
                  <a:pt x="16128" y="5438"/>
                  <a:pt x="16130" y="5425"/>
                  <a:pt x="16132" y="5415"/>
                </a:cubicBezTo>
                <a:cubicBezTo>
                  <a:pt x="16136" y="5392"/>
                  <a:pt x="16143" y="5373"/>
                  <a:pt x="16151" y="5352"/>
                </a:cubicBezTo>
                <a:cubicBezTo>
                  <a:pt x="16159" y="5328"/>
                  <a:pt x="16176" y="5300"/>
                  <a:pt x="16196" y="5283"/>
                </a:cubicBezTo>
                <a:cubicBezTo>
                  <a:pt x="16205" y="5275"/>
                  <a:pt x="16219" y="5270"/>
                  <a:pt x="16229" y="5265"/>
                </a:cubicBezTo>
                <a:cubicBezTo>
                  <a:pt x="16254" y="5252"/>
                  <a:pt x="16274" y="5242"/>
                  <a:pt x="16302" y="5242"/>
                </a:cubicBezTo>
                <a:cubicBezTo>
                  <a:pt x="16314" y="5242"/>
                  <a:pt x="16322" y="5245"/>
                  <a:pt x="16331" y="5252"/>
                </a:cubicBezTo>
                <a:cubicBezTo>
                  <a:pt x="16345" y="5263"/>
                  <a:pt x="16359" y="5279"/>
                  <a:pt x="16370" y="5292"/>
                </a:cubicBezTo>
                <a:cubicBezTo>
                  <a:pt x="16379" y="5303"/>
                  <a:pt x="16386" y="5314"/>
                  <a:pt x="16393" y="5326"/>
                </a:cubicBezTo>
                <a:cubicBezTo>
                  <a:pt x="16399" y="5336"/>
                  <a:pt x="16406" y="5346"/>
                  <a:pt x="16411" y="5356"/>
                </a:cubicBezTo>
                <a:cubicBezTo>
                  <a:pt x="16416" y="5366"/>
                  <a:pt x="16417" y="5377"/>
                  <a:pt x="16416" y="5388"/>
                </a:cubicBezTo>
                <a:cubicBezTo>
                  <a:pt x="16415" y="5399"/>
                  <a:pt x="16412" y="5410"/>
                  <a:pt x="16407" y="5420"/>
                </a:cubicBezTo>
                <a:cubicBezTo>
                  <a:pt x="16398" y="5437"/>
                  <a:pt x="16383" y="5451"/>
                  <a:pt x="16370" y="5464"/>
                </a:cubicBezTo>
                <a:cubicBezTo>
                  <a:pt x="16356" y="5478"/>
                  <a:pt x="16340" y="5492"/>
                  <a:pt x="16322" y="5502"/>
                </a:cubicBezTo>
                <a:cubicBezTo>
                  <a:pt x="16306" y="5511"/>
                  <a:pt x="16289" y="5516"/>
                  <a:pt x="16271" y="5520"/>
                </a:cubicBezTo>
                <a:cubicBezTo>
                  <a:pt x="16253" y="5524"/>
                  <a:pt x="16235" y="5526"/>
                  <a:pt x="16217" y="5528"/>
                </a:cubicBezTo>
                <a:cubicBezTo>
                  <a:pt x="16201" y="5530"/>
                  <a:pt x="16189" y="5529"/>
                  <a:pt x="16174" y="5526"/>
                </a:cubicBezTo>
                <a:cubicBezTo>
                  <a:pt x="16167" y="5525"/>
                  <a:pt x="16160" y="5525"/>
                  <a:pt x="16153" y="5522"/>
                </a:cubicBezTo>
                <a:cubicBezTo>
                  <a:pt x="16149" y="5521"/>
                  <a:pt x="16143" y="5518"/>
                  <a:pt x="16140" y="5516"/>
                </a:cubicBezTo>
                <a:cubicBezTo>
                  <a:pt x="16139" y="5515"/>
                  <a:pt x="16140" y="5514"/>
                  <a:pt x="16138" y="5513"/>
                </a:cubicBezTo>
                <a:cubicBezTo>
                  <a:pt x="16136" y="5512"/>
                  <a:pt x="16136" y="5511"/>
                  <a:pt x="16134" y="5510"/>
                </a:cubicBezTo>
                <a:cubicBezTo>
                  <a:pt x="16129" y="5507"/>
                  <a:pt x="16126" y="5507"/>
                  <a:pt x="16122" y="5508"/>
                </a:cubicBezTo>
              </a:path>
              <a:path w="936" h="1822">
                <a:moveTo>
                  <a:pt x="15915" y="5973"/>
                </a:moveTo>
                <a:cubicBezTo>
                  <a:pt x="15914" y="5967"/>
                  <a:pt x="15914" y="5964"/>
                  <a:pt x="15913" y="5959"/>
                </a:cubicBezTo>
                <a:cubicBezTo>
                  <a:pt x="15911" y="5949"/>
                  <a:pt x="15909" y="5944"/>
                  <a:pt x="15905" y="5935"/>
                </a:cubicBezTo>
                <a:cubicBezTo>
                  <a:pt x="15902" y="5929"/>
                  <a:pt x="15901" y="5925"/>
                  <a:pt x="15898" y="5920"/>
                </a:cubicBezTo>
                <a:cubicBezTo>
                  <a:pt x="15891" y="5906"/>
                  <a:pt x="15886" y="5903"/>
                  <a:pt x="15874" y="5895"/>
                </a:cubicBezTo>
                <a:cubicBezTo>
                  <a:pt x="15867" y="5890"/>
                  <a:pt x="15860" y="5887"/>
                  <a:pt x="15853" y="5884"/>
                </a:cubicBezTo>
                <a:cubicBezTo>
                  <a:pt x="15846" y="5881"/>
                  <a:pt x="15839" y="5875"/>
                  <a:pt x="15832" y="5872"/>
                </a:cubicBezTo>
                <a:cubicBezTo>
                  <a:pt x="15825" y="5869"/>
                  <a:pt x="15815" y="5868"/>
                  <a:pt x="15807" y="5865"/>
                </a:cubicBezTo>
                <a:cubicBezTo>
                  <a:pt x="15794" y="5861"/>
                  <a:pt x="15783" y="5858"/>
                  <a:pt x="15770" y="5857"/>
                </a:cubicBezTo>
                <a:cubicBezTo>
                  <a:pt x="15758" y="5856"/>
                  <a:pt x="15745" y="5857"/>
                  <a:pt x="15733" y="5856"/>
                </a:cubicBezTo>
                <a:cubicBezTo>
                  <a:pt x="15724" y="5856"/>
                  <a:pt x="15717" y="5856"/>
                  <a:pt x="15708" y="5856"/>
                </a:cubicBezTo>
                <a:cubicBezTo>
                  <a:pt x="15686" y="5857"/>
                  <a:pt x="15665" y="5860"/>
                  <a:pt x="15644" y="5862"/>
                </a:cubicBezTo>
                <a:cubicBezTo>
                  <a:pt x="15622" y="5864"/>
                  <a:pt x="15604" y="5869"/>
                  <a:pt x="15584" y="5877"/>
                </a:cubicBezTo>
                <a:cubicBezTo>
                  <a:pt x="15575" y="5880"/>
                  <a:pt x="15565" y="5882"/>
                  <a:pt x="15557" y="5887"/>
                </a:cubicBezTo>
                <a:cubicBezTo>
                  <a:pt x="15546" y="5893"/>
                  <a:pt x="15533" y="5900"/>
                  <a:pt x="15524" y="5908"/>
                </a:cubicBezTo>
                <a:cubicBezTo>
                  <a:pt x="15517" y="5914"/>
                  <a:pt x="15511" y="5925"/>
                  <a:pt x="15506" y="5933"/>
                </a:cubicBezTo>
                <a:cubicBezTo>
                  <a:pt x="15502" y="5940"/>
                  <a:pt x="15495" y="5951"/>
                  <a:pt x="15493" y="5959"/>
                </a:cubicBezTo>
                <a:cubicBezTo>
                  <a:pt x="15490" y="5969"/>
                  <a:pt x="15492" y="5980"/>
                  <a:pt x="15489" y="5990"/>
                </a:cubicBezTo>
                <a:cubicBezTo>
                  <a:pt x="15486" y="6001"/>
                  <a:pt x="15482" y="6010"/>
                  <a:pt x="15481" y="6021"/>
                </a:cubicBezTo>
                <a:cubicBezTo>
                  <a:pt x="15479" y="6043"/>
                  <a:pt x="15483" y="6063"/>
                  <a:pt x="15489" y="6083"/>
                </a:cubicBezTo>
                <a:cubicBezTo>
                  <a:pt x="15492" y="6092"/>
                  <a:pt x="15496" y="6101"/>
                  <a:pt x="15501" y="6109"/>
                </a:cubicBezTo>
                <a:cubicBezTo>
                  <a:pt x="15505" y="6117"/>
                  <a:pt x="15510" y="6126"/>
                  <a:pt x="15516" y="6133"/>
                </a:cubicBezTo>
                <a:cubicBezTo>
                  <a:pt x="15523" y="6141"/>
                  <a:pt x="15530" y="6145"/>
                  <a:pt x="15539" y="6152"/>
                </a:cubicBezTo>
                <a:cubicBezTo>
                  <a:pt x="15547" y="6158"/>
                  <a:pt x="15555" y="6162"/>
                  <a:pt x="15563" y="6167"/>
                </a:cubicBezTo>
                <a:cubicBezTo>
                  <a:pt x="15570" y="6171"/>
                  <a:pt x="15578" y="6175"/>
                  <a:pt x="15586" y="6178"/>
                </a:cubicBezTo>
                <a:cubicBezTo>
                  <a:pt x="15595" y="6181"/>
                  <a:pt x="15605" y="6183"/>
                  <a:pt x="15615" y="6185"/>
                </a:cubicBezTo>
                <a:cubicBezTo>
                  <a:pt x="15625" y="6187"/>
                  <a:pt x="15634" y="6187"/>
                  <a:pt x="15644" y="6187"/>
                </a:cubicBezTo>
                <a:cubicBezTo>
                  <a:pt x="15664" y="6188"/>
                  <a:pt x="15683" y="6186"/>
                  <a:pt x="15702" y="6180"/>
                </a:cubicBezTo>
                <a:cubicBezTo>
                  <a:pt x="15709" y="6178"/>
                  <a:pt x="15714" y="6176"/>
                  <a:pt x="15721" y="6173"/>
                </a:cubicBezTo>
                <a:cubicBezTo>
                  <a:pt x="15734" y="6168"/>
                  <a:pt x="15746" y="6161"/>
                  <a:pt x="15756" y="6152"/>
                </a:cubicBezTo>
                <a:cubicBezTo>
                  <a:pt x="15762" y="6147"/>
                  <a:pt x="15768" y="6140"/>
                  <a:pt x="15774" y="6134"/>
                </a:cubicBezTo>
                <a:cubicBezTo>
                  <a:pt x="15781" y="6127"/>
                  <a:pt x="15788" y="6120"/>
                  <a:pt x="15795" y="6112"/>
                </a:cubicBezTo>
                <a:cubicBezTo>
                  <a:pt x="15802" y="6104"/>
                  <a:pt x="15808" y="6095"/>
                  <a:pt x="15814" y="6087"/>
                </a:cubicBezTo>
                <a:cubicBezTo>
                  <a:pt x="15828" y="6066"/>
                  <a:pt x="15839" y="6043"/>
                  <a:pt x="15849" y="6020"/>
                </a:cubicBezTo>
                <a:cubicBezTo>
                  <a:pt x="15854" y="6009"/>
                  <a:pt x="15860" y="5998"/>
                  <a:pt x="15863" y="5986"/>
                </a:cubicBezTo>
                <a:cubicBezTo>
                  <a:pt x="15865" y="5978"/>
                  <a:pt x="15869" y="5969"/>
                  <a:pt x="15870" y="5962"/>
                </a:cubicBezTo>
                <a:cubicBezTo>
                  <a:pt x="15871" y="5956"/>
                  <a:pt x="15873" y="5948"/>
                  <a:pt x="15874" y="5942"/>
                </a:cubicBezTo>
                <a:cubicBezTo>
                  <a:pt x="15875" y="5936"/>
                  <a:pt x="15875" y="5930"/>
                  <a:pt x="15876" y="5924"/>
                </a:cubicBezTo>
                <a:cubicBezTo>
                  <a:pt x="15877" y="5919"/>
                  <a:pt x="15880" y="5909"/>
                  <a:pt x="15880" y="5906"/>
                </a:cubicBezTo>
                <a:cubicBezTo>
                  <a:pt x="15880" y="5907"/>
                  <a:pt x="15880" y="5911"/>
                  <a:pt x="15880" y="5912"/>
                </a:cubicBezTo>
                <a:cubicBezTo>
                  <a:pt x="15880" y="5918"/>
                  <a:pt x="15882" y="5923"/>
                  <a:pt x="15882" y="5928"/>
                </a:cubicBezTo>
                <a:cubicBezTo>
                  <a:pt x="15883" y="5952"/>
                  <a:pt x="15883" y="5976"/>
                  <a:pt x="15888" y="6000"/>
                </a:cubicBezTo>
                <a:cubicBezTo>
                  <a:pt x="15894" y="6026"/>
                  <a:pt x="15904" y="6053"/>
                  <a:pt x="15917" y="6077"/>
                </a:cubicBezTo>
                <a:cubicBezTo>
                  <a:pt x="15921" y="6085"/>
                  <a:pt x="15926" y="6091"/>
                  <a:pt x="15932" y="6099"/>
                </a:cubicBezTo>
                <a:cubicBezTo>
                  <a:pt x="15937" y="6107"/>
                  <a:pt x="15943" y="6113"/>
                  <a:pt x="15950" y="6120"/>
                </a:cubicBezTo>
                <a:cubicBezTo>
                  <a:pt x="15957" y="6127"/>
                  <a:pt x="15965" y="6132"/>
                  <a:pt x="15973" y="6137"/>
                </a:cubicBezTo>
                <a:cubicBezTo>
                  <a:pt x="15993" y="6151"/>
                  <a:pt x="16012" y="6161"/>
                  <a:pt x="16035" y="6169"/>
                </a:cubicBezTo>
                <a:cubicBezTo>
                  <a:pt x="16047" y="6173"/>
                  <a:pt x="16059" y="6176"/>
                  <a:pt x="16072" y="6178"/>
                </a:cubicBezTo>
                <a:cubicBezTo>
                  <a:pt x="16086" y="6180"/>
                  <a:pt x="16102" y="6178"/>
                  <a:pt x="16116" y="6176"/>
                </a:cubicBezTo>
                <a:cubicBezTo>
                  <a:pt x="16124" y="6175"/>
                  <a:pt x="16130" y="6172"/>
                  <a:pt x="16138" y="6170"/>
                </a:cubicBezTo>
                <a:cubicBezTo>
                  <a:pt x="16148" y="6167"/>
                  <a:pt x="16159" y="6163"/>
                  <a:pt x="16167" y="6159"/>
                </a:cubicBezTo>
                <a:cubicBezTo>
                  <a:pt x="16173" y="6156"/>
                  <a:pt x="16178" y="6153"/>
                  <a:pt x="16184" y="6150"/>
                </a:cubicBezTo>
                <a:cubicBezTo>
                  <a:pt x="16186" y="6149"/>
                  <a:pt x="16193" y="6144"/>
                  <a:pt x="16196" y="6142"/>
                </a:cubicBezTo>
                <a:cubicBezTo>
                  <a:pt x="16197" y="6141"/>
                  <a:pt x="16200" y="6141"/>
                  <a:pt x="16202" y="6140"/>
                </a:cubicBezTo>
                <a:cubicBezTo>
                  <a:pt x="16203" y="6139"/>
                  <a:pt x="16205" y="6136"/>
                  <a:pt x="16207" y="6135"/>
                </a:cubicBezTo>
                <a:cubicBezTo>
                  <a:pt x="16209" y="6135"/>
                  <a:pt x="16210" y="6135"/>
                  <a:pt x="16207" y="613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Ink 17"/>
          <p:cNvSpPr/>
          <p:nvPr/>
        </p:nvSpPr>
        <p:spPr>
          <a:xfrm>
            <a:off x="5911920" y="2251080"/>
            <a:ext cx="392040" cy="714240"/>
          </a:xfrm>
          <a:custGeom>
            <a:avLst/>
            <a:gdLst/>
            <a:ahLst/>
            <a:rect l="l" t="t" r="r" b="b"/>
            <a:pathLst>
              <a:path w="1087" h="1988">
                <a:moveTo>
                  <a:pt x="17259" y="6297"/>
                </a:moveTo>
                <a:cubicBezTo>
                  <a:pt x="17257" y="6293"/>
                  <a:pt x="17255" y="6289"/>
                  <a:pt x="17253" y="6284"/>
                </a:cubicBezTo>
                <a:cubicBezTo>
                  <a:pt x="17251" y="6280"/>
                  <a:pt x="17251" y="6276"/>
                  <a:pt x="17249" y="6272"/>
                </a:cubicBezTo>
                <a:cubicBezTo>
                  <a:pt x="17247" y="6268"/>
                  <a:pt x="17245" y="6264"/>
                  <a:pt x="17243" y="6260"/>
                </a:cubicBezTo>
                <a:cubicBezTo>
                  <a:pt x="17242" y="6258"/>
                  <a:pt x="17242" y="6254"/>
                  <a:pt x="17241" y="6253"/>
                </a:cubicBezTo>
                <a:cubicBezTo>
                  <a:pt x="17240" y="6252"/>
                  <a:pt x="17237" y="6251"/>
                  <a:pt x="17237" y="6251"/>
                </a:cubicBezTo>
                <a:cubicBezTo>
                  <a:pt x="17236" y="6254"/>
                  <a:pt x="17233" y="6255"/>
                  <a:pt x="17232" y="6258"/>
                </a:cubicBezTo>
                <a:cubicBezTo>
                  <a:pt x="17230" y="6266"/>
                  <a:pt x="17231" y="6273"/>
                  <a:pt x="17230" y="6281"/>
                </a:cubicBezTo>
                <a:cubicBezTo>
                  <a:pt x="17229" y="6294"/>
                  <a:pt x="17226" y="6307"/>
                  <a:pt x="17224" y="6320"/>
                </a:cubicBezTo>
                <a:cubicBezTo>
                  <a:pt x="17221" y="6340"/>
                  <a:pt x="17218" y="6359"/>
                  <a:pt x="17216" y="6379"/>
                </a:cubicBezTo>
                <a:cubicBezTo>
                  <a:pt x="17214" y="6399"/>
                  <a:pt x="17207" y="6417"/>
                  <a:pt x="17206" y="6437"/>
                </a:cubicBezTo>
                <a:cubicBezTo>
                  <a:pt x="17205" y="6457"/>
                  <a:pt x="17203" y="6477"/>
                  <a:pt x="17201" y="6497"/>
                </a:cubicBezTo>
                <a:cubicBezTo>
                  <a:pt x="17199" y="6522"/>
                  <a:pt x="17199" y="6547"/>
                  <a:pt x="17199" y="6572"/>
                </a:cubicBezTo>
                <a:cubicBezTo>
                  <a:pt x="17199" y="6595"/>
                  <a:pt x="17199" y="6617"/>
                  <a:pt x="17201" y="6640"/>
                </a:cubicBezTo>
                <a:cubicBezTo>
                  <a:pt x="17202" y="6655"/>
                  <a:pt x="17202" y="6669"/>
                  <a:pt x="17203" y="6684"/>
                </a:cubicBezTo>
                <a:cubicBezTo>
                  <a:pt x="17204" y="6698"/>
                  <a:pt x="17207" y="6710"/>
                  <a:pt x="17208" y="6724"/>
                </a:cubicBezTo>
                <a:cubicBezTo>
                  <a:pt x="17209" y="6732"/>
                  <a:pt x="17210" y="6740"/>
                  <a:pt x="17210" y="6748"/>
                </a:cubicBezTo>
                <a:cubicBezTo>
                  <a:pt x="17210" y="6753"/>
                  <a:pt x="17210" y="6759"/>
                  <a:pt x="17210" y="6764"/>
                </a:cubicBezTo>
                <a:cubicBezTo>
                  <a:pt x="17210" y="6767"/>
                  <a:pt x="17212" y="6768"/>
                  <a:pt x="17212" y="6771"/>
                </a:cubicBezTo>
                <a:cubicBezTo>
                  <a:pt x="17212" y="6773"/>
                  <a:pt x="17210" y="6769"/>
                  <a:pt x="17210" y="6771"/>
                </a:cubicBezTo>
                <a:cubicBezTo>
                  <a:pt x="17210" y="6770"/>
                  <a:pt x="17210" y="6770"/>
                  <a:pt x="17210" y="6769"/>
                </a:cubicBezTo>
                <a:cubicBezTo>
                  <a:pt x="17211" y="6764"/>
                  <a:pt x="17211" y="6759"/>
                  <a:pt x="17212" y="6753"/>
                </a:cubicBezTo>
                <a:cubicBezTo>
                  <a:pt x="17214" y="6743"/>
                  <a:pt x="17214" y="6732"/>
                  <a:pt x="17216" y="6721"/>
                </a:cubicBezTo>
                <a:cubicBezTo>
                  <a:pt x="17219" y="6704"/>
                  <a:pt x="17223" y="6688"/>
                  <a:pt x="17226" y="6672"/>
                </a:cubicBezTo>
                <a:cubicBezTo>
                  <a:pt x="17230" y="6653"/>
                  <a:pt x="17236" y="6637"/>
                  <a:pt x="17243" y="6619"/>
                </a:cubicBezTo>
                <a:cubicBezTo>
                  <a:pt x="17258" y="6582"/>
                  <a:pt x="17270" y="6550"/>
                  <a:pt x="17299" y="6521"/>
                </a:cubicBezTo>
                <a:cubicBezTo>
                  <a:pt x="17314" y="6506"/>
                  <a:pt x="17330" y="6497"/>
                  <a:pt x="17350" y="6490"/>
                </a:cubicBezTo>
                <a:cubicBezTo>
                  <a:pt x="17366" y="6484"/>
                  <a:pt x="17381" y="6481"/>
                  <a:pt x="17398" y="6483"/>
                </a:cubicBezTo>
                <a:cubicBezTo>
                  <a:pt x="17425" y="6487"/>
                  <a:pt x="17453" y="6512"/>
                  <a:pt x="17468" y="6533"/>
                </a:cubicBezTo>
                <a:cubicBezTo>
                  <a:pt x="17480" y="6549"/>
                  <a:pt x="17489" y="6566"/>
                  <a:pt x="17499" y="6583"/>
                </a:cubicBezTo>
                <a:cubicBezTo>
                  <a:pt x="17505" y="6594"/>
                  <a:pt x="17510" y="6602"/>
                  <a:pt x="17510" y="6614"/>
                </a:cubicBezTo>
                <a:cubicBezTo>
                  <a:pt x="17510" y="6626"/>
                  <a:pt x="17507" y="6626"/>
                  <a:pt x="17501" y="6636"/>
                </a:cubicBezTo>
                <a:cubicBezTo>
                  <a:pt x="17493" y="6651"/>
                  <a:pt x="17484" y="6658"/>
                  <a:pt x="17472" y="6669"/>
                </a:cubicBezTo>
                <a:cubicBezTo>
                  <a:pt x="17452" y="6687"/>
                  <a:pt x="17427" y="6701"/>
                  <a:pt x="17404" y="6713"/>
                </a:cubicBezTo>
                <a:cubicBezTo>
                  <a:pt x="17381" y="6725"/>
                  <a:pt x="17358" y="6735"/>
                  <a:pt x="17334" y="6744"/>
                </a:cubicBezTo>
                <a:cubicBezTo>
                  <a:pt x="17318" y="6750"/>
                  <a:pt x="17301" y="6759"/>
                  <a:pt x="17284" y="6763"/>
                </a:cubicBezTo>
                <a:cubicBezTo>
                  <a:pt x="17271" y="6766"/>
                  <a:pt x="17258" y="6769"/>
                  <a:pt x="17245" y="6771"/>
                </a:cubicBezTo>
                <a:cubicBezTo>
                  <a:pt x="17237" y="6772"/>
                  <a:pt x="17228" y="6771"/>
                  <a:pt x="17220" y="6772"/>
                </a:cubicBezTo>
                <a:cubicBezTo>
                  <a:pt x="17217" y="6772"/>
                  <a:pt x="17212" y="6776"/>
                  <a:pt x="17210" y="6776"/>
                </a:cubicBezTo>
                <a:cubicBezTo>
                  <a:pt x="17205" y="6776"/>
                  <a:pt x="17200" y="6774"/>
                  <a:pt x="17195" y="6774"/>
                </a:cubicBezTo>
              </a:path>
              <a:path w="1087" h="1988">
                <a:moveTo>
                  <a:pt x="16699" y="7214"/>
                </a:moveTo>
                <a:cubicBezTo>
                  <a:pt x="16700" y="7208"/>
                  <a:pt x="16699" y="7205"/>
                  <a:pt x="16701" y="7200"/>
                </a:cubicBezTo>
                <a:cubicBezTo>
                  <a:pt x="16703" y="7197"/>
                  <a:pt x="16705" y="7196"/>
                  <a:pt x="16707" y="7192"/>
                </a:cubicBezTo>
                <a:cubicBezTo>
                  <a:pt x="16709" y="7188"/>
                  <a:pt x="16710" y="7185"/>
                  <a:pt x="16711" y="7181"/>
                </a:cubicBezTo>
                <a:cubicBezTo>
                  <a:pt x="16712" y="7177"/>
                  <a:pt x="16713" y="7167"/>
                  <a:pt x="16713" y="7167"/>
                </a:cubicBezTo>
                <a:cubicBezTo>
                  <a:pt x="16713" y="7164"/>
                  <a:pt x="16711" y="7158"/>
                  <a:pt x="16711" y="7158"/>
                </a:cubicBezTo>
                <a:cubicBezTo>
                  <a:pt x="16710" y="7154"/>
                  <a:pt x="16710" y="7152"/>
                  <a:pt x="16709" y="7149"/>
                </a:cubicBezTo>
                <a:cubicBezTo>
                  <a:pt x="16708" y="7145"/>
                  <a:pt x="16706" y="7144"/>
                  <a:pt x="16705" y="7141"/>
                </a:cubicBezTo>
                <a:cubicBezTo>
                  <a:pt x="16704" y="7137"/>
                  <a:pt x="16703" y="7134"/>
                  <a:pt x="16701" y="7131"/>
                </a:cubicBezTo>
                <a:cubicBezTo>
                  <a:pt x="16699" y="7129"/>
                  <a:pt x="16695" y="7125"/>
                  <a:pt x="16693" y="7123"/>
                </a:cubicBezTo>
                <a:cubicBezTo>
                  <a:pt x="16690" y="7120"/>
                  <a:pt x="16687" y="7117"/>
                  <a:pt x="16684" y="7115"/>
                </a:cubicBezTo>
                <a:cubicBezTo>
                  <a:pt x="16681" y="7113"/>
                  <a:pt x="16677" y="7110"/>
                  <a:pt x="16674" y="7109"/>
                </a:cubicBezTo>
                <a:cubicBezTo>
                  <a:pt x="16670" y="7108"/>
                  <a:pt x="16666" y="7107"/>
                  <a:pt x="16662" y="7106"/>
                </a:cubicBezTo>
                <a:cubicBezTo>
                  <a:pt x="16656" y="7105"/>
                  <a:pt x="16648" y="7105"/>
                  <a:pt x="16641" y="7105"/>
                </a:cubicBezTo>
                <a:cubicBezTo>
                  <a:pt x="16632" y="7105"/>
                  <a:pt x="16619" y="7104"/>
                  <a:pt x="16610" y="7106"/>
                </a:cubicBezTo>
                <a:cubicBezTo>
                  <a:pt x="16601" y="7109"/>
                  <a:pt x="16592" y="7113"/>
                  <a:pt x="16583" y="7116"/>
                </a:cubicBezTo>
                <a:cubicBezTo>
                  <a:pt x="16577" y="7118"/>
                  <a:pt x="16570" y="7121"/>
                  <a:pt x="16564" y="7123"/>
                </a:cubicBezTo>
                <a:cubicBezTo>
                  <a:pt x="16557" y="7126"/>
                  <a:pt x="16550" y="7130"/>
                  <a:pt x="16544" y="7133"/>
                </a:cubicBezTo>
                <a:cubicBezTo>
                  <a:pt x="16534" y="7137"/>
                  <a:pt x="16526" y="7141"/>
                  <a:pt x="16517" y="7148"/>
                </a:cubicBezTo>
                <a:cubicBezTo>
                  <a:pt x="16511" y="7153"/>
                  <a:pt x="16504" y="7158"/>
                  <a:pt x="16498" y="7164"/>
                </a:cubicBezTo>
                <a:cubicBezTo>
                  <a:pt x="16491" y="7171"/>
                  <a:pt x="16481" y="7180"/>
                  <a:pt x="16475" y="7188"/>
                </a:cubicBezTo>
                <a:cubicBezTo>
                  <a:pt x="16458" y="7209"/>
                  <a:pt x="16446" y="7235"/>
                  <a:pt x="16436" y="7260"/>
                </a:cubicBezTo>
                <a:cubicBezTo>
                  <a:pt x="16432" y="7270"/>
                  <a:pt x="16430" y="7278"/>
                  <a:pt x="16428" y="7288"/>
                </a:cubicBezTo>
                <a:cubicBezTo>
                  <a:pt x="16426" y="7298"/>
                  <a:pt x="16425" y="7309"/>
                  <a:pt x="16424" y="7319"/>
                </a:cubicBezTo>
                <a:cubicBezTo>
                  <a:pt x="16423" y="7334"/>
                  <a:pt x="16424" y="7349"/>
                  <a:pt x="16426" y="7363"/>
                </a:cubicBezTo>
                <a:cubicBezTo>
                  <a:pt x="16428" y="7377"/>
                  <a:pt x="16431" y="7389"/>
                  <a:pt x="16438" y="7401"/>
                </a:cubicBezTo>
                <a:cubicBezTo>
                  <a:pt x="16443" y="7411"/>
                  <a:pt x="16449" y="7421"/>
                  <a:pt x="16455" y="7430"/>
                </a:cubicBezTo>
                <a:cubicBezTo>
                  <a:pt x="16465" y="7446"/>
                  <a:pt x="16474" y="7464"/>
                  <a:pt x="16488" y="7477"/>
                </a:cubicBezTo>
                <a:cubicBezTo>
                  <a:pt x="16497" y="7485"/>
                  <a:pt x="16507" y="7492"/>
                  <a:pt x="16517" y="7498"/>
                </a:cubicBezTo>
                <a:cubicBezTo>
                  <a:pt x="16529" y="7505"/>
                  <a:pt x="16541" y="7508"/>
                  <a:pt x="16554" y="7512"/>
                </a:cubicBezTo>
                <a:cubicBezTo>
                  <a:pt x="16567" y="7516"/>
                  <a:pt x="16580" y="7519"/>
                  <a:pt x="16593" y="7521"/>
                </a:cubicBezTo>
                <a:cubicBezTo>
                  <a:pt x="16610" y="7524"/>
                  <a:pt x="16628" y="7525"/>
                  <a:pt x="16645" y="7523"/>
                </a:cubicBezTo>
                <a:cubicBezTo>
                  <a:pt x="16658" y="7522"/>
                  <a:pt x="16671" y="7519"/>
                  <a:pt x="16684" y="7517"/>
                </a:cubicBezTo>
                <a:cubicBezTo>
                  <a:pt x="16690" y="7516"/>
                  <a:pt x="16697" y="7516"/>
                  <a:pt x="16703" y="7515"/>
                </a:cubicBezTo>
                <a:cubicBezTo>
                  <a:pt x="16707" y="7514"/>
                  <a:pt x="16710" y="7513"/>
                  <a:pt x="16713" y="7512"/>
                </a:cubicBezTo>
                <a:cubicBezTo>
                  <a:pt x="16715" y="7512"/>
                  <a:pt x="16717" y="7511"/>
                  <a:pt x="16720" y="7510"/>
                </a:cubicBezTo>
                <a:cubicBezTo>
                  <a:pt x="16722" y="7509"/>
                  <a:pt x="16724" y="7510"/>
                  <a:pt x="16726" y="7509"/>
                </a:cubicBezTo>
                <a:cubicBezTo>
                  <a:pt x="16728" y="7508"/>
                  <a:pt x="16728" y="7507"/>
                  <a:pt x="16730" y="7506"/>
                </a:cubicBezTo>
                <a:cubicBezTo>
                  <a:pt x="16731" y="7505"/>
                  <a:pt x="16726" y="7505"/>
                  <a:pt x="16730" y="7501"/>
                </a:cubicBezTo>
                <a:cubicBezTo>
                  <a:pt x="16732" y="7499"/>
                  <a:pt x="16735" y="7499"/>
                  <a:pt x="16736" y="7497"/>
                </a:cubicBezTo>
                <a:cubicBezTo>
                  <a:pt x="16737" y="7495"/>
                  <a:pt x="16739" y="7493"/>
                  <a:pt x="16740" y="7492"/>
                </a:cubicBezTo>
                <a:cubicBezTo>
                  <a:pt x="16741" y="7491"/>
                  <a:pt x="16741" y="7487"/>
                  <a:pt x="16742" y="7487"/>
                </a:cubicBezTo>
                <a:cubicBezTo>
                  <a:pt x="16744" y="7485"/>
                  <a:pt x="16750" y="7482"/>
                  <a:pt x="16753" y="7481"/>
                </a:cubicBezTo>
                <a:cubicBezTo>
                  <a:pt x="16756" y="7480"/>
                  <a:pt x="16758" y="7480"/>
                  <a:pt x="16761" y="7479"/>
                </a:cubicBezTo>
                <a:cubicBezTo>
                  <a:pt x="16761" y="7476"/>
                  <a:pt x="16755" y="7479"/>
                  <a:pt x="16759" y="7476"/>
                </a:cubicBezTo>
                <a:cubicBezTo>
                  <a:pt x="16762" y="7474"/>
                  <a:pt x="16760" y="7475"/>
                  <a:pt x="16761" y="7473"/>
                </a:cubicBezTo>
                <a:cubicBezTo>
                  <a:pt x="16762" y="7471"/>
                  <a:pt x="16764" y="7472"/>
                  <a:pt x="16765" y="7470"/>
                </a:cubicBezTo>
                <a:cubicBezTo>
                  <a:pt x="16766" y="7468"/>
                  <a:pt x="16766" y="7467"/>
                  <a:pt x="16767" y="7466"/>
                </a:cubicBezTo>
                <a:cubicBezTo>
                  <a:pt x="16769" y="7464"/>
                  <a:pt x="16771" y="7461"/>
                  <a:pt x="16773" y="7458"/>
                </a:cubicBezTo>
                <a:cubicBezTo>
                  <a:pt x="16774" y="7457"/>
                  <a:pt x="16774" y="7453"/>
                  <a:pt x="16775" y="7452"/>
                </a:cubicBezTo>
                <a:cubicBezTo>
                  <a:pt x="16776" y="7451"/>
                  <a:pt x="16776" y="7449"/>
                  <a:pt x="16777" y="7448"/>
                </a:cubicBezTo>
                <a:cubicBezTo>
                  <a:pt x="16777" y="7447"/>
                  <a:pt x="16779" y="7448"/>
                  <a:pt x="16780" y="7447"/>
                </a:cubicBezTo>
                <a:cubicBezTo>
                  <a:pt x="16781" y="7445"/>
                  <a:pt x="16779" y="7445"/>
                  <a:pt x="16780" y="7444"/>
                </a:cubicBezTo>
                <a:cubicBezTo>
                  <a:pt x="16774" y="7439"/>
                  <a:pt x="16782" y="7451"/>
                  <a:pt x="16777" y="7444"/>
                </a:cubicBezTo>
                <a:cubicBezTo>
                  <a:pt x="16776" y="7442"/>
                  <a:pt x="16776" y="7442"/>
                  <a:pt x="16775" y="7440"/>
                </a:cubicBezTo>
                <a:cubicBezTo>
                  <a:pt x="16773" y="7440"/>
                  <a:pt x="16772" y="7440"/>
                  <a:pt x="16773" y="7438"/>
                </a:cubicBezTo>
              </a:path>
              <a:path w="1087" h="1988">
                <a:moveTo>
                  <a:pt x="16897" y="8081"/>
                </a:moveTo>
                <a:cubicBezTo>
                  <a:pt x="16896" y="8078"/>
                  <a:pt x="16894" y="8075"/>
                  <a:pt x="16893" y="8072"/>
                </a:cubicBezTo>
                <a:cubicBezTo>
                  <a:pt x="16892" y="8070"/>
                  <a:pt x="16888" y="8067"/>
                  <a:pt x="16887" y="8065"/>
                </a:cubicBezTo>
                <a:cubicBezTo>
                  <a:pt x="16885" y="8062"/>
                  <a:pt x="16886" y="8060"/>
                  <a:pt x="16885" y="8057"/>
                </a:cubicBezTo>
                <a:cubicBezTo>
                  <a:pt x="16884" y="8053"/>
                  <a:pt x="16882" y="8046"/>
                  <a:pt x="16881" y="8044"/>
                </a:cubicBezTo>
                <a:cubicBezTo>
                  <a:pt x="16879" y="8041"/>
                  <a:pt x="16875" y="8037"/>
                  <a:pt x="16873" y="8034"/>
                </a:cubicBezTo>
                <a:cubicBezTo>
                  <a:pt x="16870" y="8029"/>
                  <a:pt x="16875" y="8030"/>
                  <a:pt x="16871" y="8024"/>
                </a:cubicBezTo>
                <a:cubicBezTo>
                  <a:pt x="16869" y="8021"/>
                  <a:pt x="16863" y="8016"/>
                  <a:pt x="16860" y="8013"/>
                </a:cubicBezTo>
                <a:cubicBezTo>
                  <a:pt x="16850" y="8004"/>
                  <a:pt x="16841" y="8002"/>
                  <a:pt x="16829" y="7997"/>
                </a:cubicBezTo>
                <a:cubicBezTo>
                  <a:pt x="16825" y="7995"/>
                  <a:pt x="16821" y="7993"/>
                  <a:pt x="16817" y="7991"/>
                </a:cubicBezTo>
                <a:cubicBezTo>
                  <a:pt x="16812" y="7989"/>
                  <a:pt x="16808" y="7987"/>
                  <a:pt x="16802" y="7985"/>
                </a:cubicBezTo>
                <a:cubicBezTo>
                  <a:pt x="16796" y="7983"/>
                  <a:pt x="16792" y="7985"/>
                  <a:pt x="16786" y="7984"/>
                </a:cubicBezTo>
                <a:cubicBezTo>
                  <a:pt x="16772" y="7980"/>
                  <a:pt x="16763" y="7977"/>
                  <a:pt x="16748" y="7977"/>
                </a:cubicBezTo>
                <a:cubicBezTo>
                  <a:pt x="16730" y="7977"/>
                  <a:pt x="16714" y="7979"/>
                  <a:pt x="16699" y="7988"/>
                </a:cubicBezTo>
                <a:cubicBezTo>
                  <a:pt x="16694" y="7991"/>
                  <a:pt x="16689" y="7995"/>
                  <a:pt x="16684" y="7999"/>
                </a:cubicBezTo>
                <a:cubicBezTo>
                  <a:pt x="16679" y="8003"/>
                  <a:pt x="16673" y="8007"/>
                  <a:pt x="16668" y="8012"/>
                </a:cubicBezTo>
                <a:cubicBezTo>
                  <a:pt x="16654" y="8025"/>
                  <a:pt x="16645" y="8041"/>
                  <a:pt x="16637" y="8058"/>
                </a:cubicBezTo>
                <a:cubicBezTo>
                  <a:pt x="16628" y="8079"/>
                  <a:pt x="16623" y="8097"/>
                  <a:pt x="16622" y="8119"/>
                </a:cubicBezTo>
                <a:cubicBezTo>
                  <a:pt x="16621" y="8141"/>
                  <a:pt x="16623" y="8161"/>
                  <a:pt x="16633" y="8181"/>
                </a:cubicBezTo>
                <a:cubicBezTo>
                  <a:pt x="16640" y="8195"/>
                  <a:pt x="16649" y="8206"/>
                  <a:pt x="16660" y="8217"/>
                </a:cubicBezTo>
                <a:cubicBezTo>
                  <a:pt x="16667" y="8224"/>
                  <a:pt x="16675" y="8231"/>
                  <a:pt x="16684" y="8235"/>
                </a:cubicBezTo>
                <a:cubicBezTo>
                  <a:pt x="16695" y="8239"/>
                  <a:pt x="16709" y="8238"/>
                  <a:pt x="16720" y="8236"/>
                </a:cubicBezTo>
                <a:cubicBezTo>
                  <a:pt x="16736" y="8233"/>
                  <a:pt x="16753" y="8230"/>
                  <a:pt x="16767" y="8223"/>
                </a:cubicBezTo>
                <a:cubicBezTo>
                  <a:pt x="16786" y="8214"/>
                  <a:pt x="16801" y="8197"/>
                  <a:pt x="16813" y="8180"/>
                </a:cubicBezTo>
                <a:cubicBezTo>
                  <a:pt x="16818" y="8172"/>
                  <a:pt x="16822" y="8163"/>
                  <a:pt x="16827" y="8155"/>
                </a:cubicBezTo>
                <a:cubicBezTo>
                  <a:pt x="16832" y="8147"/>
                  <a:pt x="16841" y="8135"/>
                  <a:pt x="16844" y="8126"/>
                </a:cubicBezTo>
                <a:cubicBezTo>
                  <a:pt x="16849" y="8112"/>
                  <a:pt x="16849" y="8092"/>
                  <a:pt x="16852" y="8077"/>
                </a:cubicBezTo>
                <a:cubicBezTo>
                  <a:pt x="16861" y="8033"/>
                  <a:pt x="16868" y="7990"/>
                  <a:pt x="16866" y="7945"/>
                </a:cubicBezTo>
                <a:cubicBezTo>
                  <a:pt x="16865" y="7929"/>
                  <a:pt x="16862" y="7911"/>
                  <a:pt x="16862" y="7895"/>
                </a:cubicBezTo>
                <a:cubicBezTo>
                  <a:pt x="16862" y="7879"/>
                  <a:pt x="16863" y="7865"/>
                  <a:pt x="16862" y="7849"/>
                </a:cubicBezTo>
                <a:cubicBezTo>
                  <a:pt x="16860" y="7817"/>
                  <a:pt x="16855" y="7783"/>
                  <a:pt x="16850" y="7752"/>
                </a:cubicBezTo>
                <a:cubicBezTo>
                  <a:pt x="16848" y="7740"/>
                  <a:pt x="16842" y="7733"/>
                  <a:pt x="16839" y="7722"/>
                </a:cubicBezTo>
                <a:cubicBezTo>
                  <a:pt x="16837" y="7715"/>
                  <a:pt x="16836" y="7708"/>
                  <a:pt x="16833" y="7701"/>
                </a:cubicBezTo>
                <a:cubicBezTo>
                  <a:pt x="16831" y="7696"/>
                  <a:pt x="16827" y="7690"/>
                  <a:pt x="16825" y="7684"/>
                </a:cubicBezTo>
                <a:cubicBezTo>
                  <a:pt x="16823" y="7678"/>
                  <a:pt x="16823" y="7671"/>
                  <a:pt x="16821" y="7665"/>
                </a:cubicBezTo>
                <a:cubicBezTo>
                  <a:pt x="16819" y="7660"/>
                  <a:pt x="16817" y="7655"/>
                  <a:pt x="16815" y="7651"/>
                </a:cubicBezTo>
                <a:cubicBezTo>
                  <a:pt x="16814" y="7648"/>
                  <a:pt x="16813" y="7644"/>
                  <a:pt x="16811" y="7642"/>
                </a:cubicBezTo>
                <a:cubicBezTo>
                  <a:pt x="16810" y="7642"/>
                  <a:pt x="16809" y="7642"/>
                  <a:pt x="16808" y="7642"/>
                </a:cubicBezTo>
                <a:cubicBezTo>
                  <a:pt x="16809" y="7647"/>
                  <a:pt x="16810" y="7645"/>
                  <a:pt x="16811" y="7650"/>
                </a:cubicBezTo>
                <a:cubicBezTo>
                  <a:pt x="16812" y="7658"/>
                  <a:pt x="16814" y="7668"/>
                  <a:pt x="16815" y="7676"/>
                </a:cubicBezTo>
                <a:cubicBezTo>
                  <a:pt x="16817" y="7698"/>
                  <a:pt x="16818" y="7718"/>
                  <a:pt x="16821" y="7740"/>
                </a:cubicBezTo>
                <a:cubicBezTo>
                  <a:pt x="16824" y="7759"/>
                  <a:pt x="16828" y="7776"/>
                  <a:pt x="16831" y="7795"/>
                </a:cubicBezTo>
                <a:cubicBezTo>
                  <a:pt x="16834" y="7820"/>
                  <a:pt x="16838" y="7846"/>
                  <a:pt x="16842" y="7870"/>
                </a:cubicBezTo>
                <a:cubicBezTo>
                  <a:pt x="16847" y="7895"/>
                  <a:pt x="16851" y="7919"/>
                  <a:pt x="16856" y="7944"/>
                </a:cubicBezTo>
                <a:cubicBezTo>
                  <a:pt x="16860" y="7962"/>
                  <a:pt x="16863" y="7980"/>
                  <a:pt x="16868" y="7997"/>
                </a:cubicBezTo>
                <a:cubicBezTo>
                  <a:pt x="16872" y="8012"/>
                  <a:pt x="16876" y="8027"/>
                  <a:pt x="16881" y="8041"/>
                </a:cubicBezTo>
                <a:cubicBezTo>
                  <a:pt x="16888" y="8061"/>
                  <a:pt x="16899" y="8076"/>
                  <a:pt x="16908" y="8095"/>
                </a:cubicBezTo>
                <a:cubicBezTo>
                  <a:pt x="16914" y="8106"/>
                  <a:pt x="16916" y="8113"/>
                  <a:pt x="16924" y="8124"/>
                </a:cubicBezTo>
                <a:cubicBezTo>
                  <a:pt x="16930" y="8132"/>
                  <a:pt x="16937" y="8140"/>
                  <a:pt x="16943" y="8148"/>
                </a:cubicBezTo>
                <a:cubicBezTo>
                  <a:pt x="16950" y="8156"/>
                  <a:pt x="16954" y="8160"/>
                  <a:pt x="16962" y="8166"/>
                </a:cubicBezTo>
                <a:cubicBezTo>
                  <a:pt x="16971" y="8173"/>
                  <a:pt x="16982" y="8179"/>
                  <a:pt x="16993" y="8181"/>
                </a:cubicBezTo>
                <a:cubicBezTo>
                  <a:pt x="17018" y="8186"/>
                  <a:pt x="17050" y="8176"/>
                  <a:pt x="17075" y="8172"/>
                </a:cubicBezTo>
                <a:cubicBezTo>
                  <a:pt x="17086" y="8170"/>
                  <a:pt x="17095" y="8168"/>
                  <a:pt x="17106" y="8166"/>
                </a:cubicBezTo>
                <a:cubicBezTo>
                  <a:pt x="17122" y="8163"/>
                  <a:pt x="17137" y="8160"/>
                  <a:pt x="17152" y="8156"/>
                </a:cubicBezTo>
                <a:cubicBezTo>
                  <a:pt x="17154" y="8156"/>
                  <a:pt x="17156" y="8155"/>
                  <a:pt x="17158" y="815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Ink 18"/>
          <p:cNvSpPr/>
          <p:nvPr/>
        </p:nvSpPr>
        <p:spPr>
          <a:xfrm>
            <a:off x="6377040" y="3003480"/>
            <a:ext cx="198360" cy="425520"/>
          </a:xfrm>
          <a:custGeom>
            <a:avLst/>
            <a:gdLst/>
            <a:ahLst/>
            <a:rect l="l" t="t" r="r" b="b"/>
            <a:pathLst>
              <a:path w="549" h="1182">
                <a:moveTo>
                  <a:pt x="18221" y="8427"/>
                </a:moveTo>
                <a:cubicBezTo>
                  <a:pt x="18220" y="8420"/>
                  <a:pt x="18219" y="8416"/>
                  <a:pt x="18219" y="8410"/>
                </a:cubicBezTo>
                <a:cubicBezTo>
                  <a:pt x="18219" y="8407"/>
                  <a:pt x="18221" y="8408"/>
                  <a:pt x="18221" y="8405"/>
                </a:cubicBezTo>
                <a:cubicBezTo>
                  <a:pt x="18221" y="8402"/>
                  <a:pt x="18218" y="8399"/>
                  <a:pt x="18217" y="8395"/>
                </a:cubicBezTo>
                <a:cubicBezTo>
                  <a:pt x="18216" y="8392"/>
                  <a:pt x="18214" y="8390"/>
                  <a:pt x="18213" y="8387"/>
                </a:cubicBezTo>
                <a:cubicBezTo>
                  <a:pt x="18212" y="8383"/>
                  <a:pt x="18215" y="8386"/>
                  <a:pt x="18213" y="8383"/>
                </a:cubicBezTo>
                <a:cubicBezTo>
                  <a:pt x="18211" y="8379"/>
                  <a:pt x="18212" y="8377"/>
                  <a:pt x="18209" y="8374"/>
                </a:cubicBezTo>
                <a:cubicBezTo>
                  <a:pt x="18207" y="8371"/>
                  <a:pt x="18203" y="8372"/>
                  <a:pt x="18200" y="8369"/>
                </a:cubicBezTo>
                <a:cubicBezTo>
                  <a:pt x="18198" y="8367"/>
                  <a:pt x="18196" y="8367"/>
                  <a:pt x="18192" y="8364"/>
                </a:cubicBezTo>
                <a:cubicBezTo>
                  <a:pt x="18189" y="8362"/>
                  <a:pt x="18183" y="8355"/>
                  <a:pt x="18178" y="8353"/>
                </a:cubicBezTo>
                <a:cubicBezTo>
                  <a:pt x="18174" y="8351"/>
                  <a:pt x="18172" y="8350"/>
                  <a:pt x="18169" y="8349"/>
                </a:cubicBezTo>
                <a:cubicBezTo>
                  <a:pt x="18168" y="8349"/>
                  <a:pt x="18156" y="8345"/>
                  <a:pt x="18155" y="8345"/>
                </a:cubicBezTo>
                <a:cubicBezTo>
                  <a:pt x="18144" y="8343"/>
                  <a:pt x="18138" y="8345"/>
                  <a:pt x="18128" y="8345"/>
                </a:cubicBezTo>
                <a:cubicBezTo>
                  <a:pt x="18110" y="8345"/>
                  <a:pt x="18094" y="8344"/>
                  <a:pt x="18076" y="8347"/>
                </a:cubicBezTo>
                <a:cubicBezTo>
                  <a:pt x="18064" y="8349"/>
                  <a:pt x="18052" y="8352"/>
                  <a:pt x="18041" y="8356"/>
                </a:cubicBezTo>
                <a:cubicBezTo>
                  <a:pt x="18035" y="8358"/>
                  <a:pt x="18030" y="8360"/>
                  <a:pt x="18025" y="8363"/>
                </a:cubicBezTo>
                <a:cubicBezTo>
                  <a:pt x="18017" y="8367"/>
                  <a:pt x="18009" y="8369"/>
                  <a:pt x="18002" y="8374"/>
                </a:cubicBezTo>
                <a:cubicBezTo>
                  <a:pt x="17995" y="8378"/>
                  <a:pt x="17990" y="8384"/>
                  <a:pt x="17983" y="8388"/>
                </a:cubicBezTo>
                <a:cubicBezTo>
                  <a:pt x="17972" y="8395"/>
                  <a:pt x="17960" y="8401"/>
                  <a:pt x="17950" y="8410"/>
                </a:cubicBezTo>
                <a:cubicBezTo>
                  <a:pt x="17944" y="8416"/>
                  <a:pt x="17937" y="8422"/>
                  <a:pt x="17931" y="8428"/>
                </a:cubicBezTo>
                <a:cubicBezTo>
                  <a:pt x="17921" y="8439"/>
                  <a:pt x="17913" y="8452"/>
                  <a:pt x="17905" y="8465"/>
                </a:cubicBezTo>
                <a:cubicBezTo>
                  <a:pt x="17900" y="8473"/>
                  <a:pt x="17897" y="8481"/>
                  <a:pt x="17894" y="8490"/>
                </a:cubicBezTo>
                <a:cubicBezTo>
                  <a:pt x="17889" y="8503"/>
                  <a:pt x="17886" y="8517"/>
                  <a:pt x="17882" y="8530"/>
                </a:cubicBezTo>
                <a:cubicBezTo>
                  <a:pt x="17878" y="8541"/>
                  <a:pt x="17876" y="8552"/>
                  <a:pt x="17874" y="8564"/>
                </a:cubicBezTo>
                <a:cubicBezTo>
                  <a:pt x="17872" y="8577"/>
                  <a:pt x="17870" y="8589"/>
                  <a:pt x="17869" y="8602"/>
                </a:cubicBezTo>
                <a:cubicBezTo>
                  <a:pt x="17868" y="8613"/>
                  <a:pt x="17867" y="8625"/>
                  <a:pt x="17867" y="8636"/>
                </a:cubicBezTo>
                <a:cubicBezTo>
                  <a:pt x="17867" y="8651"/>
                  <a:pt x="17869" y="8667"/>
                  <a:pt x="17872" y="8681"/>
                </a:cubicBezTo>
                <a:cubicBezTo>
                  <a:pt x="17875" y="8695"/>
                  <a:pt x="17878" y="8711"/>
                  <a:pt x="17884" y="8724"/>
                </a:cubicBezTo>
                <a:cubicBezTo>
                  <a:pt x="17890" y="8737"/>
                  <a:pt x="17899" y="8746"/>
                  <a:pt x="17907" y="8758"/>
                </a:cubicBezTo>
                <a:cubicBezTo>
                  <a:pt x="17917" y="8772"/>
                  <a:pt x="17928" y="8783"/>
                  <a:pt x="17940" y="8795"/>
                </a:cubicBezTo>
                <a:cubicBezTo>
                  <a:pt x="17952" y="8807"/>
                  <a:pt x="17963" y="8816"/>
                  <a:pt x="17977" y="8824"/>
                </a:cubicBezTo>
                <a:cubicBezTo>
                  <a:pt x="17994" y="8833"/>
                  <a:pt x="18012" y="8840"/>
                  <a:pt x="18031" y="8843"/>
                </a:cubicBezTo>
                <a:cubicBezTo>
                  <a:pt x="18046" y="8845"/>
                  <a:pt x="18063" y="8845"/>
                  <a:pt x="18078" y="8845"/>
                </a:cubicBezTo>
                <a:cubicBezTo>
                  <a:pt x="18093" y="8845"/>
                  <a:pt x="18107" y="8845"/>
                  <a:pt x="18122" y="8843"/>
                </a:cubicBezTo>
                <a:cubicBezTo>
                  <a:pt x="18135" y="8841"/>
                  <a:pt x="18151" y="8839"/>
                  <a:pt x="18163" y="8835"/>
                </a:cubicBezTo>
                <a:cubicBezTo>
                  <a:pt x="18169" y="8833"/>
                  <a:pt x="18174" y="8830"/>
                  <a:pt x="18180" y="8828"/>
                </a:cubicBezTo>
                <a:cubicBezTo>
                  <a:pt x="18183" y="8827"/>
                  <a:pt x="18190" y="8824"/>
                  <a:pt x="18192" y="8823"/>
                </a:cubicBezTo>
                <a:cubicBezTo>
                  <a:pt x="18193" y="8823"/>
                  <a:pt x="18196" y="8822"/>
                  <a:pt x="18196" y="8822"/>
                </a:cubicBezTo>
                <a:cubicBezTo>
                  <a:pt x="18196" y="8819"/>
                  <a:pt x="18193" y="8819"/>
                  <a:pt x="18194" y="8816"/>
                </a:cubicBezTo>
                <a:cubicBezTo>
                  <a:pt x="18195" y="8814"/>
                  <a:pt x="18197" y="8811"/>
                  <a:pt x="18198" y="8809"/>
                </a:cubicBezTo>
                <a:cubicBezTo>
                  <a:pt x="18199" y="8807"/>
                  <a:pt x="18197" y="8808"/>
                  <a:pt x="18198" y="8806"/>
                </a:cubicBezTo>
                <a:cubicBezTo>
                  <a:pt x="18198" y="8804"/>
                  <a:pt x="18198" y="8804"/>
                  <a:pt x="18200" y="8803"/>
                </a:cubicBezTo>
                <a:cubicBezTo>
                  <a:pt x="18203" y="8803"/>
                  <a:pt x="18199" y="8806"/>
                  <a:pt x="18202" y="8806"/>
                </a:cubicBezTo>
                <a:cubicBezTo>
                  <a:pt x="18205" y="8805"/>
                  <a:pt x="18206" y="8804"/>
                  <a:pt x="18209" y="8803"/>
                </a:cubicBezTo>
                <a:cubicBezTo>
                  <a:pt x="18217" y="8801"/>
                  <a:pt x="18225" y="8799"/>
                  <a:pt x="18233" y="8797"/>
                </a:cubicBezTo>
                <a:cubicBezTo>
                  <a:pt x="18237" y="8796"/>
                  <a:pt x="18240" y="8795"/>
                  <a:pt x="18244" y="8794"/>
                </a:cubicBezTo>
                <a:cubicBezTo>
                  <a:pt x="18247" y="8793"/>
                  <a:pt x="18251" y="8793"/>
                  <a:pt x="18254" y="8792"/>
                </a:cubicBezTo>
                <a:cubicBezTo>
                  <a:pt x="18256" y="8792"/>
                  <a:pt x="18258" y="8791"/>
                  <a:pt x="18260" y="8791"/>
                </a:cubicBezTo>
                <a:cubicBezTo>
                  <a:pt x="18257" y="8792"/>
                  <a:pt x="18258" y="8790"/>
                  <a:pt x="18256" y="8791"/>
                </a:cubicBezTo>
                <a:cubicBezTo>
                  <a:pt x="18248" y="8795"/>
                  <a:pt x="18256" y="8791"/>
                  <a:pt x="18252" y="8793"/>
                </a:cubicBezTo>
                <a:cubicBezTo>
                  <a:pt x="18252" y="8793"/>
                  <a:pt x="18252" y="8794"/>
                  <a:pt x="18252" y="8794"/>
                </a:cubicBezTo>
                <a:cubicBezTo>
                  <a:pt x="18249" y="8796"/>
                  <a:pt x="18254" y="8793"/>
                  <a:pt x="18250" y="8795"/>
                </a:cubicBezTo>
                <a:cubicBezTo>
                  <a:pt x="18244" y="8799"/>
                  <a:pt x="18241" y="8801"/>
                  <a:pt x="18236" y="8803"/>
                </a:cubicBezTo>
              </a:path>
              <a:path w="549" h="1182">
                <a:moveTo>
                  <a:pt x="18018" y="9277"/>
                </a:moveTo>
                <a:cubicBezTo>
                  <a:pt x="18016" y="9274"/>
                  <a:pt x="18016" y="9269"/>
                  <a:pt x="18012" y="9265"/>
                </a:cubicBezTo>
                <a:cubicBezTo>
                  <a:pt x="18007" y="9260"/>
                  <a:pt x="18002" y="9257"/>
                  <a:pt x="17996" y="9252"/>
                </a:cubicBezTo>
                <a:cubicBezTo>
                  <a:pt x="17992" y="9249"/>
                  <a:pt x="17987" y="9244"/>
                  <a:pt x="17983" y="9242"/>
                </a:cubicBezTo>
                <a:cubicBezTo>
                  <a:pt x="17979" y="9240"/>
                  <a:pt x="17975" y="9240"/>
                  <a:pt x="17971" y="9238"/>
                </a:cubicBezTo>
                <a:cubicBezTo>
                  <a:pt x="17966" y="9235"/>
                  <a:pt x="17962" y="9233"/>
                  <a:pt x="17956" y="9231"/>
                </a:cubicBezTo>
                <a:cubicBezTo>
                  <a:pt x="17948" y="9227"/>
                  <a:pt x="17939" y="9224"/>
                  <a:pt x="17931" y="9223"/>
                </a:cubicBezTo>
                <a:cubicBezTo>
                  <a:pt x="17922" y="9222"/>
                  <a:pt x="17916" y="9222"/>
                  <a:pt x="17907" y="9222"/>
                </a:cubicBezTo>
                <a:cubicBezTo>
                  <a:pt x="17900" y="9222"/>
                  <a:pt x="17889" y="9220"/>
                  <a:pt x="17882" y="9221"/>
                </a:cubicBezTo>
                <a:cubicBezTo>
                  <a:pt x="17871" y="9223"/>
                  <a:pt x="17860" y="9228"/>
                  <a:pt x="17849" y="9231"/>
                </a:cubicBezTo>
                <a:cubicBezTo>
                  <a:pt x="17841" y="9234"/>
                  <a:pt x="17830" y="9234"/>
                  <a:pt x="17822" y="9238"/>
                </a:cubicBezTo>
                <a:cubicBezTo>
                  <a:pt x="17814" y="9241"/>
                  <a:pt x="17806" y="9248"/>
                  <a:pt x="17799" y="9253"/>
                </a:cubicBezTo>
                <a:cubicBezTo>
                  <a:pt x="17793" y="9258"/>
                  <a:pt x="17787" y="9264"/>
                  <a:pt x="17781" y="9269"/>
                </a:cubicBezTo>
                <a:cubicBezTo>
                  <a:pt x="17774" y="9274"/>
                  <a:pt x="17771" y="9279"/>
                  <a:pt x="17766" y="9285"/>
                </a:cubicBezTo>
                <a:cubicBezTo>
                  <a:pt x="17758" y="9295"/>
                  <a:pt x="17748" y="9305"/>
                  <a:pt x="17743" y="9314"/>
                </a:cubicBezTo>
                <a:cubicBezTo>
                  <a:pt x="17740" y="9320"/>
                  <a:pt x="17734" y="9332"/>
                  <a:pt x="17731" y="9340"/>
                </a:cubicBezTo>
                <a:cubicBezTo>
                  <a:pt x="17726" y="9352"/>
                  <a:pt x="17721" y="9366"/>
                  <a:pt x="17718" y="9379"/>
                </a:cubicBezTo>
                <a:cubicBezTo>
                  <a:pt x="17716" y="9390"/>
                  <a:pt x="17716" y="9395"/>
                  <a:pt x="17716" y="9406"/>
                </a:cubicBezTo>
                <a:cubicBezTo>
                  <a:pt x="17716" y="9419"/>
                  <a:pt x="17723" y="9429"/>
                  <a:pt x="17725" y="9441"/>
                </a:cubicBezTo>
                <a:cubicBezTo>
                  <a:pt x="17727" y="9456"/>
                  <a:pt x="17727" y="9465"/>
                  <a:pt x="17733" y="9479"/>
                </a:cubicBezTo>
                <a:cubicBezTo>
                  <a:pt x="17736" y="9486"/>
                  <a:pt x="17738" y="9493"/>
                  <a:pt x="17743" y="9499"/>
                </a:cubicBezTo>
                <a:cubicBezTo>
                  <a:pt x="17749" y="9506"/>
                  <a:pt x="17765" y="9517"/>
                  <a:pt x="17774" y="9520"/>
                </a:cubicBezTo>
                <a:cubicBezTo>
                  <a:pt x="17783" y="9523"/>
                  <a:pt x="17792" y="9522"/>
                  <a:pt x="17801" y="9522"/>
                </a:cubicBezTo>
                <a:cubicBezTo>
                  <a:pt x="17812" y="9521"/>
                  <a:pt x="17821" y="9519"/>
                  <a:pt x="17830" y="9513"/>
                </a:cubicBezTo>
                <a:cubicBezTo>
                  <a:pt x="17839" y="9508"/>
                  <a:pt x="17846" y="9502"/>
                  <a:pt x="17853" y="9495"/>
                </a:cubicBezTo>
                <a:cubicBezTo>
                  <a:pt x="17862" y="9486"/>
                  <a:pt x="17871" y="9476"/>
                  <a:pt x="17880" y="9466"/>
                </a:cubicBezTo>
                <a:cubicBezTo>
                  <a:pt x="17886" y="9459"/>
                  <a:pt x="17890" y="9453"/>
                  <a:pt x="17894" y="9445"/>
                </a:cubicBezTo>
                <a:cubicBezTo>
                  <a:pt x="17898" y="9437"/>
                  <a:pt x="17903" y="9429"/>
                  <a:pt x="17907" y="9421"/>
                </a:cubicBezTo>
                <a:cubicBezTo>
                  <a:pt x="17912" y="9411"/>
                  <a:pt x="17916" y="9400"/>
                  <a:pt x="17919" y="9390"/>
                </a:cubicBezTo>
                <a:cubicBezTo>
                  <a:pt x="17927" y="9364"/>
                  <a:pt x="17928" y="9337"/>
                  <a:pt x="17931" y="9310"/>
                </a:cubicBezTo>
                <a:cubicBezTo>
                  <a:pt x="17933" y="9294"/>
                  <a:pt x="17935" y="9278"/>
                  <a:pt x="17936" y="9262"/>
                </a:cubicBezTo>
                <a:cubicBezTo>
                  <a:pt x="17937" y="9238"/>
                  <a:pt x="17936" y="9214"/>
                  <a:pt x="17934" y="9191"/>
                </a:cubicBezTo>
                <a:cubicBezTo>
                  <a:pt x="17932" y="9177"/>
                  <a:pt x="17931" y="9162"/>
                  <a:pt x="17929" y="9148"/>
                </a:cubicBezTo>
                <a:cubicBezTo>
                  <a:pt x="17921" y="9096"/>
                  <a:pt x="17903" y="9049"/>
                  <a:pt x="17884" y="9001"/>
                </a:cubicBezTo>
                <a:cubicBezTo>
                  <a:pt x="17877" y="8983"/>
                  <a:pt x="17868" y="8965"/>
                  <a:pt x="17861" y="8949"/>
                </a:cubicBezTo>
                <a:cubicBezTo>
                  <a:pt x="17860" y="8946"/>
                  <a:pt x="17860" y="8947"/>
                  <a:pt x="17859" y="8944"/>
                </a:cubicBezTo>
                <a:cubicBezTo>
                  <a:pt x="17859" y="8944"/>
                  <a:pt x="17859" y="8945"/>
                  <a:pt x="17859" y="8945"/>
                </a:cubicBezTo>
                <a:cubicBezTo>
                  <a:pt x="17860" y="8949"/>
                  <a:pt x="17862" y="8952"/>
                  <a:pt x="17863" y="8957"/>
                </a:cubicBezTo>
                <a:cubicBezTo>
                  <a:pt x="17868" y="8973"/>
                  <a:pt x="17874" y="8990"/>
                  <a:pt x="17878" y="9006"/>
                </a:cubicBezTo>
                <a:cubicBezTo>
                  <a:pt x="17882" y="9021"/>
                  <a:pt x="17885" y="9037"/>
                  <a:pt x="17888" y="9052"/>
                </a:cubicBezTo>
                <a:cubicBezTo>
                  <a:pt x="17893" y="9075"/>
                  <a:pt x="17896" y="9098"/>
                  <a:pt x="17900" y="9121"/>
                </a:cubicBezTo>
                <a:cubicBezTo>
                  <a:pt x="17912" y="9195"/>
                  <a:pt x="17919" y="9271"/>
                  <a:pt x="17940" y="9343"/>
                </a:cubicBezTo>
                <a:cubicBezTo>
                  <a:pt x="17944" y="9356"/>
                  <a:pt x="17948" y="9369"/>
                  <a:pt x="17954" y="9381"/>
                </a:cubicBezTo>
                <a:cubicBezTo>
                  <a:pt x="17959" y="9392"/>
                  <a:pt x="17965" y="9402"/>
                  <a:pt x="17973" y="9412"/>
                </a:cubicBezTo>
                <a:cubicBezTo>
                  <a:pt x="17979" y="9420"/>
                  <a:pt x="17984" y="9428"/>
                  <a:pt x="17991" y="9435"/>
                </a:cubicBezTo>
                <a:cubicBezTo>
                  <a:pt x="17997" y="9441"/>
                  <a:pt x="18005" y="9449"/>
                  <a:pt x="18012" y="9453"/>
                </a:cubicBezTo>
                <a:cubicBezTo>
                  <a:pt x="18028" y="9463"/>
                  <a:pt x="18047" y="9469"/>
                  <a:pt x="18066" y="9472"/>
                </a:cubicBezTo>
                <a:cubicBezTo>
                  <a:pt x="18084" y="9475"/>
                  <a:pt x="18102" y="9475"/>
                  <a:pt x="18120" y="9477"/>
                </a:cubicBezTo>
                <a:cubicBezTo>
                  <a:pt x="18127" y="9478"/>
                  <a:pt x="18135" y="9478"/>
                  <a:pt x="18142" y="9479"/>
                </a:cubicBezTo>
                <a:cubicBezTo>
                  <a:pt x="18144" y="9479"/>
                  <a:pt x="18149" y="9481"/>
                  <a:pt x="18149" y="9481"/>
                </a:cubicBezTo>
                <a:cubicBezTo>
                  <a:pt x="18151" y="9476"/>
                  <a:pt x="18151" y="9470"/>
                  <a:pt x="18153" y="9465"/>
                </a:cubicBezTo>
                <a:cubicBezTo>
                  <a:pt x="18153" y="9464"/>
                  <a:pt x="18155" y="9463"/>
                  <a:pt x="18155" y="946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Ink 19"/>
          <p:cNvSpPr/>
          <p:nvPr/>
        </p:nvSpPr>
        <p:spPr>
          <a:xfrm>
            <a:off x="7780320" y="3406680"/>
            <a:ext cx="214200" cy="249480"/>
          </a:xfrm>
          <a:custGeom>
            <a:avLst/>
            <a:gdLst/>
            <a:ahLst/>
            <a:rect l="l" t="t" r="r" b="b"/>
            <a:pathLst>
              <a:path w="596" h="690">
                <a:moveTo>
                  <a:pt x="21967" y="9856"/>
                </a:moveTo>
                <a:cubicBezTo>
                  <a:pt x="21965" y="9854"/>
                  <a:pt x="21968" y="9858"/>
                  <a:pt x="21967" y="9856"/>
                </a:cubicBezTo>
                <a:cubicBezTo>
                  <a:pt x="21965" y="9852"/>
                  <a:pt x="21963" y="9853"/>
                  <a:pt x="21960" y="9850"/>
                </a:cubicBezTo>
                <a:cubicBezTo>
                  <a:pt x="21956" y="9846"/>
                  <a:pt x="21961" y="9842"/>
                  <a:pt x="21954" y="9837"/>
                </a:cubicBezTo>
                <a:cubicBezTo>
                  <a:pt x="21950" y="9834"/>
                  <a:pt x="21941" y="9832"/>
                  <a:pt x="21936" y="9831"/>
                </a:cubicBezTo>
                <a:cubicBezTo>
                  <a:pt x="21926" y="9828"/>
                  <a:pt x="21916" y="9830"/>
                  <a:pt x="21907" y="9828"/>
                </a:cubicBezTo>
                <a:cubicBezTo>
                  <a:pt x="21897" y="9826"/>
                  <a:pt x="21888" y="9823"/>
                  <a:pt x="21878" y="9822"/>
                </a:cubicBezTo>
                <a:cubicBezTo>
                  <a:pt x="21872" y="9821"/>
                  <a:pt x="21870" y="9824"/>
                  <a:pt x="21863" y="9823"/>
                </a:cubicBezTo>
                <a:cubicBezTo>
                  <a:pt x="21858" y="9822"/>
                  <a:pt x="21853" y="9819"/>
                  <a:pt x="21847" y="9819"/>
                </a:cubicBezTo>
                <a:cubicBezTo>
                  <a:pt x="21841" y="9819"/>
                  <a:pt x="21836" y="9820"/>
                  <a:pt x="21830" y="9819"/>
                </a:cubicBezTo>
                <a:cubicBezTo>
                  <a:pt x="21825" y="9818"/>
                  <a:pt x="21822" y="9819"/>
                  <a:pt x="21816" y="9819"/>
                </a:cubicBezTo>
                <a:cubicBezTo>
                  <a:pt x="21807" y="9819"/>
                  <a:pt x="21797" y="9816"/>
                  <a:pt x="21789" y="9817"/>
                </a:cubicBezTo>
                <a:cubicBezTo>
                  <a:pt x="21776" y="9819"/>
                  <a:pt x="21762" y="9826"/>
                  <a:pt x="21749" y="9830"/>
                </a:cubicBezTo>
                <a:cubicBezTo>
                  <a:pt x="21742" y="9832"/>
                  <a:pt x="21740" y="9833"/>
                  <a:pt x="21733" y="9835"/>
                </a:cubicBezTo>
                <a:cubicBezTo>
                  <a:pt x="21728" y="9837"/>
                  <a:pt x="21722" y="9840"/>
                  <a:pt x="21720" y="9841"/>
                </a:cubicBezTo>
                <a:cubicBezTo>
                  <a:pt x="21715" y="9843"/>
                  <a:pt x="21710" y="9843"/>
                  <a:pt x="21706" y="9845"/>
                </a:cubicBezTo>
                <a:cubicBezTo>
                  <a:pt x="21705" y="9846"/>
                  <a:pt x="21704" y="9848"/>
                  <a:pt x="21702" y="9849"/>
                </a:cubicBezTo>
                <a:cubicBezTo>
                  <a:pt x="21697" y="9852"/>
                  <a:pt x="21692" y="9853"/>
                  <a:pt x="21687" y="9858"/>
                </a:cubicBezTo>
                <a:cubicBezTo>
                  <a:pt x="21683" y="9862"/>
                  <a:pt x="21681" y="9867"/>
                  <a:pt x="21677" y="9871"/>
                </a:cubicBezTo>
                <a:cubicBezTo>
                  <a:pt x="21674" y="9875"/>
                  <a:pt x="21672" y="9879"/>
                  <a:pt x="21669" y="9883"/>
                </a:cubicBezTo>
                <a:cubicBezTo>
                  <a:pt x="21667" y="9887"/>
                  <a:pt x="21665" y="9889"/>
                  <a:pt x="21663" y="9893"/>
                </a:cubicBezTo>
                <a:cubicBezTo>
                  <a:pt x="21661" y="9897"/>
                  <a:pt x="21658" y="9904"/>
                  <a:pt x="21656" y="9909"/>
                </a:cubicBezTo>
                <a:cubicBezTo>
                  <a:pt x="21654" y="9914"/>
                  <a:pt x="21652" y="9917"/>
                  <a:pt x="21650" y="9922"/>
                </a:cubicBezTo>
                <a:cubicBezTo>
                  <a:pt x="21647" y="9928"/>
                  <a:pt x="21644" y="9935"/>
                  <a:pt x="21642" y="9941"/>
                </a:cubicBezTo>
                <a:cubicBezTo>
                  <a:pt x="21640" y="9947"/>
                  <a:pt x="21638" y="9953"/>
                  <a:pt x="21636" y="9958"/>
                </a:cubicBezTo>
                <a:cubicBezTo>
                  <a:pt x="21634" y="9964"/>
                  <a:pt x="21629" y="9971"/>
                  <a:pt x="21627" y="9977"/>
                </a:cubicBezTo>
                <a:cubicBezTo>
                  <a:pt x="21626" y="9981"/>
                  <a:pt x="21622" y="9984"/>
                  <a:pt x="21621" y="9988"/>
                </a:cubicBezTo>
                <a:cubicBezTo>
                  <a:pt x="21620" y="9992"/>
                  <a:pt x="21620" y="9997"/>
                  <a:pt x="21619" y="10001"/>
                </a:cubicBezTo>
                <a:cubicBezTo>
                  <a:pt x="21617" y="10014"/>
                  <a:pt x="21612" y="10028"/>
                  <a:pt x="21611" y="10041"/>
                </a:cubicBezTo>
                <a:cubicBezTo>
                  <a:pt x="21611" y="10047"/>
                  <a:pt x="21612" y="10052"/>
                  <a:pt x="21613" y="10058"/>
                </a:cubicBezTo>
                <a:cubicBezTo>
                  <a:pt x="21614" y="10065"/>
                  <a:pt x="21615" y="10067"/>
                  <a:pt x="21617" y="10073"/>
                </a:cubicBezTo>
                <a:cubicBezTo>
                  <a:pt x="21619" y="10078"/>
                  <a:pt x="21621" y="10083"/>
                  <a:pt x="21623" y="10087"/>
                </a:cubicBezTo>
                <a:cubicBezTo>
                  <a:pt x="21626" y="10091"/>
                  <a:pt x="21632" y="10097"/>
                  <a:pt x="21636" y="10101"/>
                </a:cubicBezTo>
                <a:cubicBezTo>
                  <a:pt x="21641" y="10107"/>
                  <a:pt x="21647" y="10112"/>
                  <a:pt x="21652" y="10117"/>
                </a:cubicBezTo>
                <a:cubicBezTo>
                  <a:pt x="21658" y="10123"/>
                  <a:pt x="21661" y="10129"/>
                  <a:pt x="21667" y="10134"/>
                </a:cubicBezTo>
                <a:cubicBezTo>
                  <a:pt x="21671" y="10138"/>
                  <a:pt x="21676" y="10141"/>
                  <a:pt x="21681" y="10144"/>
                </a:cubicBezTo>
                <a:cubicBezTo>
                  <a:pt x="21687" y="10147"/>
                  <a:pt x="21690" y="10148"/>
                  <a:pt x="21696" y="10150"/>
                </a:cubicBezTo>
                <a:cubicBezTo>
                  <a:pt x="21700" y="10151"/>
                  <a:pt x="21707" y="10151"/>
                  <a:pt x="21712" y="10152"/>
                </a:cubicBezTo>
                <a:cubicBezTo>
                  <a:pt x="21725" y="10153"/>
                  <a:pt x="21738" y="10151"/>
                  <a:pt x="21751" y="10151"/>
                </a:cubicBezTo>
                <a:cubicBezTo>
                  <a:pt x="21755" y="10151"/>
                  <a:pt x="21759" y="10150"/>
                  <a:pt x="21764" y="10150"/>
                </a:cubicBezTo>
                <a:cubicBezTo>
                  <a:pt x="21780" y="10149"/>
                  <a:pt x="21792" y="10145"/>
                  <a:pt x="21807" y="10140"/>
                </a:cubicBezTo>
                <a:cubicBezTo>
                  <a:pt x="21819" y="10136"/>
                  <a:pt x="21828" y="10133"/>
                  <a:pt x="21838" y="10127"/>
                </a:cubicBezTo>
                <a:cubicBezTo>
                  <a:pt x="21843" y="10124"/>
                  <a:pt x="21849" y="10119"/>
                  <a:pt x="21853" y="10116"/>
                </a:cubicBezTo>
                <a:cubicBezTo>
                  <a:pt x="21862" y="10110"/>
                  <a:pt x="21869" y="10103"/>
                  <a:pt x="21876" y="10095"/>
                </a:cubicBezTo>
                <a:cubicBezTo>
                  <a:pt x="21882" y="10089"/>
                  <a:pt x="21885" y="10088"/>
                  <a:pt x="21888" y="10081"/>
                </a:cubicBezTo>
                <a:cubicBezTo>
                  <a:pt x="21891" y="10075"/>
                  <a:pt x="21891" y="10064"/>
                  <a:pt x="21894" y="10057"/>
                </a:cubicBezTo>
                <a:cubicBezTo>
                  <a:pt x="21896" y="10052"/>
                  <a:pt x="21898" y="10048"/>
                  <a:pt x="21900" y="10043"/>
                </a:cubicBezTo>
                <a:cubicBezTo>
                  <a:pt x="21903" y="10037"/>
                  <a:pt x="21908" y="10028"/>
                  <a:pt x="21909" y="10023"/>
                </a:cubicBezTo>
                <a:cubicBezTo>
                  <a:pt x="21911" y="10016"/>
                  <a:pt x="21912" y="10007"/>
                  <a:pt x="21913" y="10000"/>
                </a:cubicBezTo>
                <a:cubicBezTo>
                  <a:pt x="21915" y="9988"/>
                  <a:pt x="21915" y="9975"/>
                  <a:pt x="21917" y="9963"/>
                </a:cubicBezTo>
                <a:cubicBezTo>
                  <a:pt x="21918" y="9954"/>
                  <a:pt x="21916" y="9944"/>
                  <a:pt x="21917" y="9935"/>
                </a:cubicBezTo>
                <a:cubicBezTo>
                  <a:pt x="21918" y="9921"/>
                  <a:pt x="21922" y="9906"/>
                  <a:pt x="21923" y="9891"/>
                </a:cubicBezTo>
                <a:cubicBezTo>
                  <a:pt x="21924" y="9879"/>
                  <a:pt x="21923" y="9868"/>
                  <a:pt x="21923" y="9856"/>
                </a:cubicBezTo>
                <a:cubicBezTo>
                  <a:pt x="21923" y="9841"/>
                  <a:pt x="21924" y="9827"/>
                  <a:pt x="21923" y="9812"/>
                </a:cubicBezTo>
                <a:cubicBezTo>
                  <a:pt x="21922" y="9798"/>
                  <a:pt x="21923" y="9784"/>
                  <a:pt x="21921" y="9770"/>
                </a:cubicBezTo>
                <a:cubicBezTo>
                  <a:pt x="21919" y="9750"/>
                  <a:pt x="21916" y="9730"/>
                  <a:pt x="21915" y="9710"/>
                </a:cubicBezTo>
                <a:cubicBezTo>
                  <a:pt x="21914" y="9689"/>
                  <a:pt x="21915" y="9668"/>
                  <a:pt x="21915" y="9648"/>
                </a:cubicBezTo>
                <a:cubicBezTo>
                  <a:pt x="21915" y="9638"/>
                  <a:pt x="21915" y="9629"/>
                  <a:pt x="21915" y="9619"/>
                </a:cubicBezTo>
                <a:cubicBezTo>
                  <a:pt x="21915" y="9608"/>
                  <a:pt x="21912" y="9597"/>
                  <a:pt x="21911" y="9586"/>
                </a:cubicBezTo>
                <a:cubicBezTo>
                  <a:pt x="21910" y="9576"/>
                  <a:pt x="21909" y="9565"/>
                  <a:pt x="21907" y="9555"/>
                </a:cubicBezTo>
                <a:cubicBezTo>
                  <a:pt x="21905" y="9546"/>
                  <a:pt x="21902" y="9537"/>
                  <a:pt x="21900" y="9528"/>
                </a:cubicBezTo>
                <a:cubicBezTo>
                  <a:pt x="21898" y="9519"/>
                  <a:pt x="21896" y="9510"/>
                  <a:pt x="21894" y="9501"/>
                </a:cubicBezTo>
                <a:cubicBezTo>
                  <a:pt x="21893" y="9494"/>
                  <a:pt x="21892" y="9487"/>
                  <a:pt x="21890" y="9480"/>
                </a:cubicBezTo>
                <a:cubicBezTo>
                  <a:pt x="21889" y="9475"/>
                  <a:pt x="21887" y="9467"/>
                  <a:pt x="21886" y="9465"/>
                </a:cubicBezTo>
                <a:cubicBezTo>
                  <a:pt x="21886" y="9465"/>
                  <a:pt x="21886" y="9464"/>
                  <a:pt x="21886" y="9464"/>
                </a:cubicBezTo>
                <a:cubicBezTo>
                  <a:pt x="21886" y="9464"/>
                  <a:pt x="21884" y="9469"/>
                  <a:pt x="21884" y="9471"/>
                </a:cubicBezTo>
                <a:cubicBezTo>
                  <a:pt x="21882" y="9479"/>
                  <a:pt x="21879" y="9486"/>
                  <a:pt x="21878" y="9495"/>
                </a:cubicBezTo>
                <a:cubicBezTo>
                  <a:pt x="21876" y="9508"/>
                  <a:pt x="21877" y="9516"/>
                  <a:pt x="21876" y="9529"/>
                </a:cubicBezTo>
                <a:cubicBezTo>
                  <a:pt x="21875" y="9545"/>
                  <a:pt x="21873" y="9562"/>
                  <a:pt x="21873" y="9579"/>
                </a:cubicBezTo>
                <a:cubicBezTo>
                  <a:pt x="21873" y="9600"/>
                  <a:pt x="21875" y="9620"/>
                  <a:pt x="21878" y="9641"/>
                </a:cubicBezTo>
                <a:cubicBezTo>
                  <a:pt x="21881" y="9661"/>
                  <a:pt x="21884" y="9681"/>
                  <a:pt x="21886" y="9701"/>
                </a:cubicBezTo>
                <a:cubicBezTo>
                  <a:pt x="21887" y="9714"/>
                  <a:pt x="21889" y="9728"/>
                  <a:pt x="21890" y="9741"/>
                </a:cubicBezTo>
                <a:cubicBezTo>
                  <a:pt x="21891" y="9754"/>
                  <a:pt x="21891" y="9767"/>
                  <a:pt x="21894" y="9780"/>
                </a:cubicBezTo>
                <a:cubicBezTo>
                  <a:pt x="21898" y="9798"/>
                  <a:pt x="21906" y="9814"/>
                  <a:pt x="21911" y="9831"/>
                </a:cubicBezTo>
                <a:cubicBezTo>
                  <a:pt x="21915" y="9845"/>
                  <a:pt x="21913" y="9859"/>
                  <a:pt x="21917" y="9872"/>
                </a:cubicBezTo>
                <a:cubicBezTo>
                  <a:pt x="21921" y="9884"/>
                  <a:pt x="21928" y="9902"/>
                  <a:pt x="21933" y="9913"/>
                </a:cubicBezTo>
                <a:cubicBezTo>
                  <a:pt x="21939" y="9926"/>
                  <a:pt x="21946" y="9938"/>
                  <a:pt x="21952" y="9950"/>
                </a:cubicBezTo>
                <a:cubicBezTo>
                  <a:pt x="21957" y="9959"/>
                  <a:pt x="21961" y="9967"/>
                  <a:pt x="21967" y="9976"/>
                </a:cubicBezTo>
                <a:cubicBezTo>
                  <a:pt x="21975" y="9988"/>
                  <a:pt x="21984" y="10001"/>
                  <a:pt x="21995" y="10010"/>
                </a:cubicBezTo>
                <a:cubicBezTo>
                  <a:pt x="22004" y="10018"/>
                  <a:pt x="22011" y="10022"/>
                  <a:pt x="22022" y="10027"/>
                </a:cubicBezTo>
                <a:cubicBezTo>
                  <a:pt x="22034" y="10033"/>
                  <a:pt x="22049" y="10037"/>
                  <a:pt x="22062" y="10040"/>
                </a:cubicBezTo>
                <a:cubicBezTo>
                  <a:pt x="22082" y="10044"/>
                  <a:pt x="22102" y="10047"/>
                  <a:pt x="22122" y="10049"/>
                </a:cubicBezTo>
                <a:cubicBezTo>
                  <a:pt x="22139" y="10051"/>
                  <a:pt x="22154" y="10052"/>
                  <a:pt x="22171" y="10051"/>
                </a:cubicBezTo>
                <a:cubicBezTo>
                  <a:pt x="22179" y="10050"/>
                  <a:pt x="22186" y="10049"/>
                  <a:pt x="22194" y="10048"/>
                </a:cubicBezTo>
                <a:cubicBezTo>
                  <a:pt x="22196" y="10048"/>
                  <a:pt x="22202" y="10048"/>
                  <a:pt x="22202" y="10048"/>
                </a:cubicBezTo>
                <a:cubicBezTo>
                  <a:pt x="22204" y="10048"/>
                  <a:pt x="22202" y="10048"/>
                  <a:pt x="22204" y="10048"/>
                </a:cubicBezTo>
                <a:cubicBezTo>
                  <a:pt x="22205" y="10048"/>
                  <a:pt x="22203" y="10047"/>
                  <a:pt x="22204" y="1004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Ink 20"/>
          <p:cNvSpPr/>
          <p:nvPr/>
        </p:nvSpPr>
        <p:spPr>
          <a:xfrm>
            <a:off x="8624880" y="3745080"/>
            <a:ext cx="146160" cy="137880"/>
          </a:xfrm>
          <a:custGeom>
            <a:avLst/>
            <a:gdLst/>
            <a:ahLst/>
            <a:rect l="l" t="t" r="r" b="b"/>
            <a:pathLst>
              <a:path w="403" h="385">
                <a:moveTo>
                  <a:pt x="24018" y="10583"/>
                </a:moveTo>
                <a:cubicBezTo>
                  <a:pt x="24039" y="10583"/>
                  <a:pt x="24061" y="10589"/>
                  <a:pt x="24082" y="10587"/>
                </a:cubicBezTo>
                <a:cubicBezTo>
                  <a:pt x="24094" y="10586"/>
                  <a:pt x="24106" y="10582"/>
                  <a:pt x="24117" y="10580"/>
                </a:cubicBezTo>
                <a:cubicBezTo>
                  <a:pt x="24125" y="10578"/>
                  <a:pt x="24132" y="10576"/>
                  <a:pt x="24140" y="10574"/>
                </a:cubicBezTo>
                <a:cubicBezTo>
                  <a:pt x="24151" y="10571"/>
                  <a:pt x="24163" y="10569"/>
                  <a:pt x="24173" y="10564"/>
                </a:cubicBezTo>
                <a:cubicBezTo>
                  <a:pt x="24182" y="10559"/>
                  <a:pt x="24191" y="10550"/>
                  <a:pt x="24198" y="10543"/>
                </a:cubicBezTo>
                <a:cubicBezTo>
                  <a:pt x="24203" y="10538"/>
                  <a:pt x="24204" y="10534"/>
                  <a:pt x="24208" y="10528"/>
                </a:cubicBezTo>
                <a:cubicBezTo>
                  <a:pt x="24213" y="10520"/>
                  <a:pt x="24212" y="10518"/>
                  <a:pt x="24215" y="10509"/>
                </a:cubicBezTo>
                <a:cubicBezTo>
                  <a:pt x="24219" y="10497"/>
                  <a:pt x="24225" y="10484"/>
                  <a:pt x="24225" y="10471"/>
                </a:cubicBezTo>
                <a:cubicBezTo>
                  <a:pt x="24225" y="10466"/>
                  <a:pt x="24223" y="10454"/>
                  <a:pt x="24221" y="10449"/>
                </a:cubicBezTo>
                <a:cubicBezTo>
                  <a:pt x="24219" y="10445"/>
                  <a:pt x="24211" y="10434"/>
                  <a:pt x="24208" y="10431"/>
                </a:cubicBezTo>
                <a:cubicBezTo>
                  <a:pt x="24204" y="10426"/>
                  <a:pt x="24197" y="10423"/>
                  <a:pt x="24192" y="10419"/>
                </a:cubicBezTo>
                <a:cubicBezTo>
                  <a:pt x="24185" y="10413"/>
                  <a:pt x="24178" y="10409"/>
                  <a:pt x="24169" y="10406"/>
                </a:cubicBezTo>
                <a:cubicBezTo>
                  <a:pt x="24164" y="10404"/>
                  <a:pt x="24158" y="10403"/>
                  <a:pt x="24153" y="10402"/>
                </a:cubicBezTo>
                <a:cubicBezTo>
                  <a:pt x="24141" y="10400"/>
                  <a:pt x="24140" y="10405"/>
                  <a:pt x="24130" y="10407"/>
                </a:cubicBezTo>
                <a:cubicBezTo>
                  <a:pt x="24119" y="10409"/>
                  <a:pt x="24110" y="10412"/>
                  <a:pt x="24099" y="10416"/>
                </a:cubicBezTo>
                <a:cubicBezTo>
                  <a:pt x="24091" y="10419"/>
                  <a:pt x="24085" y="10424"/>
                  <a:pt x="24078" y="10428"/>
                </a:cubicBezTo>
                <a:cubicBezTo>
                  <a:pt x="24067" y="10435"/>
                  <a:pt x="24052" y="10447"/>
                  <a:pt x="24043" y="10457"/>
                </a:cubicBezTo>
                <a:cubicBezTo>
                  <a:pt x="24037" y="10463"/>
                  <a:pt x="24034" y="10472"/>
                  <a:pt x="24029" y="10478"/>
                </a:cubicBezTo>
                <a:cubicBezTo>
                  <a:pt x="24019" y="10489"/>
                  <a:pt x="24015" y="10498"/>
                  <a:pt x="24008" y="10510"/>
                </a:cubicBezTo>
                <a:cubicBezTo>
                  <a:pt x="24002" y="10520"/>
                  <a:pt x="23996" y="10530"/>
                  <a:pt x="23989" y="10540"/>
                </a:cubicBezTo>
                <a:cubicBezTo>
                  <a:pt x="23982" y="10551"/>
                  <a:pt x="23974" y="10560"/>
                  <a:pt x="23971" y="10572"/>
                </a:cubicBezTo>
                <a:cubicBezTo>
                  <a:pt x="23968" y="10585"/>
                  <a:pt x="23968" y="10599"/>
                  <a:pt x="23966" y="10612"/>
                </a:cubicBezTo>
                <a:cubicBezTo>
                  <a:pt x="23964" y="10625"/>
                  <a:pt x="23963" y="10637"/>
                  <a:pt x="23962" y="10650"/>
                </a:cubicBezTo>
                <a:cubicBezTo>
                  <a:pt x="23961" y="10658"/>
                  <a:pt x="23959" y="10670"/>
                  <a:pt x="23962" y="10678"/>
                </a:cubicBezTo>
                <a:cubicBezTo>
                  <a:pt x="23965" y="10686"/>
                  <a:pt x="23972" y="10697"/>
                  <a:pt x="23977" y="10705"/>
                </a:cubicBezTo>
                <a:cubicBezTo>
                  <a:pt x="23982" y="10712"/>
                  <a:pt x="23988" y="10720"/>
                  <a:pt x="23993" y="10727"/>
                </a:cubicBezTo>
                <a:cubicBezTo>
                  <a:pt x="23999" y="10735"/>
                  <a:pt x="24005" y="10743"/>
                  <a:pt x="24012" y="10750"/>
                </a:cubicBezTo>
                <a:cubicBezTo>
                  <a:pt x="24020" y="10758"/>
                  <a:pt x="24029" y="10764"/>
                  <a:pt x="24039" y="10769"/>
                </a:cubicBezTo>
                <a:cubicBezTo>
                  <a:pt x="24047" y="10773"/>
                  <a:pt x="24059" y="10777"/>
                  <a:pt x="24068" y="10779"/>
                </a:cubicBezTo>
                <a:cubicBezTo>
                  <a:pt x="24079" y="10781"/>
                  <a:pt x="24092" y="10783"/>
                  <a:pt x="24103" y="10784"/>
                </a:cubicBezTo>
                <a:cubicBezTo>
                  <a:pt x="24120" y="10786"/>
                  <a:pt x="24138" y="10785"/>
                  <a:pt x="24155" y="10784"/>
                </a:cubicBezTo>
                <a:cubicBezTo>
                  <a:pt x="24169" y="10783"/>
                  <a:pt x="24183" y="10781"/>
                  <a:pt x="24196" y="10780"/>
                </a:cubicBezTo>
                <a:cubicBezTo>
                  <a:pt x="24213" y="10779"/>
                  <a:pt x="24231" y="10779"/>
                  <a:pt x="24248" y="10777"/>
                </a:cubicBezTo>
                <a:cubicBezTo>
                  <a:pt x="24260" y="10776"/>
                  <a:pt x="24271" y="10773"/>
                  <a:pt x="24283" y="10772"/>
                </a:cubicBezTo>
                <a:cubicBezTo>
                  <a:pt x="24294" y="10771"/>
                  <a:pt x="24304" y="10769"/>
                  <a:pt x="24314" y="10767"/>
                </a:cubicBezTo>
                <a:cubicBezTo>
                  <a:pt x="24319" y="10766"/>
                  <a:pt x="24325" y="10766"/>
                  <a:pt x="24330" y="10764"/>
                </a:cubicBezTo>
                <a:cubicBezTo>
                  <a:pt x="24335" y="10762"/>
                  <a:pt x="24337" y="10760"/>
                  <a:pt x="24341" y="10758"/>
                </a:cubicBezTo>
                <a:cubicBezTo>
                  <a:pt x="24345" y="10755"/>
                  <a:pt x="24349" y="10753"/>
                  <a:pt x="24353" y="10750"/>
                </a:cubicBezTo>
                <a:cubicBezTo>
                  <a:pt x="24356" y="10748"/>
                  <a:pt x="24360" y="10746"/>
                  <a:pt x="24362" y="10743"/>
                </a:cubicBezTo>
                <a:cubicBezTo>
                  <a:pt x="24361" y="10743"/>
                  <a:pt x="24360" y="10742"/>
                  <a:pt x="24359" y="10742"/>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Ink 21"/>
          <p:cNvSpPr/>
          <p:nvPr/>
        </p:nvSpPr>
        <p:spPr>
          <a:xfrm>
            <a:off x="7885080" y="4478400"/>
            <a:ext cx="147600" cy="144360"/>
          </a:xfrm>
          <a:custGeom>
            <a:avLst/>
            <a:gdLst/>
            <a:ahLst/>
            <a:rect l="l" t="t" r="r" b="b"/>
            <a:pathLst>
              <a:path w="407" h="400">
                <a:moveTo>
                  <a:pt x="21993" y="12619"/>
                </a:moveTo>
                <a:cubicBezTo>
                  <a:pt x="21997" y="12619"/>
                  <a:pt x="21996" y="12620"/>
                  <a:pt x="22000" y="12619"/>
                </a:cubicBezTo>
                <a:cubicBezTo>
                  <a:pt x="22008" y="12618"/>
                  <a:pt x="22016" y="12616"/>
                  <a:pt x="22024" y="12615"/>
                </a:cubicBezTo>
                <a:cubicBezTo>
                  <a:pt x="22032" y="12614"/>
                  <a:pt x="22039" y="12614"/>
                  <a:pt x="22047" y="12613"/>
                </a:cubicBezTo>
                <a:cubicBezTo>
                  <a:pt x="22054" y="12612"/>
                  <a:pt x="22061" y="12611"/>
                  <a:pt x="22068" y="12609"/>
                </a:cubicBezTo>
                <a:cubicBezTo>
                  <a:pt x="22072" y="12608"/>
                  <a:pt x="22074" y="12606"/>
                  <a:pt x="22078" y="12605"/>
                </a:cubicBezTo>
                <a:cubicBezTo>
                  <a:pt x="22084" y="12603"/>
                  <a:pt x="22091" y="12602"/>
                  <a:pt x="22097" y="12599"/>
                </a:cubicBezTo>
                <a:cubicBezTo>
                  <a:pt x="22104" y="12595"/>
                  <a:pt x="22111" y="12591"/>
                  <a:pt x="22118" y="12587"/>
                </a:cubicBezTo>
                <a:cubicBezTo>
                  <a:pt x="22125" y="12583"/>
                  <a:pt x="22133" y="12579"/>
                  <a:pt x="22140" y="12576"/>
                </a:cubicBezTo>
                <a:cubicBezTo>
                  <a:pt x="22150" y="12571"/>
                  <a:pt x="22159" y="12567"/>
                  <a:pt x="22167" y="12559"/>
                </a:cubicBezTo>
                <a:cubicBezTo>
                  <a:pt x="22171" y="12555"/>
                  <a:pt x="22175" y="12549"/>
                  <a:pt x="22177" y="12544"/>
                </a:cubicBezTo>
                <a:cubicBezTo>
                  <a:pt x="22178" y="12541"/>
                  <a:pt x="22180" y="12538"/>
                  <a:pt x="22180" y="12535"/>
                </a:cubicBezTo>
                <a:cubicBezTo>
                  <a:pt x="22181" y="12528"/>
                  <a:pt x="22178" y="12523"/>
                  <a:pt x="22177" y="12517"/>
                </a:cubicBezTo>
                <a:cubicBezTo>
                  <a:pt x="22176" y="12512"/>
                  <a:pt x="22175" y="12508"/>
                  <a:pt x="22173" y="12503"/>
                </a:cubicBezTo>
                <a:cubicBezTo>
                  <a:pt x="22172" y="12501"/>
                  <a:pt x="22170" y="12494"/>
                  <a:pt x="22169" y="12492"/>
                </a:cubicBezTo>
                <a:cubicBezTo>
                  <a:pt x="22166" y="12487"/>
                  <a:pt x="22163" y="12484"/>
                  <a:pt x="22159" y="12480"/>
                </a:cubicBezTo>
                <a:cubicBezTo>
                  <a:pt x="22154" y="12475"/>
                  <a:pt x="22149" y="12471"/>
                  <a:pt x="22144" y="12466"/>
                </a:cubicBezTo>
                <a:cubicBezTo>
                  <a:pt x="22134" y="12455"/>
                  <a:pt x="22129" y="12449"/>
                  <a:pt x="22115" y="12445"/>
                </a:cubicBezTo>
                <a:cubicBezTo>
                  <a:pt x="22098" y="12440"/>
                  <a:pt x="22068" y="12438"/>
                  <a:pt x="22051" y="12444"/>
                </a:cubicBezTo>
                <a:cubicBezTo>
                  <a:pt x="22042" y="12447"/>
                  <a:pt x="22030" y="12453"/>
                  <a:pt x="22022" y="12458"/>
                </a:cubicBezTo>
                <a:cubicBezTo>
                  <a:pt x="22015" y="12462"/>
                  <a:pt x="22009" y="12468"/>
                  <a:pt x="22002" y="12472"/>
                </a:cubicBezTo>
                <a:cubicBezTo>
                  <a:pt x="21995" y="12476"/>
                  <a:pt x="21990" y="12480"/>
                  <a:pt x="21985" y="12485"/>
                </a:cubicBezTo>
                <a:cubicBezTo>
                  <a:pt x="21980" y="12490"/>
                  <a:pt x="21978" y="12496"/>
                  <a:pt x="21973" y="12501"/>
                </a:cubicBezTo>
                <a:cubicBezTo>
                  <a:pt x="21966" y="12509"/>
                  <a:pt x="21960" y="12514"/>
                  <a:pt x="21956" y="12524"/>
                </a:cubicBezTo>
                <a:cubicBezTo>
                  <a:pt x="21953" y="12531"/>
                  <a:pt x="21952" y="12538"/>
                  <a:pt x="21950" y="12545"/>
                </a:cubicBezTo>
                <a:cubicBezTo>
                  <a:pt x="21947" y="12554"/>
                  <a:pt x="21943" y="12562"/>
                  <a:pt x="21940" y="12571"/>
                </a:cubicBezTo>
                <a:cubicBezTo>
                  <a:pt x="21934" y="12587"/>
                  <a:pt x="21929" y="12603"/>
                  <a:pt x="21923" y="12619"/>
                </a:cubicBezTo>
                <a:cubicBezTo>
                  <a:pt x="21916" y="12638"/>
                  <a:pt x="21911" y="12657"/>
                  <a:pt x="21907" y="12676"/>
                </a:cubicBezTo>
                <a:cubicBezTo>
                  <a:pt x="21906" y="12684"/>
                  <a:pt x="21903" y="12690"/>
                  <a:pt x="21904" y="12699"/>
                </a:cubicBezTo>
                <a:cubicBezTo>
                  <a:pt x="21905" y="12709"/>
                  <a:pt x="21910" y="12720"/>
                  <a:pt x="21911" y="12730"/>
                </a:cubicBezTo>
                <a:cubicBezTo>
                  <a:pt x="21912" y="12738"/>
                  <a:pt x="21911" y="12745"/>
                  <a:pt x="21913" y="12752"/>
                </a:cubicBezTo>
                <a:cubicBezTo>
                  <a:pt x="21915" y="12759"/>
                  <a:pt x="21916" y="12764"/>
                  <a:pt x="21921" y="12770"/>
                </a:cubicBezTo>
                <a:cubicBezTo>
                  <a:pt x="21925" y="12775"/>
                  <a:pt x="21932" y="12779"/>
                  <a:pt x="21936" y="12784"/>
                </a:cubicBezTo>
                <a:cubicBezTo>
                  <a:pt x="21940" y="12789"/>
                  <a:pt x="21943" y="12793"/>
                  <a:pt x="21948" y="12798"/>
                </a:cubicBezTo>
                <a:cubicBezTo>
                  <a:pt x="21955" y="12804"/>
                  <a:pt x="21961" y="12808"/>
                  <a:pt x="21969" y="12812"/>
                </a:cubicBezTo>
                <a:cubicBezTo>
                  <a:pt x="21977" y="12816"/>
                  <a:pt x="21985" y="12820"/>
                  <a:pt x="21993" y="12823"/>
                </a:cubicBezTo>
                <a:cubicBezTo>
                  <a:pt x="22001" y="12826"/>
                  <a:pt x="22013" y="12831"/>
                  <a:pt x="22022" y="12833"/>
                </a:cubicBezTo>
                <a:cubicBezTo>
                  <a:pt x="22042" y="12837"/>
                  <a:pt x="22066" y="12841"/>
                  <a:pt x="22086" y="12840"/>
                </a:cubicBezTo>
                <a:cubicBezTo>
                  <a:pt x="22097" y="12839"/>
                  <a:pt x="22107" y="12838"/>
                  <a:pt x="22118" y="12836"/>
                </a:cubicBezTo>
                <a:cubicBezTo>
                  <a:pt x="22127" y="12835"/>
                  <a:pt x="22137" y="12832"/>
                  <a:pt x="22146" y="12831"/>
                </a:cubicBezTo>
                <a:cubicBezTo>
                  <a:pt x="22156" y="12830"/>
                  <a:pt x="22165" y="12828"/>
                  <a:pt x="22175" y="12826"/>
                </a:cubicBezTo>
                <a:cubicBezTo>
                  <a:pt x="22182" y="12825"/>
                  <a:pt x="22189" y="12823"/>
                  <a:pt x="22196" y="12822"/>
                </a:cubicBezTo>
                <a:cubicBezTo>
                  <a:pt x="22200" y="12821"/>
                  <a:pt x="22205" y="12821"/>
                  <a:pt x="22209" y="12820"/>
                </a:cubicBezTo>
                <a:cubicBezTo>
                  <a:pt x="22213" y="12819"/>
                  <a:pt x="22218" y="12817"/>
                  <a:pt x="22221" y="12817"/>
                </a:cubicBezTo>
                <a:cubicBezTo>
                  <a:pt x="22225" y="12817"/>
                  <a:pt x="22226" y="12817"/>
                  <a:pt x="22229" y="12817"/>
                </a:cubicBezTo>
                <a:cubicBezTo>
                  <a:pt x="22232" y="12817"/>
                  <a:pt x="22234" y="12819"/>
                  <a:pt x="22237" y="12819"/>
                </a:cubicBezTo>
                <a:cubicBezTo>
                  <a:pt x="22240" y="12819"/>
                  <a:pt x="22243" y="12816"/>
                  <a:pt x="22246" y="12816"/>
                </a:cubicBezTo>
                <a:cubicBezTo>
                  <a:pt x="22248" y="12816"/>
                  <a:pt x="22254" y="12816"/>
                  <a:pt x="22254" y="12816"/>
                </a:cubicBezTo>
                <a:cubicBezTo>
                  <a:pt x="22260" y="12815"/>
                  <a:pt x="22254" y="12816"/>
                  <a:pt x="22258" y="12816"/>
                </a:cubicBezTo>
                <a:cubicBezTo>
                  <a:pt x="22267" y="12815"/>
                  <a:pt x="22275" y="12812"/>
                  <a:pt x="22283" y="12810"/>
                </a:cubicBezTo>
                <a:cubicBezTo>
                  <a:pt x="22286" y="12809"/>
                  <a:pt x="22290" y="12810"/>
                  <a:pt x="22293" y="12809"/>
                </a:cubicBezTo>
                <a:cubicBezTo>
                  <a:pt x="22296" y="12808"/>
                  <a:pt x="22299" y="12806"/>
                  <a:pt x="22302" y="12806"/>
                </a:cubicBezTo>
                <a:cubicBezTo>
                  <a:pt x="22305" y="12806"/>
                  <a:pt x="22304" y="12807"/>
                  <a:pt x="22308" y="12806"/>
                </a:cubicBezTo>
                <a:cubicBezTo>
                  <a:pt x="22310" y="12806"/>
                  <a:pt x="22308" y="12806"/>
                  <a:pt x="22310" y="12806"/>
                </a:cubicBezTo>
                <a:cubicBezTo>
                  <a:pt x="22310" y="12806"/>
                  <a:pt x="22310" y="12805"/>
                  <a:pt x="22310" y="12805"/>
                </a:cubicBezTo>
                <a:cubicBezTo>
                  <a:pt x="22308" y="12806"/>
                  <a:pt x="22311" y="12808"/>
                  <a:pt x="22308" y="12808"/>
                </a:cubicBezTo>
                <a:cubicBezTo>
                  <a:pt x="22306" y="12808"/>
                  <a:pt x="22308" y="12806"/>
                  <a:pt x="22306" y="12807"/>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Ink 22"/>
          <p:cNvSpPr/>
          <p:nvPr/>
        </p:nvSpPr>
        <p:spPr>
          <a:xfrm>
            <a:off x="8470800" y="4687920"/>
            <a:ext cx="157320" cy="280800"/>
          </a:xfrm>
          <a:custGeom>
            <a:avLst/>
            <a:gdLst/>
            <a:ahLst/>
            <a:rect l="l" t="t" r="r" b="b"/>
            <a:pathLst>
              <a:path w="435" h="781">
                <a:moveTo>
                  <a:pt x="23782" y="13153"/>
                </a:moveTo>
                <a:cubicBezTo>
                  <a:pt x="23780" y="13149"/>
                  <a:pt x="23780" y="13145"/>
                  <a:pt x="23778" y="13141"/>
                </a:cubicBezTo>
                <a:cubicBezTo>
                  <a:pt x="23777" y="13138"/>
                  <a:pt x="23774" y="13134"/>
                  <a:pt x="23772" y="13130"/>
                </a:cubicBezTo>
                <a:cubicBezTo>
                  <a:pt x="23770" y="13126"/>
                  <a:pt x="23770" y="13122"/>
                  <a:pt x="23768" y="13117"/>
                </a:cubicBezTo>
                <a:cubicBezTo>
                  <a:pt x="23766" y="13112"/>
                  <a:pt x="23765" y="13110"/>
                  <a:pt x="23764" y="13105"/>
                </a:cubicBezTo>
                <a:cubicBezTo>
                  <a:pt x="23762" y="13100"/>
                  <a:pt x="23762" y="13095"/>
                  <a:pt x="23760" y="13090"/>
                </a:cubicBezTo>
                <a:cubicBezTo>
                  <a:pt x="23758" y="13085"/>
                  <a:pt x="23756" y="13080"/>
                  <a:pt x="23753" y="13074"/>
                </a:cubicBezTo>
                <a:cubicBezTo>
                  <a:pt x="23751" y="13069"/>
                  <a:pt x="23750" y="13067"/>
                  <a:pt x="23747" y="13062"/>
                </a:cubicBezTo>
                <a:cubicBezTo>
                  <a:pt x="23743" y="13055"/>
                  <a:pt x="23739" y="13048"/>
                  <a:pt x="23733" y="13043"/>
                </a:cubicBezTo>
                <a:cubicBezTo>
                  <a:pt x="23728" y="13039"/>
                  <a:pt x="23726" y="13038"/>
                  <a:pt x="23720" y="13035"/>
                </a:cubicBezTo>
                <a:cubicBezTo>
                  <a:pt x="23714" y="13032"/>
                  <a:pt x="23699" y="13024"/>
                  <a:pt x="23693" y="13024"/>
                </a:cubicBezTo>
                <a:cubicBezTo>
                  <a:pt x="23687" y="13024"/>
                  <a:pt x="23683" y="13027"/>
                  <a:pt x="23677" y="13028"/>
                </a:cubicBezTo>
                <a:cubicBezTo>
                  <a:pt x="23668" y="13030"/>
                  <a:pt x="23662" y="13031"/>
                  <a:pt x="23656" y="13036"/>
                </a:cubicBezTo>
                <a:cubicBezTo>
                  <a:pt x="23653" y="13038"/>
                  <a:pt x="23651" y="13041"/>
                  <a:pt x="23648" y="13044"/>
                </a:cubicBezTo>
                <a:cubicBezTo>
                  <a:pt x="23644" y="13049"/>
                  <a:pt x="23641" y="13057"/>
                  <a:pt x="23638" y="13063"/>
                </a:cubicBezTo>
                <a:cubicBezTo>
                  <a:pt x="23634" y="13071"/>
                  <a:pt x="23633" y="13078"/>
                  <a:pt x="23631" y="13087"/>
                </a:cubicBezTo>
                <a:cubicBezTo>
                  <a:pt x="23629" y="13097"/>
                  <a:pt x="23628" y="13106"/>
                  <a:pt x="23627" y="13116"/>
                </a:cubicBezTo>
                <a:cubicBezTo>
                  <a:pt x="23625" y="13129"/>
                  <a:pt x="23627" y="13140"/>
                  <a:pt x="23627" y="13153"/>
                </a:cubicBezTo>
                <a:cubicBezTo>
                  <a:pt x="23628" y="13175"/>
                  <a:pt x="23626" y="13198"/>
                  <a:pt x="23629" y="13220"/>
                </a:cubicBezTo>
                <a:cubicBezTo>
                  <a:pt x="23631" y="13237"/>
                  <a:pt x="23634" y="13253"/>
                  <a:pt x="23636" y="13269"/>
                </a:cubicBezTo>
                <a:cubicBezTo>
                  <a:pt x="23638" y="13285"/>
                  <a:pt x="23640" y="13301"/>
                  <a:pt x="23642" y="13317"/>
                </a:cubicBezTo>
                <a:cubicBezTo>
                  <a:pt x="23645" y="13335"/>
                  <a:pt x="23644" y="13351"/>
                  <a:pt x="23646" y="13369"/>
                </a:cubicBezTo>
                <a:cubicBezTo>
                  <a:pt x="23649" y="13399"/>
                  <a:pt x="23653" y="13429"/>
                  <a:pt x="23656" y="13459"/>
                </a:cubicBezTo>
                <a:cubicBezTo>
                  <a:pt x="23660" y="13495"/>
                  <a:pt x="23666" y="13531"/>
                  <a:pt x="23673" y="13566"/>
                </a:cubicBezTo>
                <a:cubicBezTo>
                  <a:pt x="23677" y="13584"/>
                  <a:pt x="23677" y="13602"/>
                  <a:pt x="23681" y="13620"/>
                </a:cubicBezTo>
                <a:cubicBezTo>
                  <a:pt x="23684" y="13636"/>
                  <a:pt x="23687" y="13654"/>
                  <a:pt x="23691" y="13670"/>
                </a:cubicBezTo>
                <a:cubicBezTo>
                  <a:pt x="23695" y="13684"/>
                  <a:pt x="23697" y="13698"/>
                  <a:pt x="23700" y="13712"/>
                </a:cubicBezTo>
                <a:cubicBezTo>
                  <a:pt x="23703" y="13727"/>
                  <a:pt x="23703" y="13742"/>
                  <a:pt x="23706" y="13757"/>
                </a:cubicBezTo>
                <a:cubicBezTo>
                  <a:pt x="23707" y="13764"/>
                  <a:pt x="23709" y="13772"/>
                  <a:pt x="23710" y="13779"/>
                </a:cubicBezTo>
                <a:cubicBezTo>
                  <a:pt x="23711" y="13784"/>
                  <a:pt x="23711" y="13788"/>
                  <a:pt x="23712" y="13793"/>
                </a:cubicBezTo>
                <a:cubicBezTo>
                  <a:pt x="23713" y="13797"/>
                  <a:pt x="23711" y="13798"/>
                  <a:pt x="23712" y="13802"/>
                </a:cubicBezTo>
                <a:cubicBezTo>
                  <a:pt x="23713" y="13804"/>
                  <a:pt x="23714" y="13798"/>
                  <a:pt x="23714" y="13800"/>
                </a:cubicBezTo>
              </a:path>
              <a:path w="435" h="781">
                <a:moveTo>
                  <a:pt x="23536" y="13419"/>
                </a:moveTo>
                <a:cubicBezTo>
                  <a:pt x="23534" y="13417"/>
                  <a:pt x="23532" y="13415"/>
                  <a:pt x="23530" y="13414"/>
                </a:cubicBezTo>
                <a:cubicBezTo>
                  <a:pt x="23530" y="13414"/>
                  <a:pt x="23530" y="13415"/>
                  <a:pt x="23530" y="13415"/>
                </a:cubicBezTo>
                <a:cubicBezTo>
                  <a:pt x="23540" y="13415"/>
                  <a:pt x="23551" y="13414"/>
                  <a:pt x="23561" y="13414"/>
                </a:cubicBezTo>
                <a:cubicBezTo>
                  <a:pt x="23579" y="13414"/>
                  <a:pt x="23597" y="13412"/>
                  <a:pt x="23615" y="13412"/>
                </a:cubicBezTo>
                <a:cubicBezTo>
                  <a:pt x="23639" y="13411"/>
                  <a:pt x="23663" y="13409"/>
                  <a:pt x="23687" y="13408"/>
                </a:cubicBezTo>
                <a:cubicBezTo>
                  <a:pt x="23719" y="13406"/>
                  <a:pt x="23752" y="13403"/>
                  <a:pt x="23784" y="13402"/>
                </a:cubicBezTo>
                <a:cubicBezTo>
                  <a:pt x="23822" y="13401"/>
                  <a:pt x="23860" y="13399"/>
                  <a:pt x="23898" y="13395"/>
                </a:cubicBezTo>
                <a:cubicBezTo>
                  <a:pt x="23911" y="13394"/>
                  <a:pt x="23923" y="13393"/>
                  <a:pt x="23935" y="13391"/>
                </a:cubicBezTo>
                <a:cubicBezTo>
                  <a:pt x="23941" y="13390"/>
                  <a:pt x="23947" y="13389"/>
                  <a:pt x="23952" y="13388"/>
                </a:cubicBezTo>
                <a:cubicBezTo>
                  <a:pt x="23956" y="13387"/>
                  <a:pt x="23956" y="13387"/>
                  <a:pt x="23960" y="13386"/>
                </a:cubicBezTo>
                <a:cubicBezTo>
                  <a:pt x="23960" y="13386"/>
                  <a:pt x="23962" y="13386"/>
                  <a:pt x="23964" y="13385"/>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etry of Matthew Arnold</a:t>
            </a:r>
            <a:endParaRPr b="0" lang="en-US" sz="4400" spc="-1" strike="noStrike">
              <a:solidFill>
                <a:srgbClr val="000000"/>
              </a:solidFill>
              <a:latin typeface="Calibri"/>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fred  Lord Tennys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bert Brow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tthew Arn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iographical Information</a:t>
            </a:r>
            <a:br>
              <a:rPr sz="3600"/>
            </a:br>
            <a:endParaRPr b="0" lang="en-US" sz="3600" spc="-1" strike="noStrike">
              <a:solidFill>
                <a:srgbClr val="000000"/>
              </a:solidFill>
              <a:latin typeface="Calibri"/>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es (1822-1888)</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embered as both a literary critic and poe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ied at the Rugby School (his father was headmaster), and later Balliol College, Oxford University (degree in 184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turned to Rugby as a teacher of classic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ried in 1851; worked as a government school inspector (grueling job, but offered travel throughout England and the Continen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graphy (continued)</a:t>
            </a: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inspector’s job (for 35 years) developed an interest in education, which influenced his critical works and his poetr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volumes of poetry (</a:t>
            </a:r>
            <a:r>
              <a:rPr b="0" i="1" lang="en-US" sz="2400" spc="-1" strike="noStrike">
                <a:solidFill>
                  <a:srgbClr val="000000"/>
                </a:solidFill>
                <a:latin typeface="Calibri"/>
              </a:rPr>
              <a:t>Empedocles on Etna</a:t>
            </a:r>
            <a:r>
              <a:rPr b="0" lang="en-US" sz="2400" spc="-1" strike="noStrike">
                <a:solidFill>
                  <a:srgbClr val="000000"/>
                </a:solidFill>
                <a:latin typeface="Calibri"/>
              </a:rPr>
              <a:t>, 1852, and </a:t>
            </a:r>
            <a:r>
              <a:rPr b="0" i="1" lang="en-US" sz="2400" spc="-1" strike="noStrike">
                <a:solidFill>
                  <a:srgbClr val="000000"/>
                </a:solidFill>
                <a:latin typeface="Calibri"/>
              </a:rPr>
              <a:t>Poems</a:t>
            </a:r>
            <a:r>
              <a:rPr b="0" lang="en-US" sz="2400" spc="-1" strike="noStrike">
                <a:solidFill>
                  <a:srgbClr val="000000"/>
                </a:solidFill>
                <a:latin typeface="Calibri"/>
              </a:rPr>
              <a:t>, 1853) established his reputation as a poet.  In 1857 he was offered the position of Professor of Poetry at Oxford.  Arnold was the first professor to lecture in English at Oxford, rather than in Lat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this time Arnold wrote the bulk of his most famous critical works, which reflect the main values of the Victorian er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ature and Themes of his poetry</a:t>
            </a:r>
            <a:endParaRPr b="0" lang="en-US" sz="4000" spc="-1" strike="noStrike">
              <a:solidFill>
                <a:srgbClr val="000000"/>
              </a:solidFill>
              <a:latin typeface="Calibri"/>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tative and rhetorical (not expecting a respo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ten wrestles with problems of psychological isolation:  reverses Donne’s idea that “No man is an island,” suggesting instead that we mortals are all isolated to some extent. Ex:  “To Marguerite—Continu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ure and Themes (continued)</a:t>
            </a: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of isolation linked with the dwindling faith (questioning) of the Victorian era, such as “Dover Bea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nold struggled with his own religious doubts but wanted to establish the “essential truth” of Christian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nold’s Essays</a:t>
            </a: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influential were those concerning literary topics.  In “The Function of Criticism” and “The Study of Poetry” he called for a “new epic poetry,” a poetry that would address the moral needs of his readers, to “animate and ennoble them.”  He favored a renewed religious faith and a return to classical theories of poet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t the tone and approach of modern criticism as an art form; always respectful, gentlemanly, and subt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ter Life</a:t>
            </a: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de two lecture tours of the United States in 1883 and 188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ed in Liverpool in 188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971800" y="609480"/>
            <a:ext cx="3200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Footlight MT Light"/>
              </a:rPr>
              <a:t>Sources</a:t>
            </a:r>
            <a:endParaRPr b="0" lang="en-US" sz="4800" spc="-1" strike="noStrike">
              <a:solidFill>
                <a:srgbClr val="000000"/>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ootlight MT Light"/>
              </a:rPr>
              <a:t>http://eir.library.utoronto.ca/rpo/display/index.cfm</a:t>
            </a:r>
            <a:endParaRPr b="0" lang="en-US" sz="2700" spc="-1" strike="noStrike">
              <a:solidFill>
                <a:srgbClr val="000000"/>
              </a:solidFill>
              <a:latin typeface="Calibri"/>
            </a:endParaRPr>
          </a:p>
          <a:p>
            <a:pPr marL="343080" indent="0" algn="ctr">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0" algn="ctr">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ootlight MT Light"/>
              </a:rPr>
              <a:t>http://www.poets.org</a:t>
            </a:r>
            <a:endParaRPr b="0" lang="en-US" sz="2700" spc="-1" strike="noStrike">
              <a:solidFill>
                <a:srgbClr val="000000"/>
              </a:solidFill>
              <a:latin typeface="Calibri"/>
            </a:endParaRPr>
          </a:p>
          <a:p>
            <a:pPr marL="343080" indent="0" algn="ctr">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0" algn="ctr">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ootlight MT Light"/>
              </a:rPr>
              <a:t>http://www.emule.com</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fred Lord Tennyson</a:t>
            </a:r>
            <a:endParaRPr b="0" lang="en-US" sz="4400" spc="-1" strike="noStrike">
              <a:solidFill>
                <a:srgbClr val="000000"/>
              </a:solidFill>
              <a:latin typeface="Calibri"/>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1909-1892</a:t>
            </a:r>
            <a:endParaRPr b="0" lang="en-US" sz="3200" spc="-1" strike="noStrike">
              <a:solidFill>
                <a:srgbClr val="000000"/>
              </a:solidFill>
              <a:latin typeface="Calibri"/>
            </a:endParaRPr>
          </a:p>
        </p:txBody>
      </p:sp>
      <p:pic>
        <p:nvPicPr>
          <p:cNvPr id="47" name="Picture 4" descr="untitled"/>
          <p:cNvPicPr/>
          <p:nvPr/>
        </p:nvPicPr>
        <p:blipFill>
          <a:blip r:embed="rId1"/>
          <a:stretch/>
        </p:blipFill>
        <p:spPr>
          <a:xfrm>
            <a:off x="3581280" y="4038480"/>
            <a:ext cx="1905120" cy="240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ground</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n August 6, 1809. at Somersb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ral men in his family had mental and physical problems: epilepsy, insanity, excessive drin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nnyson’s father was abusive and viol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mbridge</a:t>
            </a: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nnyson attended Trinity College, Cambridg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vited to join The Apostles, an  undergraduate club.</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group included his lifelong friend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important friendship was with Arthur Hallam.  He and Tennyson knew each other for only four years, but their intense friendship had a major influence on the poe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llam’s death in 1833 when he was only 22 lead to his best poetry, including In Memoriam.</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2" name="Picture 4" descr="untitled"/>
          <p:cNvPicPr/>
          <p:nvPr/>
        </p:nvPicPr>
        <p:blipFill>
          <a:blip r:embed="rId1"/>
          <a:stretch/>
        </p:blipFill>
        <p:spPr>
          <a:xfrm>
            <a:off x="5715000" y="2386080"/>
            <a:ext cx="1905120" cy="295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30 and 1832 Poems</a:t>
            </a: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1830, Tennyson published Poems, Chiefly Lyrica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ems (1832 and 1833) were attacked by critics as obscure and affect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iticism kept Tennyson from publishing again for another nine years.</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5" name="Picture 4" descr="untitled"/>
          <p:cNvPicPr/>
          <p:nvPr/>
        </p:nvPicPr>
        <p:blipFill>
          <a:blip r:embed="rId1"/>
          <a:stretch/>
        </p:blipFill>
        <p:spPr>
          <a:xfrm>
            <a:off x="4737240" y="1600200"/>
            <a:ext cx="386064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42 Poems</a:t>
            </a: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ed Tennyson’s career as a writ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volume includes “The Lady of Shalott,” “The Lotus Eaters,” and “Ulyss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8" name="Picture 4" descr="untitled"/>
          <p:cNvPicPr/>
          <p:nvPr/>
        </p:nvPicPr>
        <p:blipFill>
          <a:blip r:embed="rId1"/>
          <a:stretch/>
        </p:blipFill>
        <p:spPr>
          <a:xfrm>
            <a:off x="5208480" y="1600200"/>
            <a:ext cx="2917800" cy="2185920"/>
          </a:xfrm>
          <a:prstGeom prst="rect">
            <a:avLst/>
          </a:prstGeom>
          <a:ln w="0">
            <a:noFill/>
          </a:ln>
        </p:spPr>
      </p:pic>
      <p:pic>
        <p:nvPicPr>
          <p:cNvPr id="59" name="Picture 6" descr="2"/>
          <p:cNvPicPr/>
          <p:nvPr/>
        </p:nvPicPr>
        <p:blipFill>
          <a:blip r:embed="rId2"/>
          <a:stretch/>
        </p:blipFill>
        <p:spPr>
          <a:xfrm>
            <a:off x="5581800" y="4079880"/>
            <a:ext cx="2171520" cy="1905120"/>
          </a:xfrm>
          <a:prstGeom prst="rect">
            <a:avLst/>
          </a:prstGeom>
          <a:ln w="0">
            <a:noFill/>
          </a:ln>
        </p:spPr>
      </p:pic>
      <p:pic>
        <p:nvPicPr>
          <p:cNvPr id="60" name="Picture 8" descr="3"/>
          <p:cNvPicPr/>
          <p:nvPr/>
        </p:nvPicPr>
        <p:blipFill>
          <a:blip r:embed="rId3"/>
          <a:stretch/>
        </p:blipFill>
        <p:spPr>
          <a:xfrm>
            <a:off x="4648320" y="7772400"/>
            <a:ext cx="4905360" cy="3247920"/>
          </a:xfrm>
          <a:prstGeom prst="rect">
            <a:avLst/>
          </a:prstGeom>
          <a:ln w="0">
            <a:noFill/>
          </a:ln>
        </p:spPr>
      </p:pic>
      <p:pic>
        <p:nvPicPr>
          <p:cNvPr id="61" name="Picture 9" descr="untitled"/>
          <p:cNvPicPr/>
          <p:nvPr/>
        </p:nvPicPr>
        <p:blipFill>
          <a:blip r:embed="rId4"/>
          <a:stretch/>
        </p:blipFill>
        <p:spPr>
          <a:xfrm>
            <a:off x="304920" y="7772400"/>
            <a:ext cx="3871800" cy="2284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Memoriam</a:t>
            </a: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nyson’s greatest po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shed in 1850</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resents his struggle with Hallam’s death and with the new developments in astronomy, biology, and geology that were diminishing man’s stature in the univers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publication of this poem, Tennyson was named Poet Laureate.</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4" name="Picture 4" descr="untitled"/>
          <p:cNvPicPr/>
          <p:nvPr/>
        </p:nvPicPr>
        <p:blipFill>
          <a:blip r:embed="rId1"/>
          <a:stretch/>
        </p:blipFill>
        <p:spPr>
          <a:xfrm>
            <a:off x="5634000" y="2490840"/>
            <a:ext cx="206712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nnyson’s Later Poetry</a:t>
            </a: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nyson’s later poetry follows a narrative sty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ral poems dealt with national affai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is time, Tennyson was established as the most popular poet of the Victorian period.  The money from his poetry allowed him to purchase a house in the country and write in seclu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 appearance enhanced his notoriety.</a:t>
            </a:r>
            <a:endParaRPr b="0" lang="en-US" sz="2400" spc="-1" strike="noStrike">
              <a:solidFill>
                <a:srgbClr val="000000"/>
              </a:solidFill>
              <a:latin typeface="Calibri"/>
            </a:endParaRPr>
          </a:p>
        </p:txBody>
      </p:sp>
      <p:pic>
        <p:nvPicPr>
          <p:cNvPr id="67" name="Picture 4" descr="untitled"/>
          <p:cNvPicPr/>
          <p:nvPr/>
        </p:nvPicPr>
        <p:blipFill>
          <a:blip r:embed="rId1"/>
          <a:stretch/>
        </p:blipFill>
        <p:spPr>
          <a:xfrm>
            <a:off x="5477040" y="2230560"/>
            <a:ext cx="2381040" cy="326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3T17:58:39Z</dcterms:created>
  <dc:creator>Sue Johnston</dc:creator>
  <dc:description/>
  <dc:language>en-US</dc:language>
  <cp:lastModifiedBy>ALM</cp:lastModifiedBy>
  <dcterms:modified xsi:type="dcterms:W3CDTF">2020-03-26T09:26:24Z</dcterms:modified>
  <cp:revision>15</cp:revision>
  <dc:subject/>
  <dc:title>Alfred Lord Tennyson</dc:title>
</cp:coreProperties>
</file>